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DD3A-ECB1-43C5-BC04-11F8CD02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AD0-6846-4D7A-BC4D-C0BF3719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2AD-3145-4FEE-83FB-8314F74F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5F8-5A2D-42EA-982E-121812FC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4177B-36E2-4300-9970-BF3635C4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DDEFE-9236-4C43-98BB-7F582C8E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E57C1-B2C9-4DD2-9C11-BB1B848E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C9F7F-9A19-496D-8A84-E433D198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32AAF-3CA5-45D8-91BC-73275E3C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EC4CE-D14B-438B-B10E-984FDD56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EF03B-D141-4DB3-A98A-12C73EF1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0A99-6DC5-49C2-88B6-1C6F8F57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E28BB-AB78-4364-9915-0A80C57E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8ADDD-E80C-4B5B-984C-EACB82F7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A1E20-8F40-4260-8699-8F82BC94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F09FA-FBF9-488D-AEC0-2BACD46F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00CB8-3285-4487-BD46-2184B4F7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99C-740B-4DC7-8AB8-1E68E911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9C00-784B-468D-9387-6A975083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AB2D-E454-480E-89AB-1CD97C8C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2B2-34EA-4120-A8EF-B5EFFB1F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8D6-A788-4A8F-8FCF-3632933A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298-1150-4CCF-A65E-5D28D479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3EC-F1DD-4915-8DEB-84D41FC1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1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CD51-E2DB-4D58-858B-A93693B802E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8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10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C39D-7C67-4F89-A0B7-0AB05680C7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http://www.eeppt.com/moban/qiye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2397240" y="2109960"/>
          <a:ext cx="2266920" cy="22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240" y="2109960"/>
                    <a:ext cx="2266920" cy="22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欢迎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名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总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讨论所讲述的主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重申欢迎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提醒需要上交文书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议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要讲述的主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的历史和远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重要人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政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福利评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绩回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资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需的文书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84360" y="6454800"/>
            <a:ext cx="705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ffcc"/>
                </a:solidFill>
                <a:uFillTx/>
                <a:latin typeface="Times New Roman"/>
                <a:hlinkClick r:id="rId3"/>
              </a:rPr>
              <a:t>企业ppt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qiy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公司历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的创建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的远景和合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陈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的产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主题可能需要多张幻灯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重要任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出公司的重要管理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处可以应用组织结构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公司政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调最重要的政策并进行评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论公司的上班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公司对员工的期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发公司手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主题可能需要多张幻灯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福利评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牙医选择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休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病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节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身保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退休福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培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机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福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福利有效范围的详细说明可能需要专门开会进行介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成绩回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回顾的目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回顾的频率和时间安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概述回顾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发并评述各种表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其他资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手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政策文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各个区域的联系人姓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必需的书面工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述需要立即填写的表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新员工提供完成书面工作的时间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07:05:54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41:12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LCID">
    <vt:r8>2052</vt:r8>
  </property>
</Properties>
</file>