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B18-0FBE-463E-98C3-5A5E13E7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D5C-D74E-458B-9F55-16787B5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325-DDB9-4481-B204-473E6932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5C1-FAF0-4058-8398-6181DBD3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BE4-51A0-4B58-A536-5DA8A66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F3CB-B70C-4DFA-9C78-0914C36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286E-26AB-4167-B217-3970B68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21DE-4B05-4C1A-BC61-878C748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034-5996-4B4F-97DA-790AF9E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868F-B4C8-4727-A781-0B6D30D0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12B8-DD25-4F5E-B24A-B589B17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E3C-CE6F-4E70-8CD8-48D691D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B6C0-066F-4B75-A23F-860C2BD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5F4-D55F-4602-AA6C-2AF18D0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7BB-15C5-4EF0-8918-190C8E8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508-BDD1-41E5-8DF8-07E12698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48B-1B9C-416F-AC85-B4BD9FB0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0BE-9BEB-4806-B87C-323205E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274-41E9-4913-9BCA-E91FF3B8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FE7-5389-4D42-94FF-6842B55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5E3-B842-4E43-ADE3-CCE8B54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CA9-9944-4AC9-988C-BF586FF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E56-58E7-42C8-AACA-1DC2EE8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236-4D96-4B20-8207-7E3153E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EA8E-A749-4322-A6E7-491CD97CC2B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95C-3C15-421B-A9C4-6747322992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6AA-0C31-42C8-94AD-B52B7EE0E5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n.hongdou.com.cn/down/200482016411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20056291175919811.mid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Emily\tupian\washing.gif"/>
          <p:cNvPicPr/>
          <p:nvPr/>
        </p:nvPicPr>
        <p:blipFill>
          <a:blip r:embed="rId1"/>
          <a:stretch/>
        </p:blipFill>
        <p:spPr>
          <a:xfrm>
            <a:off x="1143000" y="685800"/>
            <a:ext cx="4876920" cy="3789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14120" y="4648320"/>
            <a:ext cx="81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he going to do tomorrow evening 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32520" y="548640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He is going to do some was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609480"/>
          <a:ext cx="8610480" cy="3780000"/>
        </p:xfrm>
        <a:graphic>
          <a:graphicData uri="http://schemas.openxmlformats.org/drawingml/2006/table">
            <a:tbl>
              <a:tblPr/>
              <a:tblGrid>
                <a:gridCol w="2209680"/>
                <a:gridCol w="2133720"/>
                <a:gridCol w="2133720"/>
                <a:gridCol w="2133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at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on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lay volleyball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school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school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ues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Read a book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:0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home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ednes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ave supp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:0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ho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9"/>
          <p:cNvSpPr/>
          <p:nvPr/>
        </p:nvSpPr>
        <p:spPr>
          <a:xfrm>
            <a:off x="829440" y="4419720"/>
            <a:ext cx="68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at’s she going to do on …(Monday)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ere is she go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en is she going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s she going to …?   Who is going to …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52280" y="882720"/>
          <a:ext cx="8724960" cy="4755960"/>
        </p:xfrm>
        <a:graphic>
          <a:graphicData uri="http://schemas.openxmlformats.org/drawingml/2006/table">
            <a:tbl>
              <a:tblPr/>
              <a:tblGrid>
                <a:gridCol w="1981080"/>
                <a:gridCol w="2514600"/>
                <a:gridCol w="2095560"/>
                <a:gridCol w="2133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urs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raw a pictur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3:0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offic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ri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o homework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:30—9:0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r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atur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ke up the mountain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ll 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ear the fie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un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ave a rest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afternoon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her bedr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280" y="198360"/>
          <a:ext cx="8724960" cy="639720"/>
        </p:xfrm>
        <a:graphic>
          <a:graphicData uri="http://schemas.openxmlformats.org/drawingml/2006/table">
            <a:tbl>
              <a:tblPr/>
              <a:tblGrid>
                <a:gridCol w="1981080"/>
                <a:gridCol w="2476800"/>
                <a:gridCol w="2133360"/>
                <a:gridCol w="2133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at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n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re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09480" y="-42840"/>
            <a:ext cx="8534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How are they ____to ___there tomorrow?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 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__By bus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go, going   B. getting, go   C. going, get D. get, going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e is going _____ early tomorrow afternoon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to go there B. to come here C. go there D. there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students are going ___their first field trip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in B. to C. at D. on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85640" y="304920"/>
            <a:ext cx="8201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____ are you going to do this morning?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I'm to do some reading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How     B. What     C. When     D. be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re is going to _____ a game in our class.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have      B. is     C. has        D. be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Why don't ____with your teacher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going hiking  B. to going hiking C. go hiking     D. going hik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80880" y="3049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______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rain B. rainy C. going to rain D. rains</a:t>
            </a: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Going to have a party _____more fun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going to B. is going to C. is going to be D. is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525600"/>
            <a:ext cx="8001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There are a lot of coats in the shopping window.I think I am going to buy _____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 .the green one .B. green one. C .the green ones D. those green ones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Let's discuss how____ going there.                          A. are we B. we are C. we do D. do w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They are going to play basketball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omorrow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40480" y="106668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.They are going to go boating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he day aft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omorr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1480" y="228600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.He is going to go fishing next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Monda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31120" y="3016080"/>
            <a:ext cx="77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4.She is going to go shopping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ext week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73000" y="4159080"/>
            <a:ext cx="412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一般将来是通常用来表示将要发生的事情或是计划做某事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它一般与表示将来的时间连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它的基本形式有：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e going to +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动词的原形组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97600" y="879480"/>
            <a:ext cx="794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.She goes to school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everyday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.I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often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play basketball on Monda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Sometimes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they go home by bu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4. He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reads a book at the weekend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479240" y="31680"/>
            <a:ext cx="2375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这学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点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准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教师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带上最美好的祝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过得快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作报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在课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有个好主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不得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不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浪费时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57960" y="0"/>
            <a:ext cx="453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is ti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call one’s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on ti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eachers’ D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with one’s best wish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fu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ive a talk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in clas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a good ide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not…any mor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 waste of time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Emily\tupian\basketball match.jpg"/>
          <p:cNvPicPr/>
          <p:nvPr/>
        </p:nvPicPr>
        <p:blipFill>
          <a:blip r:embed="rId1"/>
          <a:stretch/>
        </p:blipFill>
        <p:spPr>
          <a:xfrm>
            <a:off x="380880" y="68580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809880" y="126036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ext Mo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023000" y="2635200"/>
            <a:ext cx="44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pl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basketbal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220040" y="244440"/>
            <a:ext cx="1826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谈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全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名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与。。。不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例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简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。。。的意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为某人买某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做卡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想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102200" y="196920"/>
            <a:ext cx="3530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alk about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ull name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amily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iven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different from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or exampl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short fo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meaning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uy sth. for sb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make a car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ink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036080" y="549360"/>
            <a:ext cx="182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后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。。。的顶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作某时很费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太多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走错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绊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快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观看足球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购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171600" y="577800"/>
            <a:ext cx="5969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day after tomorrow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top of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some problems doing sth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oo many / too much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o the wrong w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rip ove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urry u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watch a football matc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do some shopp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make u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104292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即将到来的郊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把。。。带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离。。。远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026960" y="789120"/>
            <a:ext cx="415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coming field tri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ake with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far from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Emily\tupian\football match.jpg"/>
          <p:cNvPicPr/>
          <p:nvPr/>
        </p:nvPicPr>
        <p:blipFill>
          <a:blip r:embed="rId1"/>
          <a:stretch/>
        </p:blipFill>
        <p:spPr>
          <a:xfrm>
            <a:off x="1219320" y="457200"/>
            <a:ext cx="4952880" cy="322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826560" y="41940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tomorrow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74640" y="514980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play footbal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Emily\tupian\go boating.jpg"/>
          <p:cNvPicPr/>
          <p:nvPr/>
        </p:nvPicPr>
        <p:blipFill>
          <a:blip r:embed="rId1"/>
          <a:stretch/>
        </p:blipFill>
        <p:spPr>
          <a:xfrm>
            <a:off x="1676520" y="838080"/>
            <a:ext cx="4647960" cy="316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055520" y="4540320"/>
            <a:ext cx="76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next Mo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78480" y="5530680"/>
            <a:ext cx="55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go boat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Emily\tupian\go fishing.jpg"/>
          <p:cNvPicPr/>
          <p:nvPr/>
        </p:nvPicPr>
        <p:blipFill>
          <a:blip r:embed="rId1"/>
          <a:stretch/>
        </p:blipFill>
        <p:spPr>
          <a:xfrm>
            <a:off x="1981080" y="990720"/>
            <a:ext cx="495324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360440" y="4768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he going to do next holi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81960" y="56070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He is going to go fis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Emily\tupian\go for a picnic.jpg"/>
          <p:cNvPicPr/>
          <p:nvPr/>
        </p:nvPicPr>
        <p:blipFill>
          <a:blip r:embed="rId1"/>
          <a:stretch/>
        </p:blipFill>
        <p:spPr>
          <a:xfrm>
            <a:off x="1600200" y="914400"/>
            <a:ext cx="6426360" cy="3646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84480" y="4921200"/>
            <a:ext cx="71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next week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32200" y="5683320"/>
            <a:ext cx="60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have a picnic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Emily\tupian\go hiking.jpg"/>
          <p:cNvPicPr/>
          <p:nvPr/>
        </p:nvPicPr>
        <p:blipFill>
          <a:blip r:embed="rId1"/>
          <a:stretch/>
        </p:blipFill>
        <p:spPr>
          <a:xfrm>
            <a:off x="2057400" y="914400"/>
            <a:ext cx="4568760" cy="3365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57320" y="4464000"/>
            <a:ext cx="90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she going to do the day after tomorrow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368000" y="53784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e is going to go hik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:\Emily\tupian\go shopping.bmp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146600" y="5073480"/>
            <a:ext cx="70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she going to do next Su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86520" y="575928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e is going to go shopp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Emily\tupian\have a party.jpg"/>
          <p:cNvPicPr/>
          <p:nvPr/>
        </p:nvPicPr>
        <p:blipFill>
          <a:blip r:embed="rId1"/>
          <a:stretch/>
        </p:blipFill>
        <p:spPr>
          <a:xfrm>
            <a:off x="1905120" y="685800"/>
            <a:ext cx="4952880" cy="3706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19080" y="476892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the baby going to do next week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665000" y="553068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going to have a birthday part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8:10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0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