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B032-8B7F-4769-8CF6-BADE6F25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BB4C-3F0B-4866-9398-56C4E79D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F178-F564-4D18-BA54-98BA1F658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9306-AA21-40EE-B64F-DB6772D4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7058-366B-4C39-ABC6-E8A7BF567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D7F8-50C3-4076-BCD6-A6B66AEA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8A2D-2FF7-48AA-8D34-16887258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54BD-544E-4684-AEAB-3209E7F0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4645-A783-4AB5-A199-D9C8F12A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DD4C-7D03-421F-B3FE-3B421CEE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98D0-E73C-42DA-AA38-04B65619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71DB-45FE-4C93-A6FB-90CA823B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BA9D-AE1F-48E2-867D-DBCEC81D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F887-E73E-4E83-99F5-697DCBC7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63A3-DA2A-4EA6-9C1D-274092D8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F89F-4052-4796-870D-87E8E0BD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562F-B53E-4E81-AB92-FC17D733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9996-69AC-44A5-894C-87E120D4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E95E-6853-4505-8642-D8ED1BC3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66DE-E6B8-4679-9E5C-49C6A5A8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B798-5F7A-4E50-8454-CF846B6C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D946-0A95-4461-BB6D-D622A894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1F91-C8AF-4220-904B-67C5D7EB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E173-ECA2-4722-8B52-4931D9CC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4141-7DC5-4F23-A280-183641A8D6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974A-D160-4ACB-955A-A79910509FD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DA5F-A21A-4221-8686-B698BFA3A3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../&#21021;&#19977;&#29289;&#29702;&#31532;&#21313;&#19968;&#31456;&#36816;&#21160;&#21644;&#21147;flash&#35838;&#20214;&#38598;&#19968; &#26032;&#35838;&#26631; &#20154;&#25945;&#29256;/11.1&#21442;&#29031;&#29289;.swf" TargetMode="External"/><Relationship Id="rId2" Type="http://schemas.openxmlformats.org/officeDocument/2006/relationships/hyperlink" Target="../&#21021;&#19977;&#29289;&#29702;&#31532;&#21313;&#19968;&#31456;&#36816;&#21160;&#21644;&#21147;flash&#35838;&#20214;&#38598;&#19968; &#26032;&#35838;&#26631; &#20154;&#25945;&#29256;/11.1&#26426;&#26800;&#36816;&#21160;&#30340;&#30456;&#23545;&#24615;.swf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0000963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7380360" y="1052640"/>
            <a:ext cx="100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5050"/>
                </a:solidFill>
                <a:latin typeface="Arial"/>
              </a:rPr>
              <a:t>运动的描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867280" y="3573360"/>
            <a:ext cx="79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Arial"/>
                <a:ea typeface="黑体"/>
              </a:rPr>
              <a:t>教师：梁武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260280"/>
            <a:ext cx="9144000" cy="496836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成长目标聚焦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知识与技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5050"/>
                </a:solidFill>
                <a:latin typeface="Arial"/>
              </a:rPr>
              <a:t>．知道什么是机械运动，知道机械运动是宇宙中最普遍的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5050"/>
                </a:solidFill>
                <a:latin typeface="Arial"/>
              </a:rPr>
              <a:t>．知道什么叫参照物，知道判断物体的运动情况需要选定参照物。知道运动和静止的相对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5050"/>
                </a:solidFill>
                <a:latin typeface="Arial"/>
              </a:rPr>
              <a:t>．知道什么是匀速直线运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过程与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Arial"/>
              </a:rPr>
              <a:t>体验物体运动和静止的相对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情感态度与价值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5050"/>
                </a:solidFill>
                <a:latin typeface="Arial"/>
              </a:rPr>
              <a:t>认识运动是宇宙中的普遍现象，运动和静止是相对的，建立辩证唯物主义世界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000096299"/>
          <p:cNvPicPr/>
          <p:nvPr/>
        </p:nvPicPr>
        <p:blipFill>
          <a:blip r:embed="rId1"/>
          <a:stretch/>
        </p:blipFill>
        <p:spPr>
          <a:xfrm>
            <a:off x="395280" y="33336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1123298337"/>
          <p:cNvPicPr/>
          <p:nvPr/>
        </p:nvPicPr>
        <p:blipFill>
          <a:blip r:embed="rId2"/>
          <a:stretch/>
        </p:blipFill>
        <p:spPr>
          <a:xfrm>
            <a:off x="395280" y="3429000"/>
            <a:ext cx="8280360" cy="3014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11457915920455378"/>
          <p:cNvPicPr/>
          <p:nvPr/>
        </p:nvPicPr>
        <p:blipFill>
          <a:blip r:embed="rId3"/>
          <a:stretch/>
        </p:blipFill>
        <p:spPr>
          <a:xfrm>
            <a:off x="4427640" y="376200"/>
            <a:ext cx="403200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Arial"/>
              </a:rPr>
              <a:t>机械运动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0" y="907920"/>
            <a:ext cx="9144000" cy="1190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(1)</a:t>
            </a: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什么是机械运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运动是个多义词，物理学里讲的运动是指物体位置的变化。猎豹追逐小兔时，滑雪运动员在滑雪时，对地面或路旁的树都有位置的变化；飞机在天空中飞行，它相对于地面有位置的变化。</a:t>
            </a:r>
            <a:r>
              <a:rPr b="1" i="1" lang="zh-CN" sz="3200" spc="-1" strike="noStrike" u="sng">
                <a:solidFill>
                  <a:srgbClr val="ff5050"/>
                </a:solidFill>
                <a:uFillTx/>
                <a:latin typeface="Arial"/>
              </a:rPr>
              <a:t>物理学里把物体位置的变化叫机械运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0" y="4653000"/>
            <a:ext cx="91440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(2)</a:t>
            </a: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机械运动是宇宙中最普遍的运动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fj2_021"/>
          <p:cNvPicPr/>
          <p:nvPr/>
        </p:nvPicPr>
        <p:blipFill>
          <a:blip r:embed="rId1"/>
          <a:stretch/>
        </p:blipFill>
        <p:spPr>
          <a:xfrm>
            <a:off x="0" y="0"/>
            <a:ext cx="4427640" cy="5589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1114820709_ytaW7H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5589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324000" y="602136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正在表演的飞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4859280" y="602136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加油机和受油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24000" y="692280"/>
            <a:ext cx="7127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Arial"/>
              </a:rPr>
              <a:t>运动和静止的相对性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24000" y="162864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如上图：飞机都在做机械运动，站在地面上的人认为受油机是静止的，而加油机的飞行员却认为受油机是运动的，它们的说法正确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24000" y="3789360"/>
            <a:ext cx="8820000" cy="1068840"/>
          </a:xfrm>
          <a:prstGeom prst="rect">
            <a:avLst/>
          </a:prstGeom>
          <a:solidFill>
            <a:srgbClr val="ccffcc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ff5050"/>
                </a:solidFill>
                <a:latin typeface="Arial"/>
              </a:rPr>
              <a:t>地面上的人认为受油机是静止的是以加油机为标准，而加油机的飞行员认为受油机是运动的，它是以地面为标准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24000" y="333360"/>
            <a:ext cx="2520720" cy="825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小结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84360" y="2133720"/>
            <a:ext cx="7991280" cy="785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5050"/>
                </a:solidFill>
                <a:latin typeface="Arial"/>
              </a:rPr>
              <a:t>在描述物体是运动还是静止，要看是以哪个物体做标准。这个被选作标准的物体叫做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参照物</a:t>
            </a:r>
            <a:r>
              <a:rPr b="1" i="1" lang="zh-CN" sz="4000" spc="-1" strike="noStrike">
                <a:solidFill>
                  <a:srgbClr val="ff5050"/>
                </a:solidFill>
                <a:latin typeface="Arial"/>
              </a:rPr>
              <a:t>。同一个物体是运动还是静止，取决于所选定的参照物。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这就是运动和静止的相对性。</a:t>
            </a:r>
            <a:r>
              <a:rPr b="1" i="1" lang="zh-CN" sz="4000" spc="-1" strike="noStrike">
                <a:solidFill>
                  <a:srgbClr val="ff5050"/>
                </a:solidFill>
                <a:latin typeface="Arial"/>
              </a:rPr>
              <a:t>物体叫参照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50920" y="333360"/>
            <a:ext cx="3889440" cy="703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Arial"/>
              </a:rPr>
              <a:t>能力训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0" y="1197000"/>
            <a:ext cx="8893080" cy="2592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Arial"/>
                <a:ea typeface="黑体"/>
              </a:rPr>
              <a:t>？</a:t>
            </a: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看课本图</a:t>
            </a: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2—4</a:t>
            </a: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，卡车和联合收割机在农田里并排行驶，受油机与大型加油机在空中飞行，说它们是运动的，你选什么物体为参照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Arial"/>
              </a:rPr>
              <a:t>答：选大地为参照物，它们是运动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Arial"/>
                <a:ea typeface="黑体"/>
              </a:rPr>
              <a:t>？</a:t>
            </a: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在甲图中如果选卡车或收割机为参照物，在乙图中如果选受油机或加油机为参照物，另一物体的运动情况是怎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Arial"/>
              </a:rPr>
              <a:t>答：另一物体是静止的。因为它们相对于参照物没有位置的改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250920" y="549360"/>
            <a:ext cx="820872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Arial"/>
              </a:rPr>
              <a:t>？法国飞行员抓子弹的故事，你可能听说过，什么情况下我们也能顺手抓住一颗飞行的子弹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755640" y="3645000"/>
            <a:ext cx="741672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答：当飞机和子弹的运行速度相同且运动方向相同时，飞机和子弹此时处于相对静止状态，我们就可以抓住一颗飞行的子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1:51:18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9:22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