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EE9D-C429-4DF2-8F9E-605BA3C2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96E5-6A35-4455-B554-065CEC1A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D47-AF86-49C0-B86D-6814C78C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E05C-B648-4546-8D5B-BECB90BC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5ED4-2D2C-4F30-8206-D851FE1F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B13-8B6C-4529-8BB5-3C283590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9B5A-4D27-43BC-92A5-0C58FEDF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712-9AA6-478E-847D-EB869559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1EB-315F-47DD-8A53-B84B5BC2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359-7F09-47D0-85D3-941FB467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E20A-43A1-4BB7-8EE9-4233E317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7F9-8DB4-4540-A163-95C4F991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300B-4D05-4F40-9E02-C10339DBE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4356000" y="-284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9933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9933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9933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9933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9933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9933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9933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9933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9933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9933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9933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7786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IJING - The safety of schools and school buses is now at the top of the agenda for China's education authority.www.1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The central government's fiscal investment on renovating school buildings has hit 28 billion yuan ($4.4 billion) in the last three years," Yuan Guiren, minister of education, said at a bimonthly session of the National People's Congress Standing Committee on Wednes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Fiscal support from local governments has been more than 200 billion yuan in the past three years," he sa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03:02:18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50:35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