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chimes.wav" ContentType="audio/x-wav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E74-3E06-4AA7-B930-A90258A9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B4F-60AB-4969-82CC-5E6F9604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C6F-13B8-4561-B646-470A9914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2EC-1480-4255-A336-29F6E23F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1AAD-2C4E-4F38-B78C-68E1D773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9806-943F-4D0A-9422-6C1F872F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CC29-73BA-4BC6-A369-8CA33681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5E03-1EB3-4769-AB6D-6290C6FC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7330-1560-46B7-AC2E-213F7602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BCE4-6B60-42D3-B1CE-3C09ED23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9AEE-3BF6-4474-A5E0-A5A124D2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1D6-12EE-4B52-9857-A7B39FC6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A68E-6D12-4C82-A31F-99F075C6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C0E1-3119-401B-92B2-56638A49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A80F-FA71-41C9-9263-7C209A8A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668B-0586-4A6C-A334-3D8B8256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DB02-8E76-4915-8F5B-E98FEF0B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051-2C16-4338-9966-4C5C4A6C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787-266F-48A7-A06C-77055C75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008-5FED-47B2-801A-5C82CC0F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AE9-E904-407C-941D-70E3F92F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D74-893A-4687-9229-C2534103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E81-1EED-492C-A582-F1D2B8CC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043-FE55-4375-BA7B-67D29749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5FBF-46A9-4954-88AD-6B08CA3821A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4A6F-3723-4FD8-ADDE-44BB89F0F6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EECD-3709-4C2B-8BF9-9A12BD0CBB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8,3,&#22797;&#20064;2&#65288;1&#65289;" TargetMode="External"/><Relationship Id="rId3" Type="http://schemas.openxmlformats.org/officeDocument/2006/relationships/hyperlink" Target="259,4,&#26032;&#25480;1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2,&#22797;&#20064;2" TargetMode="External"/><Relationship Id="rId3" Type="http://schemas.openxmlformats.org/officeDocument/2006/relationships/hyperlink" Target="257,2,&#22797;&#20064;2" TargetMode="External"/><Relationship Id="rId4" Type="http://schemas.openxmlformats.org/officeDocument/2006/relationships/hyperlink" Target="257,2,&#22797;&#20064;2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4347360" y="1676520"/>
            <a:ext cx="1399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约   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课题：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17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219320" y="1849320"/>
            <a:ext cx="739116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根据分数的基本性质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）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——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——  =   ——  =   ——  =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           16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）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           10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）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—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——  =   ——  =   ——  =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           3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复习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复习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47920" y="2362320"/>
            <a:ext cx="6933960" cy="32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写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800" spc="-1" strike="noStrike" u="sng">
                <a:solidFill>
                  <a:srgbClr val="993300"/>
                </a:solidFill>
                <a:uFillTx/>
                <a:latin typeface="Times New Roman"/>
                <a:hlinkClick r:id="rId2"/>
              </a:rPr>
              <a:t>公约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指出哪两个数是</a:t>
            </a:r>
            <a:r>
              <a:rPr b="0" lang="zh-CN" sz="28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互质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              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复习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r>
              <a:rPr b="0" lang="zh-CN" sz="4400" spc="-1" strike="noStrike" u="sng">
                <a:solidFill>
                  <a:srgbClr val="993300"/>
                </a:solidFill>
                <a:uFillTx/>
                <a:latin typeface="Times New Roman"/>
                <a:hlinkClick r:id="rId2"/>
              </a:rPr>
              <a:t>（</a:t>
            </a: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1</a:t>
            </a:r>
            <a:r>
              <a:rPr b="0" lang="zh-CN" sz="44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295280" y="2438280"/>
            <a:ext cx="7315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约数有：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约数有：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公约数有：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新授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71600" y="1752480"/>
            <a:ext cx="70866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化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化简指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化简要运用什么性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化简到什么时候为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练习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143000" y="2019240"/>
            <a:ext cx="7391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判断下面各等式，哪些是约分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        2                        20         10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—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——                   —— = ——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        3                        24       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         12                         4   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—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——                    —— =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        24                        5   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练习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19320" y="1905120"/>
            <a:ext cx="731520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指出下面哪些分数是最简分数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             6           10           11      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——       ——       ——       ——    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             9           12           12     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             9            24           21         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——        ——       ——       ——    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           16           25           24          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新授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295280" y="1636560"/>
            <a:ext cx="70106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约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约分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一般用分子和分母的公约数（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Times New Roman"/>
              </a:rPr>
              <a:t>1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除外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）去除分数的分子和分母；通常要除到得出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Times New Roman"/>
              </a:rPr>
              <a:t>最简分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为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练习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2019240"/>
            <a:ext cx="73915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下面的分数约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           9            5           24          12          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——      ——      ——      ——      ——    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          12          10          30          16        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70         100          80          30         140       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     ——       ——      ——      ——      ——      ——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200        300        400        100        150       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01:07:01Z</dcterms:created>
  <dc:creator>An</dc:creator>
  <dc:description>ppt模板下载网站 http://www.eeppt.com</dc:description>
  <cp:keywords>ppt模板下载网站 http:/www.eeppt.com</cp:keywords>
  <dc:language>en-US</dc:language>
  <cp:lastModifiedBy>a</cp:lastModifiedBy>
  <dcterms:modified xsi:type="dcterms:W3CDTF">2015-05-20T04:18:35Z</dcterms:modified>
  <cp:revision>12</cp:revision>
  <dc:subject/>
  <dc:title>复习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