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D44-75D0-4AF0-97AF-AFC429BD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BE4-3C4E-418C-81A3-25281253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688-744B-41CB-8BDC-9EB9BE2B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80D-A7C7-4276-8478-B7FC8D07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080-E50A-42A6-99DD-BD073FC0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EAA-983B-44CD-8ADA-4D65FC71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CE7-3BB3-45DC-B2B4-9F869BF0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8D4-DB96-4B80-9D85-AD890E85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8B0-AE9E-4E8B-BC60-07671CF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294-FF69-4094-92BD-4B14BAF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87A-8353-4BD7-8BC4-4B33ECCB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847-A049-41D4-9DA5-0868558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CB41-C716-481E-B970-FC4C3490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5400000">
            <a:off x="-720360" y="1593000"/>
            <a:ext cx="41036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一分钟</a:t>
            </a:r>
            <a:endParaRPr b="1" lang="en-US" sz="24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4"/>
          <p:cNvGrpSpPr/>
          <p:nvPr/>
        </p:nvGrpSpPr>
        <p:grpSpPr>
          <a:xfrm>
            <a:off x="6443640" y="620640"/>
            <a:ext cx="1616040" cy="847800"/>
            <a:chOff x="6443640" y="620640"/>
            <a:chExt cx="1616040" cy="847800"/>
          </a:xfrm>
        </p:grpSpPr>
        <p:sp>
          <p:nvSpPr>
            <p:cNvPr id="44" name="Text Box 6"/>
            <p:cNvSpPr/>
            <p:nvPr/>
          </p:nvSpPr>
          <p:spPr>
            <a:xfrm>
              <a:off x="6443640" y="7477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好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14" descr="d0233[1]"/>
            <p:cNvPicPr/>
            <p:nvPr/>
          </p:nvPicPr>
          <p:blipFill>
            <a:blip r:embed="rId2"/>
            <a:stretch/>
          </p:blipFill>
          <p:spPr>
            <a:xfrm>
              <a:off x="7164360" y="62064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5" descr="xiaohai"/>
          <p:cNvPicPr/>
          <p:nvPr/>
        </p:nvPicPr>
        <p:blipFill>
          <a:blip r:embed="rId3"/>
          <a:stretch/>
        </p:blipFill>
        <p:spPr>
          <a:xfrm>
            <a:off x="755640" y="765000"/>
            <a:ext cx="5256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3"/>
          <p:cNvGrpSpPr/>
          <p:nvPr/>
        </p:nvGrpSpPr>
        <p:grpSpPr>
          <a:xfrm>
            <a:off x="6448320" y="1717560"/>
            <a:ext cx="1652760" cy="847800"/>
            <a:chOff x="6448320" y="1717560"/>
            <a:chExt cx="1652760" cy="847800"/>
          </a:xfrm>
        </p:grpSpPr>
        <p:sp>
          <p:nvSpPr>
            <p:cNvPr id="48" name="Text Box 7"/>
            <p:cNvSpPr/>
            <p:nvPr/>
          </p:nvSpPr>
          <p:spPr>
            <a:xfrm>
              <a:off x="6448320" y="1930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佳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16" descr="d0233[1]"/>
            <p:cNvPicPr/>
            <p:nvPr/>
          </p:nvPicPr>
          <p:blipFill>
            <a:blip r:embed="rId4"/>
            <a:stretch/>
          </p:blipFill>
          <p:spPr>
            <a:xfrm>
              <a:off x="7205400" y="1717560"/>
              <a:ext cx="89568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21"/>
          <p:cNvGrpSpPr/>
          <p:nvPr/>
        </p:nvGrpSpPr>
        <p:grpSpPr>
          <a:xfrm>
            <a:off x="6519960" y="3949560"/>
            <a:ext cx="1611360" cy="847800"/>
            <a:chOff x="6519960" y="3949560"/>
            <a:chExt cx="1611360" cy="847800"/>
          </a:xfrm>
        </p:grpSpPr>
        <p:sp>
          <p:nvSpPr>
            <p:cNvPr id="51" name="Text Box 9"/>
            <p:cNvSpPr/>
            <p:nvPr/>
          </p:nvSpPr>
          <p:spPr>
            <a:xfrm>
              <a:off x="6519960" y="41446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思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18" descr="d0233[1]"/>
            <p:cNvPicPr/>
            <p:nvPr/>
          </p:nvPicPr>
          <p:blipFill>
            <a:blip r:embed="rId5"/>
            <a:stretch/>
          </p:blipFill>
          <p:spPr>
            <a:xfrm>
              <a:off x="7236000" y="3949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20"/>
          <p:cNvGrpSpPr/>
          <p:nvPr/>
        </p:nvGrpSpPr>
        <p:grpSpPr>
          <a:xfrm>
            <a:off x="6516720" y="5173560"/>
            <a:ext cx="1614600" cy="847800"/>
            <a:chOff x="6516720" y="5173560"/>
            <a:chExt cx="1614600" cy="847800"/>
          </a:xfrm>
        </p:grpSpPr>
        <p:sp>
          <p:nvSpPr>
            <p:cNvPr id="54" name="Text Box 10"/>
            <p:cNvSpPr/>
            <p:nvPr/>
          </p:nvSpPr>
          <p:spPr>
            <a:xfrm>
              <a:off x="6516720" y="53895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Picture 19" descr="d0233[1]"/>
            <p:cNvPicPr/>
            <p:nvPr/>
          </p:nvPicPr>
          <p:blipFill>
            <a:blip r:embed="rId6"/>
            <a:stretch/>
          </p:blipFill>
          <p:spPr>
            <a:xfrm>
              <a:off x="7236000" y="5173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5"/>
          <p:cNvGrpSpPr/>
          <p:nvPr/>
        </p:nvGrpSpPr>
        <p:grpSpPr>
          <a:xfrm>
            <a:off x="6516720" y="2797200"/>
            <a:ext cx="1611360" cy="847800"/>
            <a:chOff x="6516720" y="2797200"/>
            <a:chExt cx="1611360" cy="847800"/>
          </a:xfrm>
        </p:grpSpPr>
        <p:sp>
          <p:nvSpPr>
            <p:cNvPr id="57" name="Text Box 26"/>
            <p:cNvSpPr/>
            <p:nvPr/>
          </p:nvSpPr>
          <p:spPr>
            <a:xfrm>
              <a:off x="6516720" y="2992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朗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Picture 27" descr="d0233[1]"/>
            <p:cNvPicPr/>
            <p:nvPr/>
          </p:nvPicPr>
          <p:blipFill>
            <a:blip r:embed="rId7"/>
            <a:stretch/>
          </p:blipFill>
          <p:spPr>
            <a:xfrm>
              <a:off x="7232760" y="279720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4572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打了个哈欠，翻了个身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想再睡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就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不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到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42210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叹了口气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早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好了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0" y="1159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了口气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好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22050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红着脸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低着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坐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自己的座位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436572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老师看了看手表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今天你迟到了</a:t>
            </a:r>
            <a:r>
              <a:rPr b="1" lang="en-US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0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魔棒"/>
          <p:cNvPicPr/>
          <p:nvPr/>
        </p:nvPicPr>
        <p:blipFill>
          <a:blip r:embed="rId2"/>
          <a:stretch/>
        </p:blipFill>
        <p:spPr>
          <a:xfrm rot="2638800">
            <a:off x="7667640" y="5589360"/>
            <a:ext cx="12700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4"/>
          <p:cNvGrpSpPr/>
          <p:nvPr/>
        </p:nvGrpSpPr>
        <p:grpSpPr>
          <a:xfrm>
            <a:off x="539640" y="2276640"/>
            <a:ext cx="8154360" cy="2954520"/>
            <a:chOff x="539640" y="2276640"/>
            <a:chExt cx="8154360" cy="2954520"/>
          </a:xfrm>
        </p:grpSpPr>
        <p:grpSp>
          <p:nvGrpSpPr>
            <p:cNvPr id="66" name="Group 2"/>
            <p:cNvGrpSpPr/>
            <p:nvPr/>
          </p:nvGrpSpPr>
          <p:grpSpPr>
            <a:xfrm>
              <a:off x="539640" y="2276640"/>
              <a:ext cx="3082680" cy="1002600"/>
              <a:chOff x="539640" y="2276640"/>
              <a:chExt cx="3082680" cy="1002600"/>
            </a:xfrm>
          </p:grpSpPr>
          <p:sp>
            <p:nvSpPr>
              <p:cNvPr id="67" name="Text Box 3"/>
              <p:cNvSpPr/>
              <p:nvPr/>
            </p:nvSpPr>
            <p:spPr>
              <a:xfrm>
                <a:off x="539640" y="2636640"/>
                <a:ext cx="231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一分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Text Box 4"/>
              <p:cNvSpPr/>
              <p:nvPr/>
            </p:nvSpPr>
            <p:spPr>
              <a:xfrm>
                <a:off x="539640" y="2276640"/>
                <a:ext cx="30826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5"/>
            <p:cNvGrpSpPr/>
            <p:nvPr/>
          </p:nvGrpSpPr>
          <p:grpSpPr>
            <a:xfrm>
              <a:off x="3012840" y="2304720"/>
              <a:ext cx="2305080" cy="974520"/>
              <a:chOff x="3012840" y="2304720"/>
              <a:chExt cx="2305080" cy="974520"/>
            </a:xfrm>
          </p:grpSpPr>
          <p:sp>
            <p:nvSpPr>
              <p:cNvPr id="70" name="Text Box 6"/>
              <p:cNvSpPr/>
              <p:nvPr/>
            </p:nvSpPr>
            <p:spPr>
              <a:xfrm>
                <a:off x="3012840" y="2636640"/>
                <a:ext cx="230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闹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7"/>
              <p:cNvSpPr/>
              <p:nvPr/>
            </p:nvSpPr>
            <p:spPr>
              <a:xfrm>
                <a:off x="3660480" y="2304720"/>
                <a:ext cx="144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8"/>
            <p:cNvGrpSpPr/>
            <p:nvPr/>
          </p:nvGrpSpPr>
          <p:grpSpPr>
            <a:xfrm>
              <a:off x="4841640" y="2363760"/>
              <a:ext cx="3852360" cy="929520"/>
              <a:chOff x="4841640" y="2363760"/>
              <a:chExt cx="3852360" cy="929520"/>
            </a:xfrm>
          </p:grpSpPr>
          <p:sp>
            <p:nvSpPr>
              <p:cNvPr id="73" name="Text Box 9"/>
              <p:cNvSpPr/>
              <p:nvPr/>
            </p:nvSpPr>
            <p:spPr>
              <a:xfrm>
                <a:off x="4844520" y="2650680"/>
                <a:ext cx="160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哈欠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0"/>
              <p:cNvSpPr/>
              <p:nvPr/>
            </p:nvSpPr>
            <p:spPr>
              <a:xfrm>
                <a:off x="4841640" y="2363760"/>
                <a:ext cx="3852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1"/>
            <p:cNvGrpSpPr/>
            <p:nvPr/>
          </p:nvGrpSpPr>
          <p:grpSpPr>
            <a:xfrm>
              <a:off x="6594480" y="2363760"/>
              <a:ext cx="1942560" cy="970920"/>
              <a:chOff x="6594480" y="2363760"/>
              <a:chExt cx="1942560" cy="970920"/>
            </a:xfrm>
          </p:grpSpPr>
          <p:sp>
            <p:nvSpPr>
              <p:cNvPr id="76" name="Text Box 12"/>
              <p:cNvSpPr/>
              <p:nvPr/>
            </p:nvSpPr>
            <p:spPr>
              <a:xfrm>
                <a:off x="6737040" y="269208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迟到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13"/>
              <p:cNvSpPr/>
              <p:nvPr/>
            </p:nvSpPr>
            <p:spPr>
              <a:xfrm>
                <a:off x="6594480" y="2363760"/>
                <a:ext cx="14396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14"/>
            <p:cNvGrpSpPr/>
            <p:nvPr/>
          </p:nvGrpSpPr>
          <p:grpSpPr>
            <a:xfrm>
              <a:off x="674640" y="3608280"/>
              <a:ext cx="3328560" cy="1042200"/>
              <a:chOff x="674640" y="3608280"/>
              <a:chExt cx="3328560" cy="1042200"/>
            </a:xfrm>
          </p:grpSpPr>
          <p:sp>
            <p:nvSpPr>
              <p:cNvPr id="79" name="Text Box 15"/>
              <p:cNvSpPr/>
              <p:nvPr/>
            </p:nvSpPr>
            <p:spPr>
              <a:xfrm>
                <a:off x="674640" y="4007880"/>
                <a:ext cx="332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丁零零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16"/>
              <p:cNvSpPr/>
              <p:nvPr/>
            </p:nvSpPr>
            <p:spPr>
              <a:xfrm>
                <a:off x="952560" y="3608280"/>
                <a:ext cx="2772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17"/>
            <p:cNvGrpSpPr/>
            <p:nvPr/>
          </p:nvGrpSpPr>
          <p:grpSpPr>
            <a:xfrm>
              <a:off x="3201840" y="3605040"/>
              <a:ext cx="1944720" cy="1077120"/>
              <a:chOff x="3201840" y="3605040"/>
              <a:chExt cx="1944720" cy="1077120"/>
            </a:xfrm>
          </p:grpSpPr>
          <p:sp>
            <p:nvSpPr>
              <p:cNvPr id="82" name="Text Box 18"/>
              <p:cNvSpPr/>
              <p:nvPr/>
            </p:nvSpPr>
            <p:spPr>
              <a:xfrm>
                <a:off x="3201840" y="4039560"/>
                <a:ext cx="19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决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19"/>
              <p:cNvSpPr/>
              <p:nvPr/>
            </p:nvSpPr>
            <p:spPr>
              <a:xfrm>
                <a:off x="3201840" y="3605040"/>
                <a:ext cx="1440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20"/>
            <p:cNvGrpSpPr/>
            <p:nvPr/>
          </p:nvGrpSpPr>
          <p:grpSpPr>
            <a:xfrm>
              <a:off x="5113080" y="3676320"/>
              <a:ext cx="2016000" cy="1554840"/>
              <a:chOff x="5113080" y="3676320"/>
              <a:chExt cx="2016000" cy="1554840"/>
            </a:xfrm>
          </p:grpSpPr>
          <p:sp>
            <p:nvSpPr>
              <p:cNvPr id="85" name="Text Box 21"/>
              <p:cNvSpPr/>
              <p:nvPr/>
            </p:nvSpPr>
            <p:spPr>
              <a:xfrm>
                <a:off x="5113080" y="40399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后悔        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22"/>
              <p:cNvSpPr/>
              <p:nvPr/>
            </p:nvSpPr>
            <p:spPr>
              <a:xfrm>
                <a:off x="5184360" y="3676320"/>
                <a:ext cx="1440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7" name="Picture 43" descr="胡蝶5"/>
          <p:cNvPicPr/>
          <p:nvPr/>
        </p:nvPicPr>
        <p:blipFill>
          <a:blip r:embed="rId1"/>
          <a:stretch/>
        </p:blipFill>
        <p:spPr>
          <a:xfrm>
            <a:off x="250920" y="26028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7" descr="魔棒"/>
          <p:cNvPicPr/>
          <p:nvPr/>
        </p:nvPicPr>
        <p:blipFill>
          <a:blip r:embed="rId2"/>
          <a:stretch/>
        </p:blipFill>
        <p:spPr>
          <a:xfrm rot="19023600">
            <a:off x="7596360" y="5229000"/>
            <a:ext cx="888840" cy="1269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68"/>
          <p:cNvSpPr txBox="1"/>
          <p:nvPr/>
        </p:nvSpPr>
        <p:spPr>
          <a:xfrm>
            <a:off x="2627280" y="333360"/>
            <a:ext cx="35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能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611280" y="1844640"/>
            <a:ext cx="8208000" cy="3671640"/>
            <a:chOff x="611280" y="1844640"/>
            <a:chExt cx="8208000" cy="3671640"/>
          </a:xfrm>
        </p:grpSpPr>
        <p:sp>
          <p:nvSpPr>
            <p:cNvPr id="91" name="Line 4"/>
            <p:cNvSpPr/>
            <p:nvPr/>
          </p:nvSpPr>
          <p:spPr>
            <a:xfrm flipV="1">
              <a:off x="611280" y="4292280"/>
              <a:ext cx="180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5"/>
            <p:cNvSpPr/>
            <p:nvPr/>
          </p:nvSpPr>
          <p:spPr>
            <a:xfrm>
              <a:off x="611280" y="4292280"/>
              <a:ext cx="2736720" cy="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3346200" y="3068280"/>
              <a:ext cx="2736360" cy="1223280"/>
              <a:chOff x="3346200" y="3068280"/>
              <a:chExt cx="2736360" cy="1223280"/>
            </a:xfrm>
          </p:grpSpPr>
          <p:sp>
            <p:nvSpPr>
              <p:cNvPr id="94" name="Line 7"/>
              <p:cNvSpPr/>
              <p:nvPr/>
            </p:nvSpPr>
            <p:spPr>
              <a:xfrm flipV="1">
                <a:off x="3346200" y="3068280"/>
                <a:ext cx="0" cy="122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3346200" y="3068280"/>
                <a:ext cx="2736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0"/>
            <p:cNvGrpSpPr/>
            <p:nvPr/>
          </p:nvGrpSpPr>
          <p:grpSpPr>
            <a:xfrm>
              <a:off x="6082920" y="1844640"/>
              <a:ext cx="2736360" cy="1223280"/>
              <a:chOff x="6082920" y="1844640"/>
              <a:chExt cx="2736360" cy="1223280"/>
            </a:xfrm>
          </p:grpSpPr>
          <p:sp>
            <p:nvSpPr>
              <p:cNvPr id="97" name="Line 11"/>
              <p:cNvSpPr/>
              <p:nvPr/>
            </p:nvSpPr>
            <p:spPr>
              <a:xfrm flipV="1">
                <a:off x="6082920" y="1844640"/>
                <a:ext cx="0" cy="122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2"/>
              <p:cNvSpPr/>
              <p:nvPr/>
            </p:nvSpPr>
            <p:spPr>
              <a:xfrm>
                <a:off x="6082920" y="1844640"/>
                <a:ext cx="2736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Text Box 14"/>
          <p:cNvSpPr/>
          <p:nvPr/>
        </p:nvSpPr>
        <p:spPr>
          <a:xfrm>
            <a:off x="755640" y="422100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正    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635280" y="299736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流   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084720" y="162864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有感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17"/>
          <p:cNvSpPr txBox="1"/>
          <p:nvPr/>
        </p:nvSpPr>
        <p:spPr>
          <a:xfrm>
            <a:off x="755640" y="69228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朗读要求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8101080" y="5805360"/>
            <a:ext cx="755640" cy="692280"/>
          </a:xfrm>
          <a:prstGeom prst="leftArrow">
            <a:avLst>
              <a:gd name="adj1" fmla="val 50000"/>
              <a:gd name="adj2" fmla="val 27288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2"/>
          <p:cNvGrpSpPr/>
          <p:nvPr/>
        </p:nvGrpSpPr>
        <p:grpSpPr>
          <a:xfrm>
            <a:off x="826920" y="5013360"/>
            <a:ext cx="2160720" cy="576360"/>
            <a:chOff x="826920" y="5013360"/>
            <a:chExt cx="2160720" cy="576360"/>
          </a:xfrm>
        </p:grpSpPr>
        <p:sp>
          <p:nvSpPr>
            <p:cNvPr id="105" name="AutoShape 19"/>
            <p:cNvSpPr/>
            <p:nvPr/>
          </p:nvSpPr>
          <p:spPr>
            <a:xfrm>
              <a:off x="82692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>
              <a:off x="161892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241128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635280" y="3860640"/>
            <a:ext cx="2160720" cy="576360"/>
            <a:chOff x="3635280" y="3860640"/>
            <a:chExt cx="2160720" cy="576360"/>
          </a:xfrm>
        </p:grpSpPr>
        <p:sp>
          <p:nvSpPr>
            <p:cNvPr id="109" name="AutoShape 24"/>
            <p:cNvSpPr/>
            <p:nvPr/>
          </p:nvSpPr>
          <p:spPr>
            <a:xfrm>
              <a:off x="363528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25"/>
            <p:cNvSpPr/>
            <p:nvPr/>
          </p:nvSpPr>
          <p:spPr>
            <a:xfrm>
              <a:off x="442728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6"/>
            <p:cNvSpPr/>
            <p:nvPr/>
          </p:nvSpPr>
          <p:spPr>
            <a:xfrm>
              <a:off x="521964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27"/>
          <p:cNvGrpSpPr/>
          <p:nvPr/>
        </p:nvGrpSpPr>
        <p:grpSpPr>
          <a:xfrm>
            <a:off x="6372360" y="2637000"/>
            <a:ext cx="2160000" cy="576000"/>
            <a:chOff x="6372360" y="2637000"/>
            <a:chExt cx="2160000" cy="576000"/>
          </a:xfrm>
        </p:grpSpPr>
        <p:sp>
          <p:nvSpPr>
            <p:cNvPr id="113" name="AutoShape 28"/>
            <p:cNvSpPr/>
            <p:nvPr/>
          </p:nvSpPr>
          <p:spPr>
            <a:xfrm>
              <a:off x="6372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29"/>
            <p:cNvSpPr/>
            <p:nvPr/>
          </p:nvSpPr>
          <p:spPr>
            <a:xfrm>
              <a:off x="716400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30"/>
            <p:cNvSpPr/>
            <p:nvPr/>
          </p:nvSpPr>
          <p:spPr>
            <a:xfrm>
              <a:off x="7956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9"/>
                  </a:moveTo>
                  <a:lnTo>
                    <a:pt x="3829" y="3829"/>
                  </a:lnTo>
                  <a:lnTo>
                    <a:pt x="5014" y="0"/>
                  </a:lnTo>
                  <a:lnTo>
                    <a:pt x="6171" y="3829"/>
                  </a:lnTo>
                  <a:lnTo>
                    <a:pt x="10000" y="3829"/>
                  </a:lnTo>
                  <a:lnTo>
                    <a:pt x="6915" y="6171"/>
                  </a:lnTo>
                  <a:lnTo>
                    <a:pt x="8099" y="10000"/>
                  </a:lnTo>
                  <a:lnTo>
                    <a:pt x="5014" y="7631"/>
                  </a:lnTo>
                  <a:lnTo>
                    <a:pt x="1901" y="10000"/>
                  </a:lnTo>
                  <a:lnTo>
                    <a:pt x="3085" y="6171"/>
                  </a:lnTo>
                  <a:lnTo>
                    <a:pt x="0" y="38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2720" y="602136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79280" y="549360"/>
            <a:ext cx="7129440" cy="3384360"/>
          </a:xfrm>
          <a:prstGeom prst="wedgeEllipseCallout">
            <a:avLst>
              <a:gd name="adj1" fmla="val 57884"/>
              <a:gd name="adj2" fmla="val 5121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49160" y="1182600"/>
            <a:ext cx="613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只多睡了一分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会迟到了二十分钟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d0233[1]"/>
          <p:cNvPicPr/>
          <p:nvPr/>
        </p:nvPicPr>
        <p:blipFill>
          <a:blip r:embed="rId2"/>
          <a:stretch/>
        </p:blipFill>
        <p:spPr>
          <a:xfrm>
            <a:off x="6983280" y="3860640"/>
            <a:ext cx="2160720" cy="20466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8172360" y="6165720"/>
            <a:ext cx="647640" cy="69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533520" y="182880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闹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ōng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     )       zōng 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        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        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(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990720" y="198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267080" y="19810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143000" y="3505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4267080" y="3505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14300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267080" y="5029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133720" y="25146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22860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86728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1500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057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57913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4" descr="d0233[1]"/>
          <p:cNvPicPr/>
          <p:nvPr/>
        </p:nvPicPr>
        <p:blipFill>
          <a:blip r:embed="rId2"/>
          <a:stretch/>
        </p:blipFill>
        <p:spPr>
          <a:xfrm>
            <a:off x="7380360" y="404640"/>
            <a:ext cx="1400040" cy="13258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25"/>
          <p:cNvSpPr txBox="1"/>
          <p:nvPr/>
        </p:nvSpPr>
        <p:spPr>
          <a:xfrm>
            <a:off x="2411280" y="47628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选一选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8172360" y="6165720"/>
            <a:ext cx="647640" cy="69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55:1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3:4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