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A44-82D0-43A8-9E6B-4149C254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060-D2D0-4752-BFB8-7BD88A8C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2ED-1945-4DBD-B930-4E46FD79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3BF-9FDE-45B7-8978-6B257653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5D1-C26A-496D-AF05-1C81384F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39D-AA73-4936-9EE5-9A513A7A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BEE-E0CA-47BD-982A-9F2C4E63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FB0-752E-4B78-8613-1C2609F4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7C3-AEF9-43A8-9F35-ACFCE507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45A-E5EA-4F56-A483-A8B062D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24F-A823-452B-9DCA-4102BB57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3F5-E1A6-4362-AE93-E0420072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895E-7942-42C4-AD3B-88A00AC11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sina.com.cn/c/2005-04-29/15006530655.s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52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黑体"/>
              </a:rPr>
              <a:t>一国两制和祖国统一大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紫荆花开满园春：“一国两制”的成功实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00440" y="1828800"/>
            <a:ext cx="259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读归纳：香港、澳门是如何回到祖国怀抱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香港回归"/>
          <p:cNvPicPr/>
          <p:nvPr/>
        </p:nvPicPr>
        <p:blipFill>
          <a:blip r:embed="rId1"/>
          <a:stretch/>
        </p:blipFill>
        <p:spPr>
          <a:xfrm>
            <a:off x="0" y="1828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57200" y="609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思考：从香港、澳门问题的解决看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一国两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构想有何历史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228600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为早日完成祖国统一大业提供了政策保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利于保持港澳台地区的长期稳定和繁荣，有利于祖国的社会主义建设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为解决国际争端和历史遗留问题提供了新思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5720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：香港、澳门问题的解决有哪些基本经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57200" y="2286000"/>
            <a:ext cx="73152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祖国的强盛是统一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根本保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包括香港澳门人民在内的全体中国人民统一信念是祖国统一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力量之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国两制是祖国统一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基本方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坚定的的外交立场和灵活的外交策略是解决国际问题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重要条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海上生明月 天涯共此时：祖国统一大业的未来展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台湾图"/>
          <p:cNvPicPr/>
          <p:nvPr/>
        </p:nvPicPr>
        <p:blipFill>
          <a:blip r:embed="rId1"/>
          <a:stretch/>
        </p:blipFill>
        <p:spPr>
          <a:xfrm>
            <a:off x="990720" y="1905120"/>
            <a:ext cx="2819160" cy="4952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495680" y="21337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课外阅读材料，思考：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解决台湾问题完成祖国统一大业中有哪些有利因素和阻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447920" y="1523880"/>
            <a:ext cx="607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强大的祖国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正确的方针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共同的信念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交流的加强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国际的公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28600"/>
            <a:ext cx="70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和平统一台湾的有利因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2120" y="2743200"/>
            <a:ext cx="7543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一些国际势力的干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台湾岛内的分裂势力猖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57200" y="6858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和平统一台湾的阻力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C20040413100014437.asf" descr=""/>
          <p:cNvPicPr/>
          <p:nvPr/>
        </p:nvPicPr>
        <p:blipFill>
          <a:blip r:embed="rId1"/>
          <a:stretch/>
        </p:blipFill>
        <p:spPr>
          <a:xfrm>
            <a:off x="431640" y="-27000"/>
            <a:ext cx="8317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U686P1T27D1419F1264DT20050502183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04640"/>
            <a:ext cx="7200720" cy="5011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370400" y="58770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胡锦涛与连战会谈：我们共同迈出的这一步，必将载入史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图文：宋楚瑜在上海浦东机场向送行人群招手致意"/>
          <p:cNvPicPr/>
          <p:nvPr/>
        </p:nvPicPr>
        <p:blipFill>
          <a:blip r:embed="rId1"/>
          <a:stretch/>
        </p:blipFill>
        <p:spPr>
          <a:xfrm>
            <a:off x="684360" y="333360"/>
            <a:ext cx="3803400" cy="604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4788000" y="558972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宋楚瑜在上海浦东机场向送行人群招手致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5"/>
          <p:cNvSpPr/>
          <p:nvPr/>
        </p:nvSpPr>
        <p:spPr>
          <a:xfrm>
            <a:off x="1371600" y="1143000"/>
            <a:ext cx="6553080" cy="106668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362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本节小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国两制”伟大构想的提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09480" y="1905120"/>
            <a:ext cx="1524240" cy="838080"/>
          </a:xfrm>
          <a:prstGeom prst="downArrowCallout">
            <a:avLst>
              <a:gd name="adj1" fmla="val 45472"/>
              <a:gd name="adj2" fmla="val 45468"/>
              <a:gd name="adj3" fmla="val 16667"/>
              <a:gd name="adj4" fmla="val 6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914400" y="1905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733920" y="2133720"/>
            <a:ext cx="1676160" cy="838080"/>
          </a:xfrm>
          <a:prstGeom prst="downArrowCallout">
            <a:avLst>
              <a:gd name="adj1" fmla="val 50005"/>
              <a:gd name="adj2" fmla="val 50000"/>
              <a:gd name="adj3" fmla="val 16667"/>
              <a:gd name="adj4" fmla="val 6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65760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功实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7238880" y="1828800"/>
            <a:ext cx="1524240" cy="9144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54380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展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83200" y="2819520"/>
            <a:ext cx="115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港澳台问题的由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783600" y="2971800"/>
            <a:ext cx="1155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香港澳门回归祖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395120" y="274320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湾问题的前景与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但悲不见九州同：统一问题的由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中国图"/>
          <p:cNvPicPr/>
          <p:nvPr/>
        </p:nvPicPr>
        <p:blipFill>
          <a:blip r:embed="rId1"/>
          <a:stretch/>
        </p:blipFill>
        <p:spPr>
          <a:xfrm>
            <a:off x="762120" y="990720"/>
            <a:ext cx="7315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432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课后拓展学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129528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做题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一国两制构想是怎样形成的？怎样在香港问题上得到成功运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4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英国强迫清政府割让香港岛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中国恢复对香港行使主权，比较两件大事，谈谈你的主要感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做题：研究性学习课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你知道我在等你吗？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给台湾中学生的一封信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紫荆花开满园春，回归七年话香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755640" y="692280"/>
            <a:ext cx="7704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朝嘉靖三十二年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5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葡萄牙殖民主义者用欺骗的手段，强占了澳门。鸦片战争后，英国殖民主义者通过与腐败无能的清王朝签订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京条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条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拓香港界址专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不平等条约，霸占了香港、九龙半岛，强租了新界，并在殖民地区实行殖民统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国民党政府逃往台湾，将台湾与祖国大陆人为地分离开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水相隔不能统一，骨肉同胞不能团圆。历史的发展，使炎黄子孙面临着双重的使命：国家的统一与民族的富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中国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380880" y="9907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港、澳门、台湾问题的性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85800" y="24382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历史遗留问题和中国内政问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499200" y="501336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告台湾同胞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7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元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tai"/>
          <p:cNvPicPr/>
          <p:nvPr/>
        </p:nvPicPr>
        <p:blipFill>
          <a:blip r:embed="rId1"/>
          <a:stretch/>
        </p:blipFill>
        <p:spPr>
          <a:xfrm>
            <a:off x="1835280" y="620640"/>
            <a:ext cx="5976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NO_2148"/>
          <p:cNvPicPr/>
          <p:nvPr/>
        </p:nvPicPr>
        <p:blipFill>
          <a:blip r:embed="rId1"/>
          <a:stretch/>
        </p:blipFill>
        <p:spPr>
          <a:xfrm>
            <a:off x="1116000" y="765000"/>
            <a:ext cx="6553080" cy="4292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411280" y="5445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邓小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会见撒切尔夫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解决港、澳、台问题的原则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297144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统一   和平   发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7"/>
          <p:cNvSpPr/>
          <p:nvPr/>
        </p:nvSpPr>
        <p:spPr>
          <a:xfrm>
            <a:off x="304920" y="114300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束两岸分裂状态，实现祖国的统一是全国人民的共同愿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97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告台湾同胞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叶剑英发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于台湾回归祖国，实现和平统一的方针政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代初，邓小平提出一国两制的构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98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宪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规定了设立特别行政区的设想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人大通过了关于一国两制的政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52280" y="1522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阅读回答：“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一国两制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构想是怎么形成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6"/>
          <p:cNvSpPr txBox="1"/>
          <p:nvPr/>
        </p:nvSpPr>
        <p:spPr>
          <a:xfrm>
            <a:off x="4419720" y="380880"/>
            <a:ext cx="285732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学法小贴士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2209680"/>
            <a:ext cx="8839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过程类问题的一般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一步，简述形成或出现的背景或原因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二步，列举形成过程中的重要事件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三步，说出标志性事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06:19:11Z</dcterms:created>
  <dc:creator>sx</dc:creator>
  <dc:description/>
  <dc:language>en-US</dc:language>
  <cp:lastModifiedBy>a</cp:lastModifiedBy>
  <dcterms:modified xsi:type="dcterms:W3CDTF">2015-05-20T07:44:22Z</dcterms:modified>
  <cp:revision>54</cp:revision>
  <dc:subject/>
  <dc:title>一国两制和祖国统一大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