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CFB-EB11-4EA3-8ECC-091CF9B3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799-3D79-4406-B7B9-4055F48C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59E-1E2C-43E0-900A-563AC286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161-88B3-4D4B-9679-6A9EA91C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9531-88AA-4C66-AC11-421180BF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F8F9-C2A0-4CDB-AAF8-936135F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B9B5-29F6-47A9-9790-4B934A0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F3E-1889-4C59-AAF8-BA52BD4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FFF6-E77E-4117-9AD1-524B394E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A8E-84FD-49EF-8A1F-853117E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B22F-A29F-4AF3-9019-419C858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C1F-8E74-4C2B-A05A-71664ED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403-0EC6-4DE2-8E8E-AB89D2F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5AE0-8852-40CE-82E8-455AD329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0A91-E552-4CA3-BCF3-3B926EFB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4F0-183E-4DE3-A6BA-BD074D85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62F4-F4F4-4F6A-AAF6-2EA3065D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8B6-47A0-4E1C-88FD-F056C52C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CE0-8874-461B-98C5-0A8D2631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330-9B02-49F4-8063-45FF282F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D58-ED9B-4500-AC2B-B079EDF6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38F-07B4-473F-8B5B-0A4E345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6CD-E52E-4E26-A4C1-063AD2F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10C-F3B4-48A3-A350-8C8349BB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548A-1BCB-4BD1-B7BF-E95C6C649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F0A-7057-4378-A632-064CCB1B76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1C5C-7F01-4461-A7F7-FA7D6B35A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lap.wav" TargetMode="External"/><Relationship Id="rId3" Type="http://schemas.microsoft.com/office/2007/relationships/media" Target="file:///tmp/home/.config/libreoffice/4/user/gallery/clap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627280" y="549360"/>
            <a:ext cx="52135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efefe"/>
                  </a:solidFill>
                  <a:miter/>
                </a:ln>
                <a:solidFill>
                  <a:srgbClr val="ffffff"/>
                </a:solidFill>
                <a:effectLst>
                  <a:outerShdw dist="50933" dir="7495540" blurRad="0" rotWithShape="0">
                    <a:srgbClr val="000000">
                      <a:alpha val="34000"/>
                    </a:srgbClr>
                  </a:outerShdw>
                </a:effectLst>
                <a:latin typeface="微软雅黑"/>
              </a:rPr>
              <a:t>月光曲</a:t>
            </a:r>
            <a:endParaRPr b="0" lang="en-US" sz="2400" spc="1" strike="noStrike">
              <a:ln w="19080">
                <a:solidFill>
                  <a:srgbClr val="fefefe"/>
                </a:solidFill>
                <a:miter/>
              </a:ln>
              <a:solidFill>
                <a:srgbClr val="ffffff"/>
              </a:solidFill>
              <a:effectLst>
                <a:outerShdw dist="50933" dir="7495540" blurRad="0" rotWithShape="0">
                  <a:srgbClr val="000000">
                    <a:alpha val="3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509840" y="93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文分两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48080" y="18669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段（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45760" y="1843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304880" y="1828800"/>
            <a:ext cx="29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简单介绍著名的钢琴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德国音乐家贝多芬谱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461960" y="2816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段（         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330280" y="2816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788000" y="274320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介绍贝多芬谱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个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62880" y="36194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55240" y="3595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在散步时听到有人弹他的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918800" y="4052880"/>
            <a:ext cx="21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5151600" y="40528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走进茅屋，为盲姑娘弹了两首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928160" y="4510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955040" y="45100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根据记忆谱成了著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992520" y="32767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342880" y="103176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“断断续续”的钢琴声，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460600" y="17175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断续续”的钢琴声，说明盲姑娘喜欢贝多芬的曲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弹得不熟练；还说明贝多芬听到有人弹他得曲子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熟练，菜走进茅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28680" y="3241800"/>
            <a:ext cx="35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真是“随便说说”的吗？她为什么要对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这么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878200" y="4308480"/>
            <a:ext cx="39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便说说罢了”是盲姑娘对她哥哥的劝慰。她怕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为买不起音乐会的入场券而心里难过，所以这样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实她很想“听一听贝多芬自己是怎样弹的”，这表明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娘非常体谅哥哥的难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653200" y="914400"/>
            <a:ext cx="41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能听出贝多芬钢琴弹得纯熟，感情深，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什么？“您，您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……”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表达了盲姑娘怎样的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50840" y="18288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盲姑娘能听出贝多芬钢琴弹得纯熟，感情深，说明盲姑娘不仅爱音乐而且懂音乐。她从琴声中体会出演奏者的“感情多深”，从“纯熟”的演奏技巧中猜到演奏者就是贝多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85200" y="359712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从课文中哪些词句可以看出兄妹俩被美妙的琴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陶醉”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182120" y="460368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皮鞋匠静静地听着。”“月光正照在她那恬静地脸上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他们苏醒过来，贝多芬早已离开了茅屋。”从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句可以看出兄妹俩被美妙的琴声“陶醉”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706120" y="1600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多芬坐在钢琴前面，弹起盲姑娘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那首曲子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12120" y="21747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飞奔回客店，花了一夜工夫，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曲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了下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748160" y="955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两个句子中的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刚才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”分别指什么时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02000" y="324180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听到盲姑娘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她哥哥的谈话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2000" y="446076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为盲姑娘弹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一首曲子，盲姑娘听出他是贝多芬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415960" y="1415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为什么贝多芬要给盲姑娘弹钢琴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听到盲姑娘在弹他的曲子，十分渴望能听到他的演奏，可是家境贫苦，买不起音乐会的入场券，但她很懂事，体谅哥哥的难处，所以贝多芬决定亲自给盲姑娘弹钢琴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767760" y="1415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弹完一首，为什么又弹一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弹完一首，盲姑娘竟猜出他就是贝多芬。他见盲姑娘不仅爱音乐而且懂音乐，自己遇到了知音，于是即兴再为盲姑娘弹了一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59600" y="1415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是怎样吧第二首曲子记录下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即兴弹完第二首曲子后心情十分激动，飞奔回客店，连夜记录下了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月光曲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072160" y="882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再读课文，归纳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072880" y="16765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借助课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851920" y="2286000"/>
            <a:ext cx="38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首乐曲是谁谱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首乐曲是怎样谱写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36880" y="36781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故事的人物、起因、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结果，连起来说说，归纳课文主要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62680" y="982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203480" y="2098800"/>
            <a:ext cx="67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99ff"/>
                </a:solidFill>
                <a:latin typeface="Times New Roman"/>
              </a:rPr>
              <a:t>课文主要写贝多芬在散步时听到盲姑娘兄妹的谈话，就给盲姑娘弹了一首钢琴曲，盲姑娘猜出他就是贝多芬，他又即兴为盲姑娘弹了一曲，并飞奔回客店连夜记录了下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40080" y="1163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568960" y="1793880"/>
            <a:ext cx="20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语抄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意抄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背诵课文第九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9172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现在，让我们来欣赏一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947320" y="2117880"/>
            <a:ext cx="17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月光曲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738160" y="350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在曲子里听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00080" y="4800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听出贝多芬的心声了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2505240" y="1752480"/>
            <a:ext cx="412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下课</a:t>
            </a:r>
            <a:endParaRPr b="1" i="1" lang="en-US" sz="9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贝多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17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出生于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波恩一个音乐家的家庭。从小学习钢琴和小提琴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举行首次公开演奏会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开始作曲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定居维也纳。当时正是奥地利封建统治最黑暗的时代。他十分憎恨专权暴政，极其蔑视封建贵族的褊狭庸俗。他早年受到启蒙运动和法国资产阶级革命影响，毕生追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自由、平等、博爱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理想，不少作品反映了当时资产阶级反封建、争民主的革命热情及其理想中的英雄性格。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时，两耳失聪仍坚持创作。他一生谱写了许多著名的乐曲，主要作品有交响曲九部、钢琴奏鸣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。他的音乐创作，集古典派的大成，开浪漫派的先河，对欧洲音乐艺术的革新与发展，有着极其重要的影响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贝多芬在奥地利维也纳逝世，终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。贝多芬是欧洲音乐史上最伟大的音乐家，被人们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乐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他的所有作品在世界各地广为传诵，他的成功完全来之自身的艰苦奋斗，直到今日还被人们视为奋斗的楷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97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贝多芬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295280" y="17524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文中提到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贝多芬创作的一首著名的钢琴奏鸣曲。课文写的是关于贝多芬谱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传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传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民间流传的故事，不一定确有其事。但是，民间传说能够反映出人民群众的愿望和好恶。从贝多芬谱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传说中，我们可以看到贝多芬是怎样一位音乐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16720" y="91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词语注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21320" y="1447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幽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52720" y="1469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优雅寂静。课文中形容小路很偏僻，很清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21320" y="1927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琴键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655880" y="1905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风琴、钢琴等上面装置的白色或黑色的供演奏时按动的部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02132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霎时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3670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极短的一点时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06704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莱茵河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905120" y="29401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欧洲一条大河。源出瑞士境内的阿尔卑斯山，流经奥地利、法国、德国、荷兰等国。全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0213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谱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765520" y="367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写（歌曲或乐曲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11276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水天相接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185640" y="43578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水面广阔，远远看去，好像和天连接在一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1127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波涛汹涌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682720" y="5029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大浪猛烈地向上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11276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断断续续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728440" y="5638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会儿中断，一会儿继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61200" y="207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677600" y="16765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77600" y="25146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53200" y="1676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7273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46640" y="2514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97704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58840" y="259092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693080" y="3200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693800" y="4038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272320" y="3200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27232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9444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43160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294444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56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4444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25635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39351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6078960" y="1870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6690960" y="1828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109920" y="28605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671616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130104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多音字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61099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6093720" y="38926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6783840" y="385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50840" y="11844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恬静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有表示心里平静的意思。不同的是，“恬静”往往用于人的内心感到舒适而表露出一种平静的神态；“安静”除了表示心理活动，还可以用来描写环境没有声音的干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441960" y="4191120"/>
            <a:ext cx="22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夜深了，周围（            ）极了，一切都再沉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姑娘那（           ）的脸上嵌着一双水汪汪的大眼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670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恬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幽静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都有表示环境很静的意思。不同的是，“幽静”是优雅寂静，“静”有安静的意思；“清幽”是秀丽而幽静，“清”含有秀丽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60840" y="3657600"/>
            <a:ext cx="54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春天的樱花公园，（            ）的林中小道上不时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三两两的游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片树林远离大路，树木茂盛，显得很（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923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10064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苏醒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指醒过来，结束了原来好像睡着一样的糊涂状态。但“觉醒”指觉悟，用在思想上，表示认识问题从不清楚到清楚；“苏醒”原来的意思是昏迷后醒过来，指人失去知觉后得到恢复。也可以像课文中那样，用来描写出神后的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91320" y="4191120"/>
            <a:ext cx="50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巨大的教育攻势下，他终于（            ）了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政府交待自己的罪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他刚（           ）过来，就忙问：‘“那些书受损失吗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9162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563560" y="52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苏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3:29:1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52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