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7BF-935F-44C5-9318-3E63C6D1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F39-77D5-4523-8986-FCB9220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421-97B1-4B2B-A7E3-39CA0FD6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261-75DF-4348-A680-92DEF02D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3CEF-7A28-41C5-B6A0-E2C910D0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5D37-A4E2-49F0-AE6D-E25FDCD0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CFC3-66CE-416B-A0C0-1409943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9A89-9B59-49C0-8479-16EF208A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9FA8-2BC4-4A52-9F45-1DF8CC1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2AEA-6B9E-4A11-BABF-233F5E47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E640-1F68-4276-82F2-675237D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C93-83F9-46B5-A484-55A805DF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4E9A-E9A7-418B-87BC-DD46D1D5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B694-6AA3-4E78-91D4-07A3794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8DFB-F69E-463E-86AE-4E7A93EF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7E89-104C-4B23-9574-B8B61878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B27F-2EDD-4F8F-A5FE-58B9DB39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8A5-438A-4669-843C-D0FAB6F5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728-EE91-4E2F-B14D-9768EDFE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45B-52AA-41A0-9636-28C9CF6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DC2-05A6-491B-B9F4-7B087ED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CA6-269A-4E1E-BC14-E503F7F0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AD4-42FF-4CFA-9CFA-FBD0E31C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D6B-FA65-4B34-8DF7-0100023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B939-9141-4169-A5F9-C801626E5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3B6D-4E9D-41A3-AF11-75427D1951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C1FA-BD5B-4434-B31C-4A0ECB5004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1700280"/>
            <a:ext cx="77058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一个数乘小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44"/>
          <p:cNvSpPr/>
          <p:nvPr/>
        </p:nvSpPr>
        <p:spPr>
          <a:xfrm>
            <a:off x="5738760" y="4386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09480" y="8380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花布每米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.5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元，求买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0.5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米和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0.82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米各用多少元？怎样列式？</a:t>
            </a:r>
            <a:r>
              <a:rPr b="1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12" name="Group 43"/>
          <p:cNvGrpSpPr/>
          <p:nvPr/>
        </p:nvGrpSpPr>
        <p:grpSpPr>
          <a:xfrm>
            <a:off x="1600200" y="2940120"/>
            <a:ext cx="6555600" cy="1328040"/>
            <a:chOff x="1600200" y="2940120"/>
            <a:chExt cx="6555600" cy="1328040"/>
          </a:xfrm>
        </p:grpSpPr>
        <p:sp>
          <p:nvSpPr>
            <p:cNvPr id="113" name="Text Box 3"/>
            <p:cNvSpPr/>
            <p:nvPr/>
          </p:nvSpPr>
          <p:spPr>
            <a:xfrm>
              <a:off x="1600200" y="36255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14" name="Group 23"/>
            <p:cNvGrpSpPr/>
            <p:nvPr/>
          </p:nvGrpSpPr>
          <p:grpSpPr>
            <a:xfrm>
              <a:off x="2743200" y="4006440"/>
              <a:ext cx="5410080" cy="75960"/>
              <a:chOff x="2743200" y="4006440"/>
              <a:chExt cx="5410080" cy="75960"/>
            </a:xfrm>
          </p:grpSpPr>
          <p:sp>
            <p:nvSpPr>
              <p:cNvPr id="115" name="Line 4"/>
              <p:cNvSpPr/>
              <p:nvPr/>
            </p:nvSpPr>
            <p:spPr>
              <a:xfrm>
                <a:off x="2743200" y="4082400"/>
                <a:ext cx="541008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6" name="Line 5"/>
              <p:cNvSpPr/>
              <p:nvPr/>
            </p:nvSpPr>
            <p:spPr>
              <a:xfrm>
                <a:off x="274320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7" name="Line 7"/>
              <p:cNvSpPr/>
              <p:nvPr/>
            </p:nvSpPr>
            <p:spPr>
              <a:xfrm>
                <a:off x="381960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8" name="Line 8"/>
              <p:cNvSpPr/>
              <p:nvPr/>
            </p:nvSpPr>
            <p:spPr>
              <a:xfrm>
                <a:off x="329256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9" name="Line 9"/>
              <p:cNvSpPr/>
              <p:nvPr/>
            </p:nvSpPr>
            <p:spPr>
              <a:xfrm>
                <a:off x="438948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0" name="Line 10"/>
              <p:cNvSpPr/>
              <p:nvPr/>
            </p:nvSpPr>
            <p:spPr>
              <a:xfrm>
                <a:off x="546588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1" name="Line 11"/>
              <p:cNvSpPr/>
              <p:nvPr/>
            </p:nvSpPr>
            <p:spPr>
              <a:xfrm>
                <a:off x="493704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2" name="Line 12"/>
              <p:cNvSpPr/>
              <p:nvPr/>
            </p:nvSpPr>
            <p:spPr>
              <a:xfrm>
                <a:off x="599436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>
                <a:off x="707076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654192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5" name="Line 15"/>
              <p:cNvSpPr/>
              <p:nvPr/>
            </p:nvSpPr>
            <p:spPr>
              <a:xfrm>
                <a:off x="763272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6" name="Line 17"/>
              <p:cNvSpPr/>
              <p:nvPr/>
            </p:nvSpPr>
            <p:spPr>
              <a:xfrm>
                <a:off x="815328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27" name="AutoShape 20"/>
            <p:cNvSpPr/>
            <p:nvPr/>
          </p:nvSpPr>
          <p:spPr>
            <a:xfrm rot="5443800">
              <a:off x="5221080" y="995040"/>
              <a:ext cx="453600" cy="5410080"/>
            </a:xfrm>
            <a:custGeom>
              <a:avLst/>
              <a:gdLst>
                <a:gd name="textAreaLeft" fmla="*/ 289800 w 453600"/>
                <a:gd name="textAreaRight" fmla="*/ 453960 w 453600"/>
                <a:gd name="textAreaTop" fmla="*/ 162000 h 5410080"/>
                <a:gd name="textAreaBottom" fmla="*/ 5248080 h 541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5"/>
                    <a:pt x="10800" y="2070"/>
                  </a:cubicBezTo>
                  <a:lnTo>
                    <a:pt x="10800" y="8793"/>
                  </a:lnTo>
                  <a:cubicBezTo>
                    <a:pt x="10800" y="9828"/>
                    <a:pt x="5400" y="10863"/>
                    <a:pt x="0" y="10863"/>
                  </a:cubicBezTo>
                  <a:cubicBezTo>
                    <a:pt x="5400" y="10863"/>
                    <a:pt x="10800" y="11898"/>
                    <a:pt x="10800" y="12933"/>
                  </a:cubicBezTo>
                  <a:lnTo>
                    <a:pt x="10800" y="19530"/>
                  </a:lnTo>
                  <a:cubicBezTo>
                    <a:pt x="10800" y="2056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4952880" y="29401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13.5</a:t>
              </a:r>
              <a:r>
                <a:rPr b="1" lang="zh-CN" sz="32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29" name="Group 42"/>
          <p:cNvGrpSpPr/>
          <p:nvPr/>
        </p:nvGrpSpPr>
        <p:grpSpPr>
          <a:xfrm>
            <a:off x="1200240" y="4159080"/>
            <a:ext cx="4343400" cy="1099800"/>
            <a:chOff x="1200240" y="4159080"/>
            <a:chExt cx="4343400" cy="1099800"/>
          </a:xfrm>
        </p:grpSpPr>
        <p:grpSp>
          <p:nvGrpSpPr>
            <p:cNvPr id="130" name="Group 38"/>
            <p:cNvGrpSpPr/>
            <p:nvPr/>
          </p:nvGrpSpPr>
          <p:grpSpPr>
            <a:xfrm>
              <a:off x="2724120" y="4997160"/>
              <a:ext cx="2743200" cy="76320"/>
              <a:chOff x="2724120" y="4997160"/>
              <a:chExt cx="2743200" cy="76320"/>
            </a:xfrm>
          </p:grpSpPr>
          <p:sp>
            <p:nvSpPr>
              <p:cNvPr id="131" name="Line 25"/>
              <p:cNvSpPr/>
              <p:nvPr/>
            </p:nvSpPr>
            <p:spPr>
              <a:xfrm>
                <a:off x="2724120" y="5073480"/>
                <a:ext cx="274320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2" name="Line 26"/>
              <p:cNvSpPr/>
              <p:nvPr/>
            </p:nvSpPr>
            <p:spPr>
              <a:xfrm>
                <a:off x="272412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3" name="Line 27"/>
              <p:cNvSpPr/>
              <p:nvPr/>
            </p:nvSpPr>
            <p:spPr>
              <a:xfrm>
                <a:off x="380052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4" name="Line 28"/>
              <p:cNvSpPr/>
              <p:nvPr/>
            </p:nvSpPr>
            <p:spPr>
              <a:xfrm>
                <a:off x="327348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5" name="Line 29"/>
              <p:cNvSpPr/>
              <p:nvPr/>
            </p:nvSpPr>
            <p:spPr>
              <a:xfrm>
                <a:off x="437040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6" name="Line 30"/>
              <p:cNvSpPr/>
              <p:nvPr/>
            </p:nvSpPr>
            <p:spPr>
              <a:xfrm>
                <a:off x="544680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7" name="Line 31"/>
              <p:cNvSpPr/>
              <p:nvPr/>
            </p:nvSpPr>
            <p:spPr>
              <a:xfrm>
                <a:off x="491796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38" name="Text Box 37"/>
            <p:cNvSpPr/>
            <p:nvPr/>
          </p:nvSpPr>
          <p:spPr>
            <a:xfrm>
              <a:off x="1200240" y="46162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0.5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AutoShape 39"/>
            <p:cNvSpPr/>
            <p:nvPr/>
          </p:nvSpPr>
          <p:spPr>
            <a:xfrm rot="5443800">
              <a:off x="3868560" y="3395520"/>
              <a:ext cx="454320" cy="2743200"/>
            </a:xfrm>
            <a:custGeom>
              <a:avLst/>
              <a:gdLst>
                <a:gd name="textAreaLeft" fmla="*/ 290160 w 454320"/>
                <a:gd name="textAreaRight" fmla="*/ 454680 w 454320"/>
                <a:gd name="textAreaTop" fmla="*/ 82080 h 2743200"/>
                <a:gd name="textAreaBottom" fmla="*/ 26611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5"/>
                    <a:pt x="10800" y="2070"/>
                  </a:cubicBezTo>
                  <a:lnTo>
                    <a:pt x="10800" y="8793"/>
                  </a:lnTo>
                  <a:cubicBezTo>
                    <a:pt x="10800" y="9828"/>
                    <a:pt x="5400" y="10863"/>
                    <a:pt x="0" y="10863"/>
                  </a:cubicBezTo>
                  <a:cubicBezTo>
                    <a:pt x="5400" y="10863"/>
                    <a:pt x="10800" y="11898"/>
                    <a:pt x="10800" y="12933"/>
                  </a:cubicBezTo>
                  <a:lnTo>
                    <a:pt x="10800" y="19530"/>
                  </a:lnTo>
                  <a:cubicBezTo>
                    <a:pt x="10800" y="2056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3791160" y="4159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Line 41"/>
            <p:cNvSpPr/>
            <p:nvPr/>
          </p:nvSpPr>
          <p:spPr>
            <a:xfrm>
              <a:off x="5467320" y="4159080"/>
              <a:ext cx="0" cy="83808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2" name="Group 58"/>
          <p:cNvGrpSpPr/>
          <p:nvPr/>
        </p:nvGrpSpPr>
        <p:grpSpPr>
          <a:xfrm>
            <a:off x="1219320" y="4114800"/>
            <a:ext cx="5944680" cy="2065320"/>
            <a:chOff x="1219320" y="4114800"/>
            <a:chExt cx="5944680" cy="2065320"/>
          </a:xfrm>
        </p:grpSpPr>
        <p:sp>
          <p:nvSpPr>
            <p:cNvPr id="143" name="Text Box 53"/>
            <p:cNvSpPr/>
            <p:nvPr/>
          </p:nvSpPr>
          <p:spPr>
            <a:xfrm>
              <a:off x="1219320" y="55375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0.82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44" name="Group 57"/>
            <p:cNvGrpSpPr/>
            <p:nvPr/>
          </p:nvGrpSpPr>
          <p:grpSpPr>
            <a:xfrm>
              <a:off x="2738520" y="5440320"/>
              <a:ext cx="4425480" cy="570960"/>
              <a:chOff x="2738520" y="5440320"/>
              <a:chExt cx="4425480" cy="570960"/>
            </a:xfrm>
          </p:grpSpPr>
          <p:sp>
            <p:nvSpPr>
              <p:cNvPr id="145" name="Line 46"/>
              <p:cNvSpPr/>
              <p:nvPr/>
            </p:nvSpPr>
            <p:spPr>
              <a:xfrm>
                <a:off x="2743200" y="6011280"/>
                <a:ext cx="441972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6" name="Line 47"/>
              <p:cNvSpPr/>
              <p:nvPr/>
            </p:nvSpPr>
            <p:spPr>
              <a:xfrm>
                <a:off x="2743200" y="5932800"/>
                <a:ext cx="0" cy="7848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7" name="Line 52"/>
              <p:cNvSpPr/>
              <p:nvPr/>
            </p:nvSpPr>
            <p:spPr>
              <a:xfrm>
                <a:off x="7162920" y="5932800"/>
                <a:ext cx="0" cy="7848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8" name="AutoShape 54"/>
              <p:cNvSpPr/>
              <p:nvPr/>
            </p:nvSpPr>
            <p:spPr>
              <a:xfrm rot="5443800">
                <a:off x="4716000" y="3493440"/>
                <a:ext cx="470520" cy="4419720"/>
              </a:xfrm>
              <a:custGeom>
                <a:avLst/>
                <a:gdLst>
                  <a:gd name="textAreaLeft" fmla="*/ 300600 w 470520"/>
                  <a:gd name="textAreaRight" fmla="*/ 470880 w 470520"/>
                  <a:gd name="textAreaTop" fmla="*/ 132480 h 4419720"/>
                  <a:gd name="textAreaBottom" fmla="*/ 428724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035"/>
                      <a:pt x="10800" y="2070"/>
                    </a:cubicBezTo>
                    <a:lnTo>
                      <a:pt x="10800" y="8793"/>
                    </a:lnTo>
                    <a:cubicBezTo>
                      <a:pt x="10800" y="9828"/>
                      <a:pt x="5400" y="10863"/>
                      <a:pt x="0" y="10863"/>
                    </a:cubicBezTo>
                    <a:cubicBezTo>
                      <a:pt x="5400" y="10863"/>
                      <a:pt x="10800" y="11898"/>
                      <a:pt x="10800" y="12933"/>
                    </a:cubicBezTo>
                    <a:lnTo>
                      <a:pt x="10800" y="19530"/>
                    </a:lnTo>
                    <a:cubicBezTo>
                      <a:pt x="10800" y="20565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49" name="Text Box 55"/>
            <p:cNvSpPr/>
            <p:nvPr/>
          </p:nvSpPr>
          <p:spPr>
            <a:xfrm>
              <a:off x="4648320" y="5063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>
              <a:off x="7162920" y="4114800"/>
              <a:ext cx="0" cy="18972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468520" y="1143000"/>
            <a:ext cx="33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13.5×0.5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Group 53"/>
          <p:cNvGrpSpPr/>
          <p:nvPr/>
        </p:nvGrpSpPr>
        <p:grpSpPr>
          <a:xfrm>
            <a:off x="1447920" y="2666880"/>
            <a:ext cx="2133000" cy="1752480"/>
            <a:chOff x="1447920" y="2666880"/>
            <a:chExt cx="2133000" cy="1752480"/>
          </a:xfrm>
        </p:grpSpPr>
        <p:sp>
          <p:nvSpPr>
            <p:cNvPr id="153" name="Text Box 4"/>
            <p:cNvSpPr/>
            <p:nvPr/>
          </p:nvSpPr>
          <p:spPr>
            <a:xfrm>
              <a:off x="1981080" y="2666880"/>
              <a:ext cx="1523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13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2247840" y="3429000"/>
              <a:ext cx="133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0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1447920" y="362556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1523880" y="4419360"/>
              <a:ext cx="18284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Group 54"/>
          <p:cNvGrpSpPr/>
          <p:nvPr/>
        </p:nvGrpSpPr>
        <p:grpSpPr>
          <a:xfrm>
            <a:off x="3733920" y="2666880"/>
            <a:ext cx="2209680" cy="459720"/>
            <a:chOff x="3733920" y="2666880"/>
            <a:chExt cx="2209680" cy="459720"/>
          </a:xfrm>
        </p:grpSpPr>
        <p:sp>
          <p:nvSpPr>
            <p:cNvPr id="158" name="Line 9"/>
            <p:cNvSpPr/>
            <p:nvPr/>
          </p:nvSpPr>
          <p:spPr>
            <a:xfrm>
              <a:off x="3733920" y="312408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411480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0" name="Text Box 11"/>
          <p:cNvSpPr/>
          <p:nvPr/>
        </p:nvSpPr>
        <p:spPr>
          <a:xfrm>
            <a:off x="6629400" y="2666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1" name="Group 55"/>
          <p:cNvGrpSpPr/>
          <p:nvPr/>
        </p:nvGrpSpPr>
        <p:grpSpPr>
          <a:xfrm>
            <a:off x="3733920" y="3429000"/>
            <a:ext cx="2209680" cy="459720"/>
            <a:chOff x="3733920" y="3429000"/>
            <a:chExt cx="2209680" cy="459720"/>
          </a:xfrm>
        </p:grpSpPr>
        <p:sp>
          <p:nvSpPr>
            <p:cNvPr id="162" name="Line 12"/>
            <p:cNvSpPr/>
            <p:nvPr/>
          </p:nvSpPr>
          <p:spPr>
            <a:xfrm>
              <a:off x="3733920" y="388620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4071960" y="3429000"/>
              <a:ext cx="15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4" name="Text Box 14"/>
          <p:cNvSpPr/>
          <p:nvPr/>
        </p:nvSpPr>
        <p:spPr>
          <a:xfrm>
            <a:off x="7238880" y="3443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248520" y="3581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6248520" y="4419720"/>
            <a:ext cx="16002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6629400" y="439596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67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8" name="Group 56"/>
          <p:cNvGrpSpPr/>
          <p:nvPr/>
        </p:nvGrpSpPr>
        <p:grpSpPr>
          <a:xfrm>
            <a:off x="3733920" y="4419720"/>
            <a:ext cx="2438280" cy="459720"/>
            <a:chOff x="3733920" y="4419720"/>
            <a:chExt cx="2438280" cy="459720"/>
          </a:xfrm>
        </p:grpSpPr>
        <p:sp>
          <p:nvSpPr>
            <p:cNvPr id="169" name="Line 18"/>
            <p:cNvSpPr/>
            <p:nvPr/>
          </p:nvSpPr>
          <p:spPr>
            <a:xfrm flipH="1">
              <a:off x="3733920" y="48769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3853080" y="4419720"/>
              <a:ext cx="23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缩小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×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71" name="Text Box 20"/>
          <p:cNvSpPr/>
          <p:nvPr/>
        </p:nvSpPr>
        <p:spPr>
          <a:xfrm>
            <a:off x="1676520" y="441972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6.7 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5668920" y="1127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Times New Roman"/>
              </a:rPr>
              <a:t>6.7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09680" y="1143000"/>
            <a:ext cx="37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13.5×0.82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4" name="Group 31"/>
          <p:cNvGrpSpPr/>
          <p:nvPr/>
        </p:nvGrpSpPr>
        <p:grpSpPr>
          <a:xfrm>
            <a:off x="1219320" y="2286000"/>
            <a:ext cx="2286000" cy="2318400"/>
            <a:chOff x="1219320" y="2286000"/>
            <a:chExt cx="2286000" cy="2318400"/>
          </a:xfrm>
        </p:grpSpPr>
        <p:sp>
          <p:nvSpPr>
            <p:cNvPr id="175" name="Text Box 4"/>
            <p:cNvSpPr/>
            <p:nvPr/>
          </p:nvSpPr>
          <p:spPr>
            <a:xfrm>
              <a:off x="1981440" y="2286000"/>
              <a:ext cx="1523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13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1905120" y="3048120"/>
              <a:ext cx="1562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0.82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1219320" y="31687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1295640" y="4038480"/>
              <a:ext cx="20574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3733920" y="2286000"/>
            <a:ext cx="2209680" cy="459720"/>
            <a:chOff x="3733920" y="2286000"/>
            <a:chExt cx="2209680" cy="459720"/>
          </a:xfrm>
        </p:grpSpPr>
        <p:sp>
          <p:nvSpPr>
            <p:cNvPr id="180" name="Line 9"/>
            <p:cNvSpPr/>
            <p:nvPr/>
          </p:nvSpPr>
          <p:spPr>
            <a:xfrm>
              <a:off x="3733920" y="274320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4114800" y="2286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2" name="Text Box 11"/>
          <p:cNvSpPr/>
          <p:nvPr/>
        </p:nvSpPr>
        <p:spPr>
          <a:xfrm>
            <a:off x="6629400" y="22860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3" name="Group 12"/>
          <p:cNvGrpSpPr/>
          <p:nvPr/>
        </p:nvGrpSpPr>
        <p:grpSpPr>
          <a:xfrm>
            <a:off x="3733920" y="3048120"/>
            <a:ext cx="2209680" cy="459720"/>
            <a:chOff x="3733920" y="3048120"/>
            <a:chExt cx="2209680" cy="459720"/>
          </a:xfrm>
        </p:grpSpPr>
        <p:sp>
          <p:nvSpPr>
            <p:cNvPr id="184" name="Line 13"/>
            <p:cNvSpPr/>
            <p:nvPr/>
          </p:nvSpPr>
          <p:spPr>
            <a:xfrm>
              <a:off x="3733920" y="35053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4071960" y="3048120"/>
              <a:ext cx="15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6934320" y="30621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82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2485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6172200" y="4038480"/>
            <a:ext cx="175248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6019920" y="533412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10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0" name="Group 19"/>
          <p:cNvGrpSpPr/>
          <p:nvPr/>
        </p:nvGrpSpPr>
        <p:grpSpPr>
          <a:xfrm>
            <a:off x="3733920" y="5334120"/>
            <a:ext cx="2438280" cy="459720"/>
            <a:chOff x="3733920" y="5334120"/>
            <a:chExt cx="2438280" cy="459720"/>
          </a:xfrm>
        </p:grpSpPr>
        <p:sp>
          <p:nvSpPr>
            <p:cNvPr id="191" name="Line 20"/>
            <p:cNvSpPr/>
            <p:nvPr/>
          </p:nvSpPr>
          <p:spPr>
            <a:xfrm flipH="1">
              <a:off x="3733920" y="57913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853080" y="5334120"/>
              <a:ext cx="23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缩小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×10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1295280" y="5334120"/>
            <a:ext cx="221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1.0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5668920" y="1127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Times New Roman"/>
              </a:rPr>
              <a:t>11.0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6629400" y="388620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2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019920" y="443376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08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Line 26"/>
          <p:cNvSpPr/>
          <p:nvPr/>
        </p:nvSpPr>
        <p:spPr>
          <a:xfrm>
            <a:off x="6095880" y="5334120"/>
            <a:ext cx="18288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2971800" y="5410080"/>
            <a:ext cx="304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914400" y="1447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华文楷体"/>
                <a:ea typeface="华文楷体"/>
              </a:rPr>
              <a:t>    </a:t>
            </a:r>
            <a:r>
              <a:rPr b="0" lang="zh-CN" sz="4800" spc="-1" strike="noStrike">
                <a:solidFill>
                  <a:srgbClr val="545472"/>
                </a:solidFill>
                <a:latin typeface="华文楷体"/>
                <a:ea typeface="华文楷体"/>
              </a:rPr>
              <a:t>计算小数乘法，先按照整数乘法的法则算出积，再看因数中一共有几位小数，就从积的右边数出几位，点上小数点．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pic>
          <p:nvPicPr>
            <p:cNvPr id="2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2:36:0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47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