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D9E-5D05-4A5D-88CC-797DEEC1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B49-FD3C-47EA-833F-4D999F34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7FF-9AE4-4110-86F4-14626EA5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C0A-4BFA-4E9F-BDE3-39BD4511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1C8-3903-4B38-99B2-2D7D6D5F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584-2293-4D46-AF05-08EC846B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23D-6D5E-4E88-8C37-496249DE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DCE-1A4C-4E45-BD5E-CD5F1441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0A8-AE2E-44C4-B4A9-D9B0EE0D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002-5832-445A-8228-D813DF0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576-8DF1-4409-ACC6-AA198F5E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509-105F-4206-B0C6-80AF38E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A955-F056-4BFF-BAC2-0204DE3A3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9" descr="E:\My Documents\My Pictures\西湖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28"/>
          <p:cNvSpPr/>
          <p:nvPr/>
        </p:nvSpPr>
        <p:spPr>
          <a:xfrm>
            <a:off x="1677960" y="533520"/>
            <a:ext cx="383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饮湖上初晴后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苏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水光潋滟晴方好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山色空蒙雨亦奇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欲把西湖比西子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淡妆浓抹总相宜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2034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22120" y="2438280"/>
            <a:ext cx="892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、有感情朗读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饮湖上初晴后雨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读了古诗，你想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、把你想到的说给大家听。其他同学可做补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921760" y="838080"/>
            <a:ext cx="185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读一读，想一想，说一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530208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http://m14.mk.cnb.yahoo.com/cgi-bin/Image/tnc3/1071,1e32036,c22,1"/>
          <p:cNvPicPr/>
          <p:nvPr/>
        </p:nvPicPr>
        <p:blipFill>
          <a:blip r:embed="rId1"/>
          <a:stretch/>
        </p:blipFill>
        <p:spPr>
          <a:xfrm>
            <a:off x="1828800" y="2362320"/>
            <a:ext cx="5334120" cy="273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http://www.hs-cq.com/uploadfile/200452017526101.jpg"/>
          <p:cNvPicPr/>
          <p:nvPr/>
        </p:nvPicPr>
        <p:blipFill>
          <a:blip r:embed="rId2"/>
          <a:stretch/>
        </p:blipFill>
        <p:spPr>
          <a:xfrm>
            <a:off x="533520" y="2057400"/>
            <a:ext cx="815328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3513240" y="278280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027240" y="9144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西湖美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513240" y="278280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http://m16.mk.cnb.yahoo.com/cgi-bin/Image/tnc3/2878,1f599af,dad,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3627360" y="291456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627360" y="295416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http://m23.mk.cnb.yahoo.com/cgi-bin/Image/tnc3/8376,e2f69b,a18,1"/>
          <p:cNvPicPr/>
          <p:nvPr/>
        </p:nvPicPr>
        <p:blipFill>
          <a:blip r:embed="rId1"/>
          <a:stretch/>
        </p:blipFill>
        <p:spPr>
          <a:xfrm>
            <a:off x="6858000" y="1219320"/>
            <a:ext cx="137160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627360" y="284652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http://m15.mk.cnb.yahoo.com/cgi-bin/Image/tnc3/1799,11eb33f,cea,1"/>
          <p:cNvPicPr/>
          <p:nvPr/>
        </p:nvPicPr>
        <p:blipFill>
          <a:blip r:embed="rId2"/>
          <a:stretch/>
        </p:blipFill>
        <p:spPr>
          <a:xfrm>
            <a:off x="3886200" y="2892600"/>
            <a:ext cx="1371600" cy="1074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3513240" y="289260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http://m13.mk.cnb.yahoo.com/cgi-bin/Image/tnc3/428,1e6f512,f94,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http://m18.mk.cnb.yahoo.com/cgi-bin/Image/tnc3/4713,2c8bddb,851,1"/>
          <p:cNvPicPr/>
          <p:nvPr/>
        </p:nvPicPr>
        <p:blipFill>
          <a:blip r:embed="rId1"/>
          <a:stretch/>
        </p:blipFill>
        <p:spPr>
          <a:xfrm>
            <a:off x="3772080" y="2868480"/>
            <a:ext cx="1600200" cy="1121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m21.mk.cnb.yahoo.com/cgi-bin/Image/tnc3/6998,1ebcc4f,cdb,1"/>
          <p:cNvPicPr/>
          <p:nvPr/>
        </p:nvPicPr>
        <p:blipFill>
          <a:blip r:embed="rId2"/>
          <a:stretch/>
        </p:blipFill>
        <p:spPr>
          <a:xfrm>
            <a:off x="1447920" y="4191120"/>
            <a:ext cx="1600200" cy="1131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3570120" y="282240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http://m21.mk.cnb.yahoo.com/cgi-bin/Image/tnc3/6649,1e7c189,e63,1"/>
          <p:cNvPicPr/>
          <p:nvPr/>
        </p:nvPicPr>
        <p:blipFill>
          <a:blip r:embed="rId3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513240" y="282240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513240" y="281772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798720" y="263988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http://m13.mk.cnb.yahoo.com/cgi-bin/Image/tnc3/441,228b9e3,102a,1"/>
          <p:cNvPicPr/>
          <p:nvPr/>
        </p:nvPicPr>
        <p:blipFill>
          <a:blip r:embed="rId1"/>
          <a:stretch/>
        </p:blipFill>
        <p:spPr>
          <a:xfrm>
            <a:off x="4057560" y="2685960"/>
            <a:ext cx="1028880" cy="1486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627360" y="292572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http://m14.mk.cnb.yahoo.com/cgi-bin/Image/tnc3/1585,d8541e,ad0,1"/>
          <p:cNvPicPr/>
          <p:nvPr/>
        </p:nvPicPr>
        <p:blipFill>
          <a:blip r:embed="rId2"/>
          <a:stretch/>
        </p:blipFill>
        <p:spPr>
          <a:xfrm>
            <a:off x="1905120" y="1676520"/>
            <a:ext cx="5790960" cy="3581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3627360" y="2754360"/>
            <a:ext cx="896148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http://m18.mk.cnb.yahoo.com/cgi-bin/Image/tnc3/4717,1d6e707,1536,1"/>
          <p:cNvPicPr/>
          <p:nvPr/>
        </p:nvPicPr>
        <p:blipFill>
          <a:blip r:embed="rId3"/>
          <a:stretch/>
        </p:blipFill>
        <p:spPr>
          <a:xfrm>
            <a:off x="685800" y="304920"/>
            <a:ext cx="7086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32:26Z</dcterms:created>
  <dc:creator>An</dc:creator>
  <dc:description>ppt模板下载网站 http://www.eeppt.com</dc:description>
  <cp:keywords>ppt模板下载网站 http:/www.eeppt.com</cp:keywords>
  <dc:language>en-US</dc:language>
  <cp:lastModifiedBy>a</cp:lastModifiedBy>
  <dcterms:modified xsi:type="dcterms:W3CDTF">2015-05-20T07:46:4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