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33F-5521-4EB6-9B84-6EFF2C13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80E-F696-4070-95C8-BDB82413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891-B883-41F2-AB94-4DFD7B36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AD3-8EEE-404A-A7A8-2FDEE0BB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3F99-098D-4C33-A016-A3EE7CB9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1A61-FD9A-4AC2-AEFA-B7A9B479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427-3F1C-4644-8CD1-CD240E88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8FD7-6256-45C3-BDAC-6F25E867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39E1-DE72-40ED-A584-61CE475A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50A0-A40E-4314-BB64-5FB913B4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AE4B-C9BB-493E-9941-28F80C01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9DB-6272-4CAE-BC3D-81C455EA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EA5B-BE26-4A83-8851-5A827CC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EB1-75CF-4077-AF86-5EE4E77D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6CF4-6992-4966-A00E-E1D40397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9F5E-915F-4566-990C-4913A00D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EC8-E9DC-41AB-91BA-ED4782B1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832-1CC4-491E-95CA-A95652DE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D9B-B834-43AE-9382-6BD425CA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BE2-A176-4E2E-B1E9-B299C4FE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FB7-63C1-46F9-AB4C-F103AF5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B84-EF15-415B-BD75-BBE9C63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62A-78A2-4567-A663-B41000EB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8F8-8F16-4699-AE73-6038BB3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1AAC-5DAB-4DE9-9117-5BE678469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BDC7-88DD-4F37-A31C-AC9257AEAE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5B64-369D-465B-B4E1-5FE2F5A1C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3652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15108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的心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3429000" cy="3362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419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63600" y="685800"/>
            <a:ext cx="635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  女儿  儿女  女同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  太好了 太累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  早晨   很早  早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  天气   生气  空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  明亮   光亮  亮晶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  回去   来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3772080" cy="2031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665360" y="2895480"/>
            <a:ext cx="581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深了，月亮透过窗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见一个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睡在床上，身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包，里面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水果和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855800" y="2209680"/>
            <a:ext cx="581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自言自语地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去郊游，得去跟太阳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商量商量，让明天有个好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4_23"/>
          <p:cNvPicPr/>
          <p:nvPr/>
        </p:nvPicPr>
        <p:blipFill>
          <a:blip r:embed="rId1"/>
          <a:stretch/>
        </p:blipFill>
        <p:spPr>
          <a:xfrm>
            <a:off x="1066680" y="228600"/>
            <a:ext cx="19051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147040" y="3124080"/>
            <a:ext cx="459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又来到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家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前，只见一个小女孩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照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妈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4952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3886200" cy="17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76320" y="2209680"/>
            <a:ext cx="8915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“珍珍，早点儿睡吧，不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，明天你还要去郊游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，我不想去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天还是和大家一起去玩玩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是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说您的病还没好呢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913320" y="1752480"/>
            <a:ext cx="7312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珍珍，早点儿睡吧，不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太累了，明天你还要去郊游呢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妈妈，我不想去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明天还是和大家一起去玩玩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可是，医生说您的病还没好呢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20320" y="304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清是谁说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4920" y="228600"/>
            <a:ext cx="388620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53080" y="1828800"/>
            <a:ext cx="6910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亮悄悄地离开了窗户，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想：“我去跟雷公公说说，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还是下雨吧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4_23"/>
          <p:cNvPicPr/>
          <p:nvPr/>
        </p:nvPicPr>
        <p:blipFill>
          <a:blip r:embed="rId1"/>
          <a:stretch/>
        </p:blipFill>
        <p:spPr>
          <a:xfrm>
            <a:off x="914400" y="177840"/>
            <a:ext cx="17524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861640" y="1600200"/>
            <a:ext cx="349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天后的一个艳阳天，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们一个都不少，排着队，愉快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在郊游的路上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78720" y="1905120"/>
            <a:ext cx="67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i   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g     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zhu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90120" y="3505320"/>
            <a:ext cx="786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累   户   帘   病   装   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900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会连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66680" y="2438280"/>
            <a:ext cx="274320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H="1">
            <a:off x="837720" y="2438280"/>
            <a:ext cx="167652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2362320" y="2438280"/>
            <a:ext cx="129528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4648320" y="2514600"/>
            <a:ext cx="8380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6477120" y="2590920"/>
            <a:ext cx="182880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>
            <a:off x="6781680" y="2438280"/>
            <a:ext cx="106704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2:59:54Z</dcterms:created>
  <dc:creator>An</dc:creator>
  <dc:description/>
  <dc:language>en-US</dc:language>
  <cp:lastModifiedBy/>
  <dcterms:modified xsi:type="dcterms:W3CDTF">2015-05-20T04:17:51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