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gif" ContentType="image/gif"/>
  <Override PartName="/ppt/media/image23.wmf" ContentType="image/x-wmf"/>
  <Override PartName="/ppt/media/image26.wmf" ContentType="image/x-wmf"/>
  <Override PartName="/ppt/media/image3.gif" ContentType="image/gif"/>
  <Override PartName="/ppt/media/image14.wmf" ContentType="image/x-wmf"/>
  <Override PartName="/ppt/media/image6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3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1.png" ContentType="image/png"/>
  <Override PartName="/ppt/media/image11.wmf" ContentType="image/x-wmf"/>
  <Override PartName="/ppt/media/image15.gif" ContentType="image/gif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52C-B3BC-4743-9490-6F623B70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633-2808-484D-8062-83B4F74E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CC3-2802-4ADA-8D18-00A95CC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54A-3451-4CC5-8BED-744EEE58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FD10-7494-44CF-B18C-ED8EE062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6087-F689-45ED-812F-7118689B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EE95-FE2C-4933-8B98-831CC117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ACD2-8669-4AEE-B7BC-3DE7DC41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B844-C87A-4740-A3C2-93567A82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CC71-9EF6-4A2E-B691-D63EEF19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4C24-FFBF-424B-84F9-4108EE7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557-A0C2-46E4-87CD-0F1842C7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C26A-6A73-4C82-9777-0C67A5C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26FF-E326-46EF-B1AD-065D5DA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4CEC-463B-4EF3-BC46-C105E742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8554-E767-40EC-B7BD-3924492C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A755-DC42-419D-8A73-F04A6274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26B5-B6D7-4437-95E4-B8BC884B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AB10-5F6B-4BF9-8BB9-DC05F476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279C-FAB9-46C0-BDCC-28568143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FB830-5398-4104-AE3E-2274E46B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5C03-B7DE-494C-B69B-6224D1B9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817-470F-458D-BC04-003EF1F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DD13-2697-4638-BB67-CF55ED03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498E-B4F5-4AB9-AF8D-0998899B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42F3-5250-4704-B813-D92CBB4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A126-2B0A-4B13-9FBB-A9247512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BEEC-BABB-4F68-B7BC-2C1C0C74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2648-0DBF-4D69-ADAF-DD872BCB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5D670-2163-4541-AA35-F325914D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7AB-AB0A-4772-B80E-C25F4680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A62-B715-4EC9-B3BF-003CAB1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CA3-0DC9-43B3-915E-E7C551F8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6C6-4877-4C5F-96E5-A846E4AC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C9E-4FE3-4FEF-9B79-EDE3676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937-D47F-460C-9368-61419D5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457-427C-4366-A687-30D02A1CA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026C-924B-43E6-B975-884B92FE0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BEAD-9E95-41D9-B626-A312850174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1B38-E600-4C18-AE09-5BA76635D0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1979640" y="260280"/>
            <a:ext cx="529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义务教育课程标准实验教科书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浙教版数学七年级上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WordArt 6" descr=""/>
          <p:cNvPicPr/>
          <p:nvPr/>
        </p:nvPicPr>
        <p:blipFill>
          <a:blip r:embed="rId1"/>
          <a:stretch/>
        </p:blipFill>
        <p:spPr>
          <a:xfrm>
            <a:off x="792000" y="2266920"/>
            <a:ext cx="62312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科技"/>
          <p:cNvPicPr/>
          <p:nvPr/>
        </p:nvPicPr>
        <p:blipFill>
          <a:blip r:embed="rId1"/>
          <a:stretch/>
        </p:blipFill>
        <p:spPr>
          <a:xfrm>
            <a:off x="0" y="1773360"/>
            <a:ext cx="3241800" cy="2501640"/>
          </a:xfrm>
          <a:prstGeom prst="rect">
            <a:avLst/>
          </a:prstGeom>
          <a:ln w="0">
            <a:noFill/>
          </a:ln>
        </p:spPr>
      </p:pic>
      <p:pic>
        <p:nvPicPr>
          <p:cNvPr id="284" name="WordArt 4" descr=""/>
          <p:cNvPicPr/>
          <p:nvPr/>
        </p:nvPicPr>
        <p:blipFill>
          <a:blip r:embed="rId2"/>
          <a:stretch/>
        </p:blipFill>
        <p:spPr>
          <a:xfrm>
            <a:off x="2193840" y="2127240"/>
            <a:ext cx="6492960" cy="1328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书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508720" y="3462480"/>
            <a:ext cx="3068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042920" y="620640"/>
            <a:ext cx="856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×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÷9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由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×2=-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÷2=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由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1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            18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×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6.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6.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95280" y="4292640"/>
            <a:ext cx="73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观察上面的结果，两个有理数相除，商的符号有什么规律？商的绝对值呢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76200" y="63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250920" y="189000"/>
            <a:ext cx="1224000" cy="504720"/>
          </a:xfrm>
          <a:prstGeom prst="wedgeRectCallout">
            <a:avLst>
              <a:gd name="adj1" fmla="val 34175"/>
              <a:gd name="adj2" fmla="val 11100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探索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797000" y="1052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405920" y="1052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805560" y="1916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-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8181360" y="19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4092840" y="27813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-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477200" y="27813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4436640" y="3645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489240" y="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有理数除法法则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24000" y="404640"/>
            <a:ext cx="635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两数相除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同号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___,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异号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___,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并把绝对值相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____.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除以任何一个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不等于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的数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都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203640" y="26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181480" y="228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057400" y="6858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195640" y="126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0" y="2133720"/>
            <a:ext cx="1476360" cy="574560"/>
          </a:xfrm>
          <a:prstGeom prst="cloudCallout">
            <a:avLst>
              <a:gd name="adj1" fmla="val 99569"/>
              <a:gd name="adj2" fmla="val 7182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口答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761200" y="1773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先说出商的符号，再说出商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835280" y="2781360"/>
            <a:ext cx="410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÷4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÷3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3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6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2.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205160" y="2781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5860800" y="3573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+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5461200" y="40053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530172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5008320" y="31417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-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/>
          <p:cNvSpPr/>
          <p:nvPr/>
        </p:nvSpPr>
        <p:spPr>
          <a:xfrm>
            <a:off x="468360" y="620640"/>
            <a:ext cx="1224000" cy="504720"/>
          </a:xfrm>
          <a:prstGeom prst="wedgeRectCallout">
            <a:avLst>
              <a:gd name="adj1" fmla="val 107199"/>
              <a:gd name="adj2" fmla="val 6352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探索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268360" y="83664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小组合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比较大小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Object 6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608360" cy="2841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3564000" y="141300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780000" y="23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356000" y="3357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1619280" y="4437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通过这三个式子的大小比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你有什么发现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11" descr="SG_005"/>
          <p:cNvPicPr/>
          <p:nvPr/>
        </p:nvPicPr>
        <p:blipFill>
          <a:blip r:embed="rId2"/>
          <a:stretch/>
        </p:blipFill>
        <p:spPr>
          <a:xfrm>
            <a:off x="7451640" y="3789360"/>
            <a:ext cx="72864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j0299125"/>
          <p:cNvPicPr/>
          <p:nvPr/>
        </p:nvPicPr>
        <p:blipFill>
          <a:blip r:embed="rId3"/>
          <a:stretch/>
        </p:blipFill>
        <p:spPr>
          <a:xfrm>
            <a:off x="0" y="1557360"/>
            <a:ext cx="17985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2266920" y="1844640"/>
            <a:ext cx="34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971640" y="1413000"/>
            <a:ext cx="48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79280" y="1268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Object 7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481800" cy="1052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j0305257"/>
          <p:cNvPicPr/>
          <p:nvPr/>
        </p:nvPicPr>
        <p:blipFill>
          <a:blip r:embed="rId2"/>
          <a:stretch/>
        </p:blipFill>
        <p:spPr>
          <a:xfrm>
            <a:off x="7236000" y="4724280"/>
            <a:ext cx="1328400" cy="21337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250920" y="293760"/>
            <a:ext cx="8137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Object 15" descr=""/>
          <p:cNvPicPr/>
          <p:nvPr/>
        </p:nvPicPr>
        <p:blipFill>
          <a:blip r:embed="rId3"/>
          <a:stretch/>
        </p:blipFill>
        <p:spPr>
          <a:xfrm>
            <a:off x="466560" y="3024360"/>
            <a:ext cx="3221280" cy="57780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16" descr=""/>
          <p:cNvPicPr/>
          <p:nvPr/>
        </p:nvPicPr>
        <p:blipFill>
          <a:blip r:embed="rId4"/>
          <a:stretch/>
        </p:blipFill>
        <p:spPr>
          <a:xfrm>
            <a:off x="1330200" y="3816360"/>
            <a:ext cx="1898640" cy="54468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17" descr=""/>
          <p:cNvPicPr/>
          <p:nvPr/>
        </p:nvPicPr>
        <p:blipFill>
          <a:blip r:embed="rId5"/>
          <a:stretch/>
        </p:blipFill>
        <p:spPr>
          <a:xfrm>
            <a:off x="1330200" y="4464000"/>
            <a:ext cx="879480" cy="4762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8" descr=""/>
          <p:cNvPicPr/>
          <p:nvPr/>
        </p:nvPicPr>
        <p:blipFill>
          <a:blip r:embed="rId6"/>
          <a:stretch/>
        </p:blipFill>
        <p:spPr>
          <a:xfrm>
            <a:off x="4356000" y="2808360"/>
            <a:ext cx="2916360" cy="10522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9" descr=""/>
          <p:cNvPicPr/>
          <p:nvPr/>
        </p:nvPicPr>
        <p:blipFill>
          <a:blip r:embed="rId7"/>
          <a:stretch/>
        </p:blipFill>
        <p:spPr>
          <a:xfrm>
            <a:off x="4714920" y="3887640"/>
            <a:ext cx="2611440" cy="105264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20" descr=""/>
          <p:cNvPicPr/>
          <p:nvPr/>
        </p:nvPicPr>
        <p:blipFill>
          <a:blip r:embed="rId8"/>
          <a:stretch/>
        </p:blipFill>
        <p:spPr>
          <a:xfrm>
            <a:off x="4786200" y="496872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1"/>
          <p:cNvSpPr/>
          <p:nvPr/>
        </p:nvSpPr>
        <p:spPr>
          <a:xfrm>
            <a:off x="0" y="-28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1080360" y="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有理数的乘法和除法之间的关系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324000" y="549360"/>
            <a:ext cx="770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Comic Sans MS"/>
              </a:rPr>
              <a:t>除以一个</a:t>
            </a:r>
            <a:r>
              <a:rPr b="1" lang="zh-CN" sz="2900" spc="-1" strike="noStrike" u="sng">
                <a:solidFill>
                  <a:srgbClr val="000000"/>
                </a:solidFill>
                <a:uFillTx/>
                <a:latin typeface="Comic Sans MS"/>
              </a:rPr>
              <a:t>不等于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omic Sans MS"/>
              </a:rPr>
              <a:t>0</a:t>
            </a:r>
            <a:r>
              <a:rPr b="1" lang="zh-CN" sz="2900" spc="-1" strike="noStrike" u="sng">
                <a:solidFill>
                  <a:srgbClr val="000000"/>
                </a:solidFill>
                <a:uFillTx/>
                <a:latin typeface="Comic Sans MS"/>
              </a:rPr>
              <a:t>的数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900" spc="-1" strike="noStrike">
                <a:solidFill>
                  <a:srgbClr val="ff0000"/>
                </a:solidFill>
                <a:latin typeface="Comic Sans MS"/>
              </a:rPr>
              <a:t>等于乘以这个数的倒数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Object 24" descr=""/>
          <p:cNvPicPr/>
          <p:nvPr/>
        </p:nvPicPr>
        <p:blipFill>
          <a:blip r:embed="rId9"/>
          <a:stretch/>
        </p:blipFill>
        <p:spPr>
          <a:xfrm>
            <a:off x="2124000" y="907920"/>
            <a:ext cx="2089080" cy="111600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25" descr=""/>
          <p:cNvPicPr/>
          <p:nvPr/>
        </p:nvPicPr>
        <p:blipFill>
          <a:blip r:embed="rId10"/>
          <a:stretch/>
        </p:blipFill>
        <p:spPr>
          <a:xfrm>
            <a:off x="4211640" y="1197000"/>
            <a:ext cx="138096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0" y="0"/>
            <a:ext cx="3745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6" descr="j0300520"/>
          <p:cNvPicPr/>
          <p:nvPr/>
        </p:nvPicPr>
        <p:blipFill>
          <a:blip r:embed="rId1"/>
          <a:stretch/>
        </p:blipFill>
        <p:spPr>
          <a:xfrm>
            <a:off x="6948360" y="5445000"/>
            <a:ext cx="1268640" cy="1090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4"/>
          <p:cNvSpPr/>
          <p:nvPr/>
        </p:nvSpPr>
        <p:spPr>
          <a:xfrm>
            <a:off x="1547640" y="3789360"/>
            <a:ext cx="34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79280" y="692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203640" y="1413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4÷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2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3564000" y="1844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6÷0.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3348000" y="2708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548640" y="1413000"/>
            <a:ext cx="4149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4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.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÷0.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3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÷2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3/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3/2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3648240" y="2286000"/>
            <a:ext cx="31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35/2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-5/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1524240" y="3733920"/>
            <a:ext cx="275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+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/5×25/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+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720000" y="876960"/>
            <a:ext cx="19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计算：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Object 5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146640" cy="93024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7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2876760" cy="191916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9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2482920" cy="930240"/>
          </a:xfrm>
          <a:prstGeom prst="rect">
            <a:avLst/>
          </a:prstGeom>
          <a:ln w="0">
            <a:noFill/>
          </a:ln>
        </p:spPr>
      </p:pic>
      <p:pic>
        <p:nvPicPr>
          <p:cNvPr id="260" name="Object 10" descr=""/>
          <p:cNvPicPr/>
          <p:nvPr/>
        </p:nvPicPr>
        <p:blipFill>
          <a:blip r:embed="rId4"/>
          <a:stretch/>
        </p:blipFill>
        <p:spPr>
          <a:xfrm>
            <a:off x="1042920" y="4797360"/>
            <a:ext cx="1332000" cy="93024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11" descr=""/>
          <p:cNvPicPr/>
          <p:nvPr/>
        </p:nvPicPr>
        <p:blipFill>
          <a:blip r:embed="rId5"/>
          <a:stretch/>
        </p:blipFill>
        <p:spPr>
          <a:xfrm>
            <a:off x="2484360" y="4797360"/>
            <a:ext cx="1028880" cy="93024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12" descr=""/>
          <p:cNvPicPr/>
          <p:nvPr/>
        </p:nvPicPr>
        <p:blipFill>
          <a:blip r:embed="rId6"/>
          <a:stretch/>
        </p:blipFill>
        <p:spPr>
          <a:xfrm>
            <a:off x="4757760" y="2112840"/>
            <a:ext cx="2693880" cy="1920960"/>
          </a:xfrm>
          <a:prstGeom prst="rect">
            <a:avLst/>
          </a:prstGeom>
          <a:ln w="0">
            <a:noFill/>
          </a:ln>
        </p:spPr>
      </p:pic>
      <p:pic>
        <p:nvPicPr>
          <p:cNvPr id="263" name="Object 13" descr=""/>
          <p:cNvPicPr/>
          <p:nvPr/>
        </p:nvPicPr>
        <p:blipFill>
          <a:blip r:embed="rId7"/>
          <a:stretch/>
        </p:blipFill>
        <p:spPr>
          <a:xfrm>
            <a:off x="4808520" y="4262400"/>
            <a:ext cx="514440" cy="390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4" descr="j0195812"/>
          <p:cNvPicPr/>
          <p:nvPr/>
        </p:nvPicPr>
        <p:blipFill>
          <a:blip r:embed="rId8"/>
          <a:stretch/>
        </p:blipFill>
        <p:spPr>
          <a:xfrm>
            <a:off x="6659640" y="4581360"/>
            <a:ext cx="1773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499040" y="33264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下面的计算正确吗？你发现了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Object 5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537080" cy="29433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681120" y="407592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计算：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Object 8" descr=""/>
          <p:cNvPicPr/>
          <p:nvPr/>
        </p:nvPicPr>
        <p:blipFill>
          <a:blip r:embed="rId2"/>
          <a:stretch/>
        </p:blipFill>
        <p:spPr>
          <a:xfrm>
            <a:off x="2556000" y="3789360"/>
            <a:ext cx="3384360" cy="10126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0"/>
          <p:cNvSpPr/>
          <p:nvPr/>
        </p:nvSpPr>
        <p:spPr>
          <a:xfrm>
            <a:off x="1179000" y="4868280"/>
            <a:ext cx="32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能否用上述方法解决：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Object 11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2808360" cy="109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3" descr="RY_175"/>
          <p:cNvPicPr/>
          <p:nvPr/>
        </p:nvPicPr>
        <p:blipFill>
          <a:blip r:embed="rId4"/>
          <a:stretch/>
        </p:blipFill>
        <p:spPr>
          <a:xfrm>
            <a:off x="0" y="907920"/>
            <a:ext cx="1368360" cy="109548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4"/>
          <p:cNvSpPr/>
          <p:nvPr/>
        </p:nvSpPr>
        <p:spPr>
          <a:xfrm>
            <a:off x="374400" y="162000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考考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720720" y="328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课堂小结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23240" y="114300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有理数除法法则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0492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两数相除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同号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___,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异号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___,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并把绝对值相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____.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除以任何一个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不等于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的数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都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274560" y="167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5179680" y="1600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683640" y="2057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6867000" y="205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1911960" y="2971800"/>
            <a:ext cx="4725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Comic Sans MS"/>
              </a:rPr>
              <a:t>除以一个</a:t>
            </a:r>
            <a:r>
              <a:rPr b="1" lang="zh-CN" sz="2900" spc="-1" strike="noStrike" u="sng">
                <a:solidFill>
                  <a:srgbClr val="000000"/>
                </a:solidFill>
                <a:uFillTx/>
                <a:latin typeface="Comic Sans MS"/>
              </a:rPr>
              <a:t>不等于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omic Sans MS"/>
              </a:rPr>
              <a:t>0</a:t>
            </a:r>
            <a:r>
              <a:rPr b="1" lang="zh-CN" sz="2900" spc="-1" strike="noStrike" u="sng">
                <a:solidFill>
                  <a:srgbClr val="000000"/>
                </a:solidFill>
                <a:uFillTx/>
                <a:latin typeface="Comic Sans MS"/>
              </a:rPr>
              <a:t>的数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2900" spc="-1" strike="noStrike">
                <a:solidFill>
                  <a:srgbClr val="ff0000"/>
                </a:solidFill>
                <a:latin typeface="Comic Sans MS"/>
              </a:rPr>
              <a:t>等于乘以这个数的倒数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7:22:3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57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