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4AB-9761-4174-8D96-F52C7DD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C6A-EB11-424C-AF21-9E58458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3DA-9CEE-4E7A-8F44-9B47EFA4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AD8-F342-4053-8B59-178AEB63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5E0B-2520-49E8-8AB7-CE2DB901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B85C-C38C-4F39-A813-4209D781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0403-FC7C-4900-8D52-D25FD1B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33B3-53BD-4BF1-B2DA-34863AB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37A-5838-4717-9880-B936355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9703-D673-41B6-9EF7-9AB3D415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97C3-91E0-4C13-8058-56A11D0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3F9-EE65-427E-935F-9100465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CEA-A3CB-402F-8494-689C3A8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991-BEBE-45DD-A54F-DBF4D14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AEF-6192-4BFA-94E7-81A3B80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7EC-51A4-42FB-983F-89DB43BD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AAD-9E91-42AF-B8CF-7C41E852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C1B-2E1C-4DEA-8168-13C6EA5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FDE-02A1-4131-B1A8-0A47154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A93-EA00-4FFE-8AC3-8117FEE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423-CFA3-4083-8019-D6B2B4D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B51-2264-43AA-A353-80DE203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12E-4ACB-4E8A-9431-4BFD6C3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CBA-4030-49CA-A290-CA90A63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509A-EC27-43A4-B6AE-AE213ED4C7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8FB-D320-4C10-8075-6873157E02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理数的加法复习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有理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|a|+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结果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    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必定是正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可能是负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不可能是负数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正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负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零都可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两个数之和为正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那么这两个数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  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都是正数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都是负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正一负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至少有一个正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个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0,-2,+6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和比他们的绝对值的和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___________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数轴上表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的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将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向右平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个单位到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则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所表示的实数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如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a|=3,|b|=4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a+b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值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计算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+3)+(-17)=______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若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x+3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|2y-3|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互为相反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求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+y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值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Object 4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3673440" cy="101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8360" y="3500280"/>
            <a:ext cx="83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计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+(-2)+3+(-4)+---+99+(-1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+2+3+(-4)+---+99+(-1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87700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1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筐苹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以每筐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千克为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超过的千   克数记作正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不足的千克数记位负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记录如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, -4, 2.5, 3, -0.5, 1.5, 3, 1 ,0, -2.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问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筐苹果总共重多少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4360" y="328464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4360" y="3500280"/>
            <a:ext cx="784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练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袋面粉重量如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     102,97,98,101,105,96,100,99,104,98,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你能计算其总重量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3:00:22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7:49:2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