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EAF-34CE-4A20-B6E5-D8BE8CEF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599-3A70-45DD-87F2-5963CD7B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87A-4C5D-45F0-B95C-91DDB65A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99B-7E7F-4565-BE72-8E160B80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09E8-B457-4B4A-8D5B-EE232299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C376-2784-472A-99F0-45FBF269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1D7C-C4BE-4482-934F-E93A4AEA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1201-42B6-4547-AD70-E5F891A6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AD75-A7F7-4744-ACD4-8A0C7489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BBA6-959F-4454-A43E-7F5F8348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DE05-ACD5-423F-9FF2-D173BFFC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7A0-5874-4052-9498-58F1E68D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6BEF-F402-4AD0-9F7B-C50D947B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712C-2CED-4C50-94A3-56DE6D68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1159-EA23-4061-AFCB-ACD7BAB3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77CD-86AF-4996-8C62-BA76068F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EA64-7655-4D22-860B-9E31BA07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273-84AC-45FF-BF36-5DAD98BF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8DF-F8F1-4548-BF0F-753D4FA1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C42-0114-4C7F-B748-B47E2C9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211-88FC-4C82-A600-6832DE90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056-B9DB-4942-AF15-51B5291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7E1-9086-4CE3-8F35-70896C23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9BF-DB8B-4A01-8A12-14A5E2B0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7E2A-0D48-4E79-A007-49F000E42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AE40-B239-468C-9DDF-CD7EFA9D938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1FF6-7B66-4848-81FD-2F5C22A958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5,10,&#24187;&#28783;&#29255; 10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7"/>
          <a:srcRect l="0" t="0" r="11635" b="833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84" name="Text Box 3" descr=""/>
          <p:cNvPicPr/>
          <p:nvPr/>
        </p:nvPicPr>
        <p:blipFill>
          <a:blip r:embed="rId18"/>
          <a:stretch/>
        </p:blipFill>
        <p:spPr>
          <a:xfrm>
            <a:off x="1066680" y="189000"/>
            <a:ext cx="70106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457200" y="9144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　　圆明园中，有金碧辉煌的殿堂，也有玲珑剔透的亭台楼阁；有象征着热闹街市的“买卖街”，也有象征着田园风光的山乡村野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>
            <a:hlinkClick r:id="" action="ppaction://hlinkshowjump?jump=previousslide"/>
          </p:cNvPr>
          <p:cNvSpPr/>
          <p:nvPr/>
        </p:nvSpPr>
        <p:spPr>
          <a:xfrm>
            <a:off x="7772400" y="6324480"/>
            <a:ext cx="533520" cy="228600"/>
          </a:xfrm>
          <a:custGeom>
            <a:avLst/>
            <a:gdLst>
              <a:gd name="textAreaLeft" fmla="*/ 14040 w 533520"/>
              <a:gd name="textAreaRight" fmla="*/ 519480 w 5335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9016" y="1350"/>
                </a:lnTo>
                <a:lnTo>
                  <a:pt x="1350" y="135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9016" y="20250"/>
                </a:lnTo>
                <a:lnTo>
                  <a:pt x="49016" y="135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9016" y="2025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838080" y="533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　　圆明园不但建筑宏伟，还收藏着最宝贵的历史文物。上自先秦时代的青铜礼器，下至唐、宋、元、明、清历代名人书画，各种奇珍异宝。所以，它又是当时世界上最大的博物馆、艺术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圆明园3.wav" descr=""/>
          <p:cNvPicPr/>
          <p:nvPr/>
        </p:nvPicPr>
        <p:blipFill>
          <a:blip r:embed="rId2"/>
          <a:stretch/>
        </p:blipFill>
        <p:spPr>
          <a:xfrm>
            <a:off x="77724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762120" y="7621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1860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年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10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月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6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日，英、法联军侵入北京，闯进圆明园。他们把园内凡是能拿走的东西，统统掠走，拿不动的，就用大车或牲口搬运。实在运不走的，就任意破坏、毁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762120" y="80496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为了销毁罪证，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10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月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18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日和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19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日，三千多名侵略军奉命在园内放火。大火连烧三天，烟云笼罩整个北京城。我国这一园林艺术瑰宝、建筑艺术的精华，就这样被化成了灰烬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33336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在世界的一隅，存在着人类的奇迹，这个奇迹就是圆明园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                                         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　　　　　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——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维可多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·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雨果（法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24000" y="228600"/>
            <a:ext cx="86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圆明园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位于北京西北郊海淀镇北面的一片平原上。原为清代的皇家御苑。始建与清康熙四十八年（１７０９），到清乾隆九年（１７４４）基本建成。此后的嘉庆、道光、咸丰三代屡有修缮扩建，历时１５０多年。人们习惯上所称的圆明园，实际上是圆明、长春、绮春（后改名“万春”）三园的总称，占地甚广，外围周长约１０公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:\杨佳\资料\课件\图片\冰雪鉴碧亭.gif"/>
          <p:cNvPicPr/>
          <p:nvPr/>
        </p:nvPicPr>
        <p:blipFill>
          <a:blip r:embed="rId2"/>
          <a:stretch/>
        </p:blipFill>
        <p:spPr>
          <a:xfrm>
            <a:off x="0" y="0"/>
            <a:ext cx="312408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:\杨佳\资料\课件\图片\春临江南.gif"/>
          <p:cNvPicPr/>
          <p:nvPr/>
        </p:nvPicPr>
        <p:blipFill>
          <a:blip r:embed="rId3"/>
          <a:stretch/>
        </p:blipFill>
        <p:spPr>
          <a:xfrm>
            <a:off x="3124080" y="0"/>
            <a:ext cx="2819520" cy="2209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D:\杨佳\资料\课件\图片\福海远眺.gif"/>
          <p:cNvPicPr/>
          <p:nvPr/>
        </p:nvPicPr>
        <p:blipFill>
          <a:blip r:embed="rId4"/>
          <a:stretch/>
        </p:blipFill>
        <p:spPr>
          <a:xfrm>
            <a:off x="5943600" y="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D:\杨佳\资料\课件\图片\浩然亭之秋 .gif"/>
          <p:cNvPicPr/>
          <p:nvPr/>
        </p:nvPicPr>
        <p:blipFill>
          <a:blip r:embed="rId5"/>
          <a:stretch/>
        </p:blipFill>
        <p:spPr>
          <a:xfrm>
            <a:off x="0" y="2209680"/>
            <a:ext cx="3124080" cy="2041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D:\杨佳\资料\课件\图片\黄昏五孔桥.gif"/>
          <p:cNvPicPr/>
          <p:nvPr/>
        </p:nvPicPr>
        <p:blipFill>
          <a:blip r:embed="rId6"/>
          <a:stretch/>
        </p:blipFill>
        <p:spPr>
          <a:xfrm>
            <a:off x="3124080" y="2209680"/>
            <a:ext cx="2895840" cy="201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D:\杨佳\资料\课件\图片\会心桥之晨.gif"/>
          <p:cNvPicPr/>
          <p:nvPr/>
        </p:nvPicPr>
        <p:blipFill>
          <a:blip r:embed="rId7"/>
          <a:stretch/>
        </p:blipFill>
        <p:spPr>
          <a:xfrm>
            <a:off x="6019920" y="2209680"/>
            <a:ext cx="3124080" cy="1949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D:\杨佳\资料\课件\图片\雾绕仙山亭 .gif"/>
          <p:cNvPicPr/>
          <p:nvPr/>
        </p:nvPicPr>
        <p:blipFill>
          <a:blip r:embed="rId8"/>
          <a:stretch/>
        </p:blipFill>
        <p:spPr>
          <a:xfrm>
            <a:off x="0" y="426708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D:\杨佳\资料\课件\图片\夏溢狮子林.gif"/>
          <p:cNvPicPr/>
          <p:nvPr/>
        </p:nvPicPr>
        <p:blipFill>
          <a:blip r:embed="rId9"/>
          <a:stretch/>
        </p:blipFill>
        <p:spPr>
          <a:xfrm>
            <a:off x="3200400" y="4191120"/>
            <a:ext cx="2895480" cy="268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D:\杨佳\资料\课件\图片\渔舟唱晚.gif"/>
          <p:cNvPicPr/>
          <p:nvPr/>
        </p:nvPicPr>
        <p:blipFill>
          <a:blip r:embed="rId10"/>
          <a:stretch/>
        </p:blipFill>
        <p:spPr>
          <a:xfrm>
            <a:off x="6095880" y="4191120"/>
            <a:ext cx="30481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685800" y="1219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04920" y="457200"/>
            <a:ext cx="85341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　　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自由地朗读课文，想一想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１、哪部分写了“当年的圆明园是什么样子的”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２、哪部分写了“圆明园怎样被毁灭的”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762120" y="33336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圆明园的毁灭是祖国文化史上不可估量的损失，也是世界文化史上不可估量的损失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圆明园.wav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80880" y="18892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　　读一读第二自然段，说说圆明园的位置及其布局特点是怎样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80880" y="236232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　　它由圆明园、万春园和长春园组成，所以也叫圆明三园。此外，还有许多小园，分布在圆明园东、西、南三面，众星拱月般地环绕在圆明园周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880" y="38088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　　圆明园在北京西北郊，是一座举世闻名的皇家园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圆明园1.wav" descr=""/>
          <p:cNvPicPr/>
          <p:nvPr/>
        </p:nvPicPr>
        <p:blipFill>
          <a:blip r:embed="rId2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85800" y="79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　　读课文的第三自然段，边读边画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0880" y="1603440"/>
            <a:ext cx="81536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华文中宋"/>
                <a:hlinkClick r:id="rId2"/>
              </a:rPr>
              <a:t>１、画出文中概括写园内景观的语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80880" y="306540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２、园内的景观分为哪几类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80880" y="396396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３、步入这“万园之园”，你有什么感受呢？把你的感受读出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圆明园2.wav" descr=""/>
          <p:cNvPicPr/>
          <p:nvPr/>
        </p:nvPicPr>
        <p:blipFill>
          <a:blip r:embed="rId3"/>
          <a:stretch/>
        </p:blipFill>
        <p:spPr>
          <a:xfrm>
            <a:off x="7848720" y="5946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04:16:2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6:36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