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59E-E06C-45EC-BC39-F13B5311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538F-5C13-4928-9EA1-E2138F98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39DF-F5CE-47A0-BE9E-982D7B2D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52E6-50DA-45F1-9CB8-A75A0372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DCCE-6AC1-4518-AFAE-8093E4E8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7070-801D-4597-91C7-C0237D18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8B5B-55B3-4E0C-84B1-FDF70E76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60F8-9A15-4540-B78E-089375BB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AD9C-F4F6-4A31-83D2-C0D04539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2656-203E-4A28-B519-DD348DD2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346D-C191-4862-A8E7-C0439622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305-77B9-4962-AB0D-FC892CFF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6212-4B4C-4BE3-B3C6-452C242B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CAAC-CF72-4AAA-8897-255BD5B2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20B6-1E2B-4C96-9763-9A142511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4B8B-B9CB-4F21-A09B-021BC41D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5C7E-B999-42A5-B4D0-BA0497E7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6F0-D212-4A9E-A0D5-BDE33B8D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A8C4-6089-4582-B888-05BACC66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0F11-7936-4BDA-93DB-1277E3DA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5B3-AD92-41C6-8AB5-68419DC3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ACAA-BBA7-4B99-A4F7-E7D83EC8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AA9-D632-47A7-AA2E-975E9D25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AD5-4C07-45C3-B35B-AF62DB78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2474-189F-40EB-89BA-F1CA905A2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D4EE-3605-4364-87DD-8762FB8A371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D457-62DA-41B0-B3A5-82F28432D7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C:\Documents and Settings\HOME\桌面\b_70F080DA10110C9E.gif"/>
          <p:cNvPicPr/>
          <p:nvPr/>
        </p:nvPicPr>
        <p:blipFill>
          <a:blip r:embed="rId1"/>
          <a:stretch/>
        </p:blipFill>
        <p:spPr>
          <a:xfrm>
            <a:off x="5486400" y="32004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宜昌市李家湖小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雷       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WordArt 10"/>
          <p:cNvSpPr txBox="1"/>
          <p:nvPr/>
        </p:nvSpPr>
        <p:spPr>
          <a:xfrm>
            <a:off x="380880" y="914400"/>
            <a:ext cx="8534520" cy="17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cap="sq" w="12600">
                  <a:solidFill>
                    <a:srgbClr val="ff0033"/>
                  </a:solidFill>
                  <a:miter/>
                </a:ln>
                <a:solidFill>
                  <a:srgbClr val="ff003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月  球  之  谜</a:t>
            </a:r>
            <a:endParaRPr b="0" lang="en-US" sz="9600" spc="1" strike="noStrike">
              <a:ln cap="sq" w="12600">
                <a:solidFill>
                  <a:srgbClr val="ff0033"/>
                </a:solidFill>
                <a:miter/>
              </a:ln>
              <a:solidFill>
                <a:srgbClr val="ff003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4"/>
          <p:cNvSpPr/>
          <p:nvPr/>
        </p:nvSpPr>
        <p:spPr>
          <a:xfrm>
            <a:off x="1066680" y="609480"/>
            <a:ext cx="6705720" cy="1143000"/>
          </a:xfrm>
          <a:prstGeom prst="cloudCallout">
            <a:avLst>
              <a:gd name="adj1" fmla="val -20527"/>
              <a:gd name="adj2" fmla="val 70000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Arial"/>
                <a:ea typeface="华文行楷"/>
              </a:rPr>
              <a:t>看看谁记汉字最快，比比谁最棒！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幕  临  悬  曾  奥  努  登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任  撒  藻  旦  项  估  龄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"/>
          <p:cNvSpPr/>
          <p:nvPr/>
        </p:nvSpPr>
        <p:spPr>
          <a:xfrm>
            <a:off x="1905120" y="457200"/>
            <a:ext cx="3047760" cy="1295280"/>
          </a:xfrm>
          <a:prstGeom prst="cloudCallout">
            <a:avLst>
              <a:gd name="adj1" fmla="val -19532"/>
              <a:gd name="adj2" fmla="val 69976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读 读 写 写！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夜幕降临　悬挂   皎洁　遐想    奇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曾经　       奥秘   努力　登上    任何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撒在　      水藻　一旦　一项     估计年龄          费解    探索    任何    曾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4"/>
          <p:cNvSpPr/>
          <p:nvPr/>
        </p:nvSpPr>
        <p:spPr>
          <a:xfrm>
            <a:off x="3733920" y="0"/>
            <a:ext cx="1752480" cy="990720"/>
          </a:xfrm>
          <a:prstGeom prst="wedgeEllipseCallout">
            <a:avLst>
              <a:gd name="adj1" fmla="val -44837"/>
              <a:gd name="adj2" fmla="val 70032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57240" y="-36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Arial"/>
              </a:rPr>
              <a:t>资料袋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月球起源之谜：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目前，人类关于月球的起源，一共提出了三种假说：月球被捕获说，地月同源说和地球分裂说。到目前为止，三种假说都没有取得强有力的证据，因此产生了第四种假说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──“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月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──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宇宙飞船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说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月球年龄之谜：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根据从月球带回的岩石标本，可以测定月球的年龄。经分析发现，与地球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％年龄最大的岩石相比，月球岩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9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％年龄更长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7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年，世界月球研讨会上曾测定一块月球岩石年龄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亿岁，而地球上最古老的岩石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7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亿岁。有些科学家提出，在地球形成之前，月球早已在星际空间形成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4"/>
          <p:cNvSpPr/>
          <p:nvPr/>
        </p:nvSpPr>
        <p:spPr>
          <a:xfrm>
            <a:off x="2895480" y="228600"/>
            <a:ext cx="1752840" cy="838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22096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资料袋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两位宇航员在登上月球后，马上开始了紧张的工作：他们检查了登月器的着陆情况，一切正常；他们拿出铁锹，采集了月壤和月岩的样品；他们从登月舱中取出一块纪念碑，把它竖立在月球上，纪念碑上刻着地球东半球和西半球的图像，上面还刻着：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69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月，太阳系的行星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──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地球上的人类第一次在月球上留下足迹，我们代表全人类，来这里做一次和平的旅行。然后，又在月球表面安装了电视摄像机；又安装了一台太阳风测定装置，用来检测宇宙射线；还安装了用来精确测定月球和地球间距离的激光仪，测定月震的月震仪。他们又取出美国星条旗，神色庄重地把它插在月亮上。这些工作完成后，他们舒了一口气，跟美国总统尼克松进行了月亮和地球间的第一次通话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"/>
          <p:cNvSpPr/>
          <p:nvPr/>
        </p:nvSpPr>
        <p:spPr>
          <a:xfrm>
            <a:off x="2971800" y="609480"/>
            <a:ext cx="1676520" cy="6858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资料袋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世纪，人类将移民月球，建立月球村。月球村将利用太阳能取暖，利用月球上发现的水生产蔬菜、粮食，建立各种生活设施。月球村的重要任务是开采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并运回地球，利用这一热能源发电，供应全球所需电能。人类还将开发地球人拜访月球村的旅游业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从“阿波罗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号开始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号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号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号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号都曾目击或拍摄过月面不明飞行物的照片，甚至早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6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，美国的“月球轨道环形器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号就发现，在月面上有一些排列有序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米高的塔状建筑物，随后，苏联的宇宙飞船也发现了这些建筑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4"/>
          <p:cNvSpPr/>
          <p:nvPr/>
        </p:nvSpPr>
        <p:spPr>
          <a:xfrm>
            <a:off x="1600200" y="609480"/>
            <a:ext cx="5410080" cy="1067040"/>
          </a:xfrm>
          <a:prstGeom prst="cloudCallout">
            <a:avLst>
              <a:gd name="adj1" fmla="val -35564"/>
              <a:gd name="adj2" fmla="val 82888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5105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Arial"/>
                <a:ea typeface="华文行楷"/>
              </a:rPr>
              <a:t>我会收集好多描写月亮的诗句！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床前明月光，疑是地上霜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李白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举头望明月，低头思故乡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李白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月下飞天镜，云生结海楼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李白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举杯邀明月，对影成三人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李白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、无言独上西楼，月如钩。    李煜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、明月别枝惊鹊，清风半夜鸣蝉。 辛弃疾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、可怜九月初三夜，露似珍珠月似弓。 白居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月落乌啼霜满天，江枫渔火对愁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....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张继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月上柳梢头，人约黄昏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...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欧阳修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明月几时有，把酒问青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....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Arial"/>
              </a:rPr>
              <a:t>苏轼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5" descr="C:\Documents and Settings\HOME\桌面\b_98D33BDA756C464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C:\Documents and Settings\HOME\桌面\xin_210901271631640212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C:\Documents and Settings\HOME\桌面\b_11628703411A75D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4" descr="C:\Documents and Settings\HOME\桌面\b_9327F82C1D12E1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4" descr="C:\Documents and Settings\HOME\桌面\200506031133451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C:\Documents and Settings\HOME\桌面\2-1-49035_010801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C:\Documents and Settings\HOME\桌面\2005_9_19_75515_4755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C:\Documents and Settings\HOME\桌面\42327282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12:54:36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7:55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