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6.xml" ContentType="application/vnd.openxmlformats-officedocument.presentationml.comments+xml"/>
  <Override PartName="/ppt/comments/comment20.xml" ContentType="application/vnd.openxmlformats-officedocument.presentationml.comments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1-04-13T21:16:28.196000000" idx="2">
    <p:pos x="5760" y="0"/>
    <p:text/>
  </p:cm>
</p:cmLst>
</file>

<file path=ppt/comments/comment24.xml><?xml version="1.0" encoding="utf-8"?>
<p:cmLst xmlns:p="http://schemas.openxmlformats.org/presentationml/2006/main">
  <p:cm authorId="0" dt="2011-04-13T21:16:32.861000000" idx="3">
    <p:pos x="2908" y="2636"/>
    <p:text/>
  </p:cm>
</p:cmLst>
</file>

<file path=ppt/comments/comment6.xml><?xml version="1.0" encoding="utf-8"?>
<p:cmLst xmlns:p="http://schemas.openxmlformats.org/presentationml/2006/main">
  <p:cm authorId="0" dt="2011-04-13T21:16:23.204000000" idx="1">
    <p:pos x="4423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03E-E5FF-4486-A701-D0D4D094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6D9-6027-4949-B690-1AD7E7C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AD3-F50E-429F-B186-BE8F9883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ACA-8D19-4222-B3A2-2E2AE461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4FCC-BDB9-4134-BA34-EB0764D3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7F97-28B1-42CA-92EF-AC150667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D48C-417A-4FEB-A2F5-8A13E705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2E43-4FA6-43DA-AE7E-29A8A008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7DF1-F6C7-4BB9-9421-43CFF2E9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AB76-A823-4873-AF46-6CC68409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463F-ED67-45CD-BA1F-6C5A2169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FF8-7BF9-441A-825D-5DCC1984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98F-2A2C-4D66-952D-826D824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09E0-386A-489C-8D03-01904CE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C4CE-93DA-4BE5-9E15-BB6F3328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9E4F-C379-4798-8A16-144200E2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55C4-00EA-4EAE-A637-C46C13F2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C0E-3664-4D85-A438-E61FF00D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B84-2601-469B-8D70-4B88E521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C08-0446-4E6F-A863-C573AB2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C9B-75A5-4546-9920-2C9B2BBE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C79-AD1B-4D99-A605-E569405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78D-8603-4156-950A-B8CCE04F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B7D-2659-4554-A002-18A7AE29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AF3E-FD79-43BA-9ED4-FFEB9AD1DD4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2040" y="2710080"/>
              <a:ext cx="587196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561-D756-4110-B65C-A4B81CEF34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78,3,       &#29992;&#25918;&#22823;&#38236;&#35266;&#23519;&#33457;&#23703;&#23721;&#65292;&#30475;&#30475;&#23427;&#26159;&#30001;&#20160;&#20040;&#32452;&#25104;&#30340;&#12290;" TargetMode="External"/><Relationship Id="rId2" Type="http://schemas.openxmlformats.org/officeDocument/2006/relationships/hyperlink" Target="270,14,&#24187;&#28783;&#29255; 14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66"/>
                </a:solidFill>
                <a:latin typeface="Arial"/>
              </a:rPr>
              <a:t>岩石的组成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04920" y="1219320"/>
            <a:ext cx="3809880" cy="426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5680" y="1981080"/>
            <a:ext cx="23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花岗岩有两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长石，它们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发育成良好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晶体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838080" y="609480"/>
            <a:ext cx="7543440" cy="5714640"/>
            <a:chOff x="838080" y="609480"/>
            <a:chExt cx="7543440" cy="5714640"/>
          </a:xfrm>
        </p:grpSpPr>
        <p:pic>
          <p:nvPicPr>
            <p:cNvPr id="116" name="Picture 3" descr="云母"/>
            <p:cNvPicPr/>
            <p:nvPr/>
          </p:nvPicPr>
          <p:blipFill>
            <a:blip r:embed="rId1"/>
            <a:stretch/>
          </p:blipFill>
          <p:spPr>
            <a:xfrm>
              <a:off x="838080" y="609480"/>
              <a:ext cx="7543440" cy="57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4"/>
            <p:cNvSpPr/>
            <p:nvPr/>
          </p:nvSpPr>
          <p:spPr>
            <a:xfrm>
              <a:off x="980280" y="5432760"/>
              <a:ext cx="227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云母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5640" y="6381720"/>
            <a:ext cx="74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09480" y="1752480"/>
            <a:ext cx="3429000" cy="358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139000" y="1447920"/>
            <a:ext cx="2741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在花岗岩中，云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母呈小而发光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晶体，有深色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黑云母和浅色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白云母两种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石英、长石和云母都是自然界的矿物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所有的岩石都是由一种或几种矿物组成的。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8458200" y="6019920"/>
            <a:ext cx="533520" cy="53316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65" y="1350"/>
                </a:lnTo>
                <a:lnTo>
                  <a:pt x="1350" y="135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65" y="20250"/>
                </a:lnTo>
                <a:lnTo>
                  <a:pt x="20265" y="135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5" y="2025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5" h="21600">
                <a:moveTo>
                  <a:pt x="3764" y="10800"/>
                </a:moveTo>
                <a:lnTo>
                  <a:pt x="17851" y="3756"/>
                </a:lnTo>
                <a:lnTo>
                  <a:pt x="17851" y="1784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60020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常见的矿物</a:t>
            </a:r>
            <a:endParaRPr b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85800" y="1752480"/>
            <a:ext cx="3429000" cy="35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74564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大水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876920" y="1752480"/>
            <a:ext cx="3429000" cy="350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78448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方解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60020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常见的矿物</a:t>
            </a:r>
            <a:endParaRPr b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" y="1752480"/>
            <a:ext cx="3429000" cy="35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4564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黄铁矿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876920" y="1752480"/>
            <a:ext cx="3429000" cy="350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93676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辉铜矿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135" name="Picture 3" descr="赤铁矿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4"/>
            <p:cNvSpPr/>
            <p:nvPr/>
          </p:nvSpPr>
          <p:spPr>
            <a:xfrm>
              <a:off x="264600" y="311400"/>
              <a:ext cx="25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赤铁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pic>
          <p:nvPicPr>
            <p:cNvPr id="138" name="Picture 3" descr="黄铜矿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4"/>
            <p:cNvSpPr/>
            <p:nvPr/>
          </p:nvSpPr>
          <p:spPr>
            <a:xfrm>
              <a:off x="55440" y="0"/>
              <a:ext cx="36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黄铜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160020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常见的矿物</a:t>
            </a:r>
            <a:endParaRPr b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85800" y="1752480"/>
            <a:ext cx="3429000" cy="35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9336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铁矿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76920" y="1752480"/>
            <a:ext cx="3429000" cy="350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78448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铜矿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60020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常见的矿物</a:t>
            </a:r>
            <a:endParaRPr b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5800" y="1752480"/>
            <a:ext cx="3429000" cy="35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9336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金刚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876920" y="1752480"/>
            <a:ext cx="3429000" cy="350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93676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蓝晶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美丽的花岗岩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常见的矿物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z0014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962520" y="2286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水  晶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60020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常见的矿物</a:t>
            </a:r>
            <a:endParaRPr b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85800" y="1752480"/>
            <a:ext cx="3429000" cy="35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9336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蓝铜矿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76920" y="1752480"/>
            <a:ext cx="3429000" cy="350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784480" y="5638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铜水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60020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常见的矿物</a:t>
            </a:r>
            <a:endParaRPr b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85800" y="1752480"/>
            <a:ext cx="3429000" cy="35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63640" y="5562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莹石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876920" y="1752480"/>
            <a:ext cx="3429000" cy="350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07040" y="5638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云母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2920" cy="6856920"/>
            <a:chOff x="0" y="0"/>
            <a:chExt cx="9142920" cy="6856920"/>
          </a:xfrm>
        </p:grpSpPr>
        <p:pic>
          <p:nvPicPr>
            <p:cNvPr id="163" name="Picture 3" descr="石墨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920" cy="68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182880" y="4320"/>
              <a:ext cx="33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石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AutoShape 5"/>
          <p:cNvSpPr/>
          <p:nvPr/>
        </p:nvSpPr>
        <p:spPr>
          <a:xfrm>
            <a:off x="8001000" y="5943600"/>
            <a:ext cx="762120" cy="609480"/>
          </a:xfrm>
          <a:custGeom>
            <a:avLst/>
            <a:gdLst>
              <a:gd name="textAreaLeft" fmla="*/ 37800 w 762120"/>
              <a:gd name="textAreaRight" fmla="*/ 724320 w 7621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56" y="1350"/>
                </a:lnTo>
                <a:lnTo>
                  <a:pt x="1350" y="13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56" y="20250"/>
                </a:lnTo>
                <a:lnTo>
                  <a:pt x="25656" y="13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56" y="202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006" h="21600">
                <a:moveTo>
                  <a:pt x="6459" y="10800"/>
                </a:moveTo>
                <a:lnTo>
                  <a:pt x="20547" y="3756"/>
                </a:lnTo>
                <a:lnTo>
                  <a:pt x="20547" y="1784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矿物硬度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 flipH="1">
            <a:off x="-1828800" y="228600"/>
            <a:ext cx="14032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zh-CN" sz="7200" spc="-1" strike="noStrike">
                <a:solidFill>
                  <a:srgbClr val="ffcc66"/>
                </a:solidFill>
                <a:latin typeface="Arial"/>
              </a:rPr>
              <a:t>用放大镜观察花岗岩，看看它是由什么组成的。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-1143000"/>
            <a:ext cx="9143640" cy="8610120"/>
            <a:chOff x="0" y="-1143000"/>
            <a:chExt cx="9143640" cy="8610120"/>
          </a:xfrm>
        </p:grpSpPr>
        <p:pic>
          <p:nvPicPr>
            <p:cNvPr id="94" name="Picture 3" descr="花岗岩的矿物组成"/>
            <p:cNvPicPr/>
            <p:nvPr/>
          </p:nvPicPr>
          <p:blipFill>
            <a:blip r:embed="rId1"/>
            <a:stretch/>
          </p:blipFill>
          <p:spPr>
            <a:xfrm>
              <a:off x="0" y="-1143000"/>
              <a:ext cx="9143640" cy="86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4"/>
            <p:cNvSpPr/>
            <p:nvPr/>
          </p:nvSpPr>
          <p:spPr>
            <a:xfrm>
              <a:off x="0" y="-1143000"/>
              <a:ext cx="5293800" cy="894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WordArt 5"/>
          <p:cNvSpPr txBox="1"/>
          <p:nvPr/>
        </p:nvSpPr>
        <p:spPr>
          <a:xfrm rot="5400000">
            <a:off x="-424080" y="1719360"/>
            <a:ext cx="30574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花岗岩</a:t>
            </a:r>
            <a:endParaRPr b="1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-228600" y="-1523880"/>
            <a:ext cx="9144000" cy="64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4920" y="380880"/>
            <a:ext cx="6705360" cy="480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336800" y="441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长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336800" y="274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水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336800" y="6858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云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40880" y="5638680"/>
            <a:ext cx="27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放大了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倍的花岗岩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z0013"/>
          <p:cNvPicPr/>
          <p:nvPr/>
        </p:nvPicPr>
        <p:blipFill>
          <a:blip r:embed="rId1"/>
          <a:stretch/>
        </p:blipFill>
        <p:spPr>
          <a:xfrm>
            <a:off x="2050920" y="0"/>
            <a:ext cx="49705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-1077480" y="228600"/>
            <a:ext cx="31064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石英长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pic>
          <p:nvPicPr>
            <p:cNvPr id="106" name="Picture 3" descr="石英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"/>
            <p:cNvSpPr/>
            <p:nvPr/>
          </p:nvSpPr>
          <p:spPr>
            <a:xfrm>
              <a:off x="0" y="1800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石英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04920" y="1219320"/>
            <a:ext cx="3809880" cy="426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519880" y="1981080"/>
            <a:ext cx="27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石英是花岗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中常见的矿物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色淡，硬度大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143000" y="457200"/>
            <a:ext cx="6705000" cy="5790960"/>
            <a:chOff x="1143000" y="457200"/>
            <a:chExt cx="6705000" cy="5790960"/>
          </a:xfrm>
        </p:grpSpPr>
        <p:pic>
          <p:nvPicPr>
            <p:cNvPr id="111" name="Picture 3" descr="长石"/>
            <p:cNvPicPr/>
            <p:nvPr/>
          </p:nvPicPr>
          <p:blipFill>
            <a:blip r:embed="rId1"/>
            <a:stretch/>
          </p:blipFill>
          <p:spPr>
            <a:xfrm>
              <a:off x="1143000" y="457200"/>
              <a:ext cx="670500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4"/>
            <p:cNvSpPr/>
            <p:nvPr/>
          </p:nvSpPr>
          <p:spPr>
            <a:xfrm>
              <a:off x="5836680" y="809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1:54:24Z</dcterms:created>
  <dc:creator>An</dc:creator>
  <dc:description/>
  <dc:language>en-US</dc:language>
  <cp:lastModifiedBy>a</cp:lastModifiedBy>
  <dcterms:modified xsi:type="dcterms:W3CDTF">2015-05-20T07:43:16Z</dcterms:modified>
  <cp:revision>10</cp:revision>
  <dc:subject/>
  <dc:title>岩石的组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