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6359-F8D2-40DA-B3BD-B7BFA04C8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5BEC-4B20-4E96-9CC3-A1C75B66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0D8-59B7-46D4-9FEF-B43F3C62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475B-23AE-4AB6-BFB0-335DEBC4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415B5-AD4A-433B-8C34-9162B09F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871B-0404-4135-A61D-3E8A7BD4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DBCE-6D62-49BE-90F2-8C286585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37CA-433E-4656-946A-73D35E52D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E6BF-9868-4BC3-A716-56ABDCAE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1884-02F1-420E-BAF5-4B42DEF5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DA84-D1A1-4946-A995-8331F37E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2A07-C77B-4964-9DE1-5868C856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934E-6AB1-44A0-9975-01C75D7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AA96-6881-4496-BEE7-628748D9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99C3-6439-4D08-AB21-9A8E072B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E781-1219-4379-8A22-5195E4B4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A9054-885A-4E7D-ADA8-ADCE02E4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3434-0569-41C4-BC99-C0B5861C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A13-2C58-48CA-87EF-70153A03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8777-E228-4985-AB55-015E33BD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E5B3-A66D-42F1-A2CF-03D4BE99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6418-3169-411B-8040-59537F64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D660-CD62-42E8-85C9-2FBE8340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746-F6F8-4BBF-8F1A-97D115DD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F8CE-C67B-426F-9B3B-AEBB14E3994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3C34-49CD-44F8-9EF5-AC26EA168FD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E3B1E-9925-4B6A-9B48-AC559DF566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E:\枫叶工作室\图片\0000258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632520" y="576360"/>
            <a:ext cx="6782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鱼我所欲也</a:t>
            </a:r>
            <a:endParaRPr b="0" lang="en-US" sz="80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《</a:t>
            </a:r>
            <a:r>
              <a:rPr b="1" lang="zh-CN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孟子</a:t>
            </a:r>
            <a:r>
              <a:rPr b="1" lang="en-US" sz="6000" spc="-1" strike="noStrike">
                <a:solidFill>
                  <a:srgbClr val="ff0066"/>
                </a:solidFill>
                <a:latin typeface="Times New Roman"/>
                <a:ea typeface="隶书"/>
              </a:rPr>
              <a:t>》</a:t>
            </a:r>
            <a:endParaRPr b="0" lang="en-US" sz="6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2822400" y="1127880"/>
            <a:ext cx="100332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舍生取义</a:t>
            </a:r>
            <a:endParaRPr b="0" lang="en-US" sz="5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80640" y="1981080"/>
            <a:ext cx="851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鱼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熊掌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264c"/>
                </a:solidFill>
                <a:latin typeface="Times New Roman"/>
              </a:rPr>
              <a:t>设喻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770360" y="1371600"/>
            <a:ext cx="275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正面：不为苟得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患有不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反面：何不用也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何不为也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5031360" y="3962520"/>
            <a:ext cx="249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事例一：不接受施舍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事例二：不受“万钟”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971640" y="1557360"/>
            <a:ext cx="770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64c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．用类比论证法提出论点。文章一开头，就提出“鱼”和“熊掌”都是好吃的东西，但如果两样不能同时得到，那就舍鱼而取熊掌。接着，提出“生”和“义”两样都很贵重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．  用正反对比的论证方法，显出两类不同的人，有的能保持本心，有的则失去本心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264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045080" y="717480"/>
            <a:ext cx="525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文章是怎样围绕论点逐层论述的</a:t>
            </a:r>
            <a:r>
              <a:rPr b="1" lang="en-US" sz="4800" spc="-1" strike="noStrike">
                <a:solidFill>
                  <a:srgbClr val="00264c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Oval 3"/>
          <p:cNvSpPr/>
          <p:nvPr/>
        </p:nvSpPr>
        <p:spPr>
          <a:xfrm>
            <a:off x="304920" y="2209680"/>
            <a:ext cx="838080" cy="7621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380880" y="23623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3276720" y="2209680"/>
            <a:ext cx="914400" cy="7621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50532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欲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>
            <a:off x="1295280" y="2666880"/>
            <a:ext cx="182880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AutoShape 8"/>
          <p:cNvSpPr/>
          <p:nvPr/>
        </p:nvSpPr>
        <p:spPr>
          <a:xfrm rot="10875600">
            <a:off x="304560" y="2057040"/>
            <a:ext cx="3354120" cy="163440"/>
          </a:xfrm>
          <a:custGeom>
            <a:avLst/>
            <a:gdLst>
              <a:gd name="textAreaLeft" fmla="*/ 586800 w 3354120"/>
              <a:gd name="textAreaRight" fmla="*/ 2431800 w 3354120"/>
              <a:gd name="textAreaTop" fmla="*/ 21600 h 163440"/>
              <a:gd name="textAreaBottom" fmla="*/ 141840 h 16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1752480" y="19051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4038480" y="2057400"/>
            <a:ext cx="5335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4572000" y="1905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不为苟得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Oval 12"/>
          <p:cNvSpPr/>
          <p:nvPr/>
        </p:nvSpPr>
        <p:spPr>
          <a:xfrm>
            <a:off x="380880" y="4114800"/>
            <a:ext cx="762120" cy="68580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33520" y="4114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死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Line 14"/>
          <p:cNvSpPr/>
          <p:nvPr/>
        </p:nvSpPr>
        <p:spPr>
          <a:xfrm>
            <a:off x="1219320" y="4495680"/>
            <a:ext cx="17524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5" name="Oval 15"/>
          <p:cNvSpPr/>
          <p:nvPr/>
        </p:nvSpPr>
        <p:spPr>
          <a:xfrm>
            <a:off x="3124080" y="4114800"/>
            <a:ext cx="914400" cy="76212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3352680" y="4114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恶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AutoShape 17"/>
          <p:cNvSpPr/>
          <p:nvPr/>
        </p:nvSpPr>
        <p:spPr>
          <a:xfrm rot="10869000">
            <a:off x="533160" y="3807000"/>
            <a:ext cx="2895480" cy="304560"/>
          </a:xfrm>
          <a:custGeom>
            <a:avLst/>
            <a:gdLst>
              <a:gd name="textAreaLeft" fmla="*/ 506520 w 2895480"/>
              <a:gd name="textAreaRight" fmla="*/ 2099160 w 289548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676520" y="3657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3886200" y="3809880"/>
            <a:ext cx="68580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4572000" y="3505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患有所不避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1" name="AutoShape 21"/>
          <p:cNvSpPr/>
          <p:nvPr/>
        </p:nvSpPr>
        <p:spPr>
          <a:xfrm rot="10737000">
            <a:off x="380520" y="3045960"/>
            <a:ext cx="3122640" cy="155520"/>
          </a:xfrm>
          <a:custGeom>
            <a:avLst/>
            <a:gdLst>
              <a:gd name="textAreaLeft" fmla="*/ 546480 w 3122640"/>
              <a:gd name="textAreaRight" fmla="*/ 2264040 w 3122640"/>
              <a:gd name="textAreaTop" fmla="*/ 20880 h 155520"/>
              <a:gd name="textAreaBottom" fmla="*/ 134640 h 155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2" name="Text Box 22"/>
          <p:cNvSpPr/>
          <p:nvPr/>
        </p:nvSpPr>
        <p:spPr>
          <a:xfrm>
            <a:off x="1600200" y="2971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莫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3" name="Line 23"/>
          <p:cNvSpPr/>
          <p:nvPr/>
        </p:nvSpPr>
        <p:spPr>
          <a:xfrm>
            <a:off x="3962520" y="3124080"/>
            <a:ext cx="6094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4343400" y="28954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凡可以得生者用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AutoShape 25"/>
          <p:cNvSpPr/>
          <p:nvPr/>
        </p:nvSpPr>
        <p:spPr>
          <a:xfrm rot="10873200">
            <a:off x="761400" y="4876560"/>
            <a:ext cx="2514600" cy="30456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17524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莫甚于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7" name="Line 27"/>
          <p:cNvSpPr/>
          <p:nvPr/>
        </p:nvSpPr>
        <p:spPr>
          <a:xfrm>
            <a:off x="3809880" y="4952880"/>
            <a:ext cx="76212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4572000" y="4724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凡可以避患者为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858000" y="1905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正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685800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反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685800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正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685800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反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533520" y="57150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嗟来之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1828800" y="5943600"/>
            <a:ext cx="5410080" cy="0"/>
          </a:xfrm>
          <a:prstGeom prst="line">
            <a:avLst/>
          </a:prstGeom>
          <a:ln w="93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7104960" y="5715000"/>
            <a:ext cx="91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举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7470720" y="2438280"/>
            <a:ext cx="546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道              理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7" name="AutoShape 37"/>
          <p:cNvSpPr/>
          <p:nvPr/>
        </p:nvSpPr>
        <p:spPr>
          <a:xfrm>
            <a:off x="8001000" y="3048120"/>
            <a:ext cx="76320" cy="2971800"/>
          </a:xfrm>
          <a:custGeom>
            <a:avLst/>
            <a:gdLst>
              <a:gd name="textAreaLeft" fmla="*/ 0 w 76320"/>
              <a:gd name="textAreaRight" fmla="*/ 53640 w 76320"/>
              <a:gd name="textAreaTop" fmla="*/ 123840 h 2971800"/>
              <a:gd name="textAreaBottom" fmla="*/ 284832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AutoShape 38"/>
          <p:cNvSpPr/>
          <p:nvPr/>
        </p:nvSpPr>
        <p:spPr>
          <a:xfrm>
            <a:off x="8153280" y="411480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8597880" y="3276720"/>
            <a:ext cx="546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舍  生  取  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684360" y="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264c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基础知识填空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作者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选自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宋朝朱熹把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孟子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《           》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合为“四书”。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读准下列各句中加线字的音并解释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①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不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苟得也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                                 )     ⑤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一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箪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食  （                  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②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今为妻妾之奉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之（                    ） ⑥一豆羹    （                  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③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为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宫室之美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                                 )    ⑦ 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蹴尔而与之   （        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④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所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恶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(                                  )    ⑧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所识穷乏者得我</a:t>
            </a:r>
            <a:r>
              <a:rPr b="1" lang="zh-CN" sz="2400" spc="-1" strike="noStrike" u="sng">
                <a:solidFill>
                  <a:srgbClr val="00264c"/>
                </a:solidFill>
                <a:uFillTx/>
                <a:latin typeface="Times New Roman"/>
              </a:rPr>
              <a:t>欤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？                   ）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264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、读准下列各句子的节奏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所欲有甚于生者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如使人之所欲莫甚于生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③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使人之所恶莫甚于死者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④</a:t>
            </a:r>
            <a:r>
              <a:rPr b="1" lang="zh-CN" sz="2400" spc="-1" strike="noStrike">
                <a:solidFill>
                  <a:srgbClr val="00264c"/>
                </a:solidFill>
                <a:latin typeface="Times New Roman"/>
              </a:rPr>
              <a:t>向为身死而不受，今为宫室之美为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598bbd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64c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  <p:pic>
          <p:nvPicPr>
            <p:cNvPr id="1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E:\枫叶工作室\图片\古代作家\孟子像.bmp"/>
          <p:cNvPicPr/>
          <p:nvPr/>
        </p:nvPicPr>
        <p:blipFill>
          <a:blip r:embed="rId2"/>
          <a:stretch/>
        </p:blipFill>
        <p:spPr>
          <a:xfrm>
            <a:off x="609480" y="685800"/>
            <a:ext cx="2616480" cy="46483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426920" y="685800"/>
            <a:ext cx="3359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孟子：名轲，字子舆。战国时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思想家、教育家，儒家的重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代表，被人们称为“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亚圣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”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孟子</a:t>
            </a: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是记录孟子及其弟子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的言行的著作，也是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儒家经典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著作之一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33520" y="304920"/>
            <a:ext cx="8229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鱼，我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所欲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也，熊掌，亦我所欲也，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者不可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得兼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舍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鱼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而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取熊掌者也。生，亦我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所欲也，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义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，亦我所欲也，二者不可得兼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舍生而取义者也。生亦我所欲，所欲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甚于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生者，故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不为苟得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也。死亦我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所恶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，所恶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甚于死者，故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患有所不避也</a:t>
            </a:r>
            <a:r>
              <a:rPr b="1" lang="zh-CN" sz="3200" spc="-1" strike="noStrike">
                <a:solidFill>
                  <a:srgbClr val="262d4c"/>
                </a:solidFill>
                <a:latin typeface="宋体"/>
              </a:rPr>
              <a:t>。 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2771640" y="7621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所想要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605960" y="177948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同时得到  舍弃  表并列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208960" y="2735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正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18280" y="37609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重要  比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219400" y="46674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做苟且偷生的事       所厌恶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802240" y="57070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祸患也有（我）不躲避的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9144000" cy="9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如使人之所欲莫甚于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则凡可以得生者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何不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。使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之所恶莫甚于死者，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则凡可以避患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何不为也！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由是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则生而有不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；由是则可以避患而有不为也。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是故所欲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有甚于生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所恶有甚于死者。</a:t>
            </a:r>
            <a:r>
              <a:rPr b="1" lang="zh-CN" sz="2800" spc="-1" strike="noStrike">
                <a:solidFill>
                  <a:srgbClr val="00264c"/>
                </a:solidFill>
                <a:latin typeface="宋体"/>
              </a:rPr>
              <a:t>非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贤者有是心也，人皆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之，贤者能勿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耳。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95280" y="692280"/>
            <a:ext cx="77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仿宋_GB2312"/>
                <a:ea typeface="仿宋_GB2312"/>
              </a:rPr>
              <a:t>假使没有比生命更重要的      什么不可使用呢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11280" y="1916280"/>
            <a:ext cx="7048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那么凡是可用来逼祸的手段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511640" y="314172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因此（有的人）明知某种手段能够生存却不使用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511640" y="44370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这是因为（他们）所要的东西有比生命更重要的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900000" y="5516640"/>
            <a:ext cx="86742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仅仅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丢失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228600" y="533520"/>
            <a:ext cx="84582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一箪食，一豆羹</a:t>
            </a:r>
            <a:r>
              <a:rPr b="1" lang="en-US" sz="3600" spc="-1" strike="noStrike">
                <a:solidFill>
                  <a:srgbClr val="ff0066"/>
                </a:solidFill>
                <a:latin typeface="Arial Unicode MS"/>
              </a:rPr>
              <a:t>gēng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，得之则生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弗得则死。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呼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尔而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与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之，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行道之人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弗受；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蹴</a:t>
            </a:r>
            <a:r>
              <a:rPr b="1" lang="en-US" sz="3600" spc="-1" strike="noStrike">
                <a:solidFill>
                  <a:srgbClr val="ff0066"/>
                </a:solidFill>
                <a:latin typeface="Arial Unicode MS"/>
              </a:rPr>
              <a:t>c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ù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尔而与之，乞人</a:t>
            </a:r>
            <a:r>
              <a:rPr b="1" lang="zh-CN" sz="3600" spc="-1" strike="noStrike">
                <a:solidFill>
                  <a:srgbClr val="3333cc"/>
                </a:solidFill>
                <a:latin typeface="Arial Unicode MS"/>
              </a:rPr>
              <a:t>不屑</a:t>
            </a:r>
            <a:r>
              <a:rPr b="1" lang="zh-CN" sz="3600" spc="-1" strike="noStrike">
                <a:solidFill>
                  <a:srgbClr val="000000"/>
                </a:solidFill>
                <a:latin typeface="Arial Unicode MS"/>
              </a:rPr>
              <a:t>也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878560" y="12952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一小筐饭，一小碗汤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124000" y="2924280"/>
            <a:ext cx="70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吆喝    给    饥饿的过路人不接受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002240" y="50785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踢过去          不屑（接受）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万钟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则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不辨礼义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而受之，万钟于我何加焉！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为宫室之美，妻妾之奉，所识穷乏者得我欤？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向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为身死而不受，今为宫室之美为之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；向为身死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不受，今为妻妾之奉为之；向为身死而不受，今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为所识穷乏者得我而为之：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亦不可以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已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乎？此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之</a:t>
            </a:r>
            <a:r>
              <a:rPr b="1" lang="zh-CN" sz="3200" spc="-1" strike="noStrike">
                <a:solidFill>
                  <a:srgbClr val="3333cc"/>
                </a:solidFill>
                <a:latin typeface="Arial Unicode MS"/>
              </a:rPr>
              <a:t>谓失其本心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</a:rPr>
              <a:t>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308960" y="47628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很多的俸禄  不分辨是否合乎礼仪   对于好处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0920" y="1628640"/>
            <a:ext cx="8893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宁可          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失去生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也不接受，现在为了宫室的华丽而做了这样的事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932360" y="4508640"/>
            <a:ext cx="345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         停止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6000" y="53737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叫做失掉了他们的本性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1635480" y="1295280"/>
            <a:ext cx="4782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如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人之所欲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莫甚于生，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呼尔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而与之，行道之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弗受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万钟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则不辨礼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而受之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今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为所识穷乏者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得我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264c"/>
                </a:solidFill>
                <a:latin typeface="Times New Roman"/>
              </a:rPr>
              <a:t>而为之。</a:t>
            </a:r>
            <a:endParaRPr b="0" lang="en-US" sz="3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321000" y="91440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、孟子在文中论述了什么观点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156760" y="1828800"/>
            <a:ext cx="48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舍生取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当“生”与“义”不可兼得时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136680" y="2743200"/>
            <a:ext cx="23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、孟子怎样提出自己的观点的？又是怎样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论述观点的？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121120" y="4114800"/>
            <a:ext cx="530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先用鱼和熊掌设喻引出观点，再正反对比论述，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最后用事例进一步论述观点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6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64c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比喻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“舍鱼而取熊掌” 恰当地说明了在人们          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所喜爱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的两件事物不能同时兼得的情况下，就必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须择优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而取。“一箪食，一豆羹” 说明饮食对饥饿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者虽然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重要，但不合乎礼义也宁死不食，从而证   明了“义”重于“生”，突出了主题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对比  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生和义比，义比生更可贵；死与不义比，不义比死更可恶。又用假设方式与事实作对比，赞扬了舍生取义的人。最后用“不食嗟来之食”与“不辩礼义而受万钟”作对比，赞扬了舍生取义的精神，批判了那些只贪图荣华富贵而不顾礼义廉耻的权贵们。这就起到了突出中心思想的作用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排比</a:t>
            </a:r>
            <a:r>
              <a:rPr b="1" lang="zh-CN" sz="3200" spc="-1" strike="noStrike">
                <a:solidFill>
                  <a:srgbClr val="00264c"/>
                </a:solidFill>
                <a:latin typeface="Times New Roman"/>
              </a:rPr>
              <a:t>   通篇皆是。既有助于逐层深入分析，又能增强文章的气势和论辩力量。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264c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3T07:58:46Z</dcterms:created>
  <dc:creator/>
  <dc:description/>
  <dc:language>en-US</dc:language>
  <cp:lastModifiedBy>a</cp:lastModifiedBy>
  <dcterms:modified xsi:type="dcterms:W3CDTF">2015-05-20T04:19:39Z</dcterms:modified>
  <cp:revision>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