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DDF-626E-47D1-9C74-DA63A133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FD5-CE66-4166-B299-5993C892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A3D-D557-40EA-812F-93EEA53E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F50-DF9D-429A-8B24-AC73503F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772B-9870-4996-9B94-D2968F01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703C-C38F-49A5-9C30-8A2AE5CA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A872-2564-4707-B6F3-F401B9F5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80BD-AA88-4F4A-92FC-CA7EAFF5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6F03-5B63-40D9-A4B4-908A80E1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42F7-66E7-40A9-B375-5287E5BE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929C-101B-4D63-A0A8-06280F9A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C6B-39EE-4D82-90AF-6972F7BB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976C-86EE-49F4-B752-B5F5E3C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587C-F968-40B9-9756-8C316CF4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6E93-137E-4A91-9DC7-EB24F18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3DEA-5A21-4B27-8CA9-58FD4C85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1920-8483-4108-B596-41882420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1A61-89E9-4A3F-941D-37B9D3B8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3CB0-B065-41DB-A52D-729C5387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D440-1E4D-4167-AD65-8B40F99F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EE60-765B-4854-90A9-468F228D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54E3-653D-49F7-BE59-66561116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344-9BEE-4777-BEEE-A80F32C1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E2EF-EFB5-454F-8E94-6ECFF41F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AD4F-3342-48A0-9645-DC5E359A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E4C2-5348-4F2F-8FE0-40BDC2F6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7BED-97AB-4590-A4D1-A87FC8B4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7D5E-04B6-4F00-B642-03BE085F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4CD2-DBFC-4EF8-BF70-D926CB28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0580-DCE6-484C-9AC0-FB4B9EBB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601-55B9-45C0-9240-8444D17C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496-C683-4C58-91BE-CDEEDA41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FB1-9219-458A-B8B4-E7F3B4A6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586-236C-4E67-A2F4-DE2684A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DC6-02E3-48A8-8948-8902396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8E1-6040-42DB-9A7C-BE9D2DE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BCAB-D504-4C66-827D-B62B05DBB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74F9-2AC8-4CD3-9B18-F7B595E4E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1B14-C845-4F67-A3C7-BF4786E690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904-EA4C-4245-AC2D-4AAE2E0BE2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bbs.ruideppt.com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I:\免费\鲁果原创\素材天下网 sucaitianxia.com-yuanxiaojie4副本.png"/>
          <p:cNvPicPr/>
          <p:nvPr/>
        </p:nvPicPr>
        <p:blipFill>
          <a:blip r:embed="rId2"/>
          <a:stretch/>
        </p:blipFill>
        <p:spPr>
          <a:xfrm>
            <a:off x="2286000" y="1154160"/>
            <a:ext cx="4592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3" descr=""/>
          <p:cNvPicPr/>
          <p:nvPr/>
        </p:nvPicPr>
        <p:blipFill>
          <a:blip r:embed="rId2"/>
          <a:stretch/>
        </p:blipFill>
        <p:spPr>
          <a:xfrm>
            <a:off x="1755720" y="1828800"/>
            <a:ext cx="5943600" cy="17557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12920" y="4114800"/>
            <a:ext cx="4353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6:12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4:16:12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