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2-04-26T23:05:42.285000000" idx="1">
    <p:pos x="4390" y="159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F9F-3421-4388-890B-2E10BA99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581-D88C-4D66-A70B-52C66384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9E8-E45B-4BCE-AA05-FD96B9BC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470-8A1A-4817-9C2D-DA196F05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574-6F14-4CF5-88B3-C3CD43C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26D-0857-48ED-B3AA-37F88E4E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46B-A51A-4BC3-8E69-F05A3DD9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E96-FFDA-48BA-A589-D7B196D3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BFB-DC70-49E8-B70F-FFFA5083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1FE-CDBB-4033-B8BB-3EC7952A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42D-2D70-4853-A866-72A063E2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662-8571-4DD3-AD79-9128D0B7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CBBD-7808-483D-8525-CE3D9C8D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../&#35838;&#20214;&#30446;&#24405;B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hyperlink" Target="../../&#35838;&#20214;&#30446;&#24405;B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http://www.eeppt.com/moban/kejian/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../../&#35838;&#20214;&#30446;&#24405;B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%5C..%5C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..%5C..%5C&#35838;&#20214;&#30446;&#24405;B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../../&#35838;&#20214;&#30446;&#24405;B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../../&#35838;&#20214;&#30446;&#24405;B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../../&#35838;&#20214;&#30446;&#24405;B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35838;&#20214;&#30446;&#24405;B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../../&#35838;&#20214;&#30446;&#24405;B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10"/>
          <p:cNvPicPr/>
          <p:nvPr/>
        </p:nvPicPr>
        <p:blipFill>
          <a:blip r:embed="rId2"/>
          <a:stretch/>
        </p:blipFill>
        <p:spPr>
          <a:xfrm>
            <a:off x="3132000" y="3357720"/>
            <a:ext cx="1995480" cy="25207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9"/>
          <p:cNvGrpSpPr/>
          <p:nvPr/>
        </p:nvGrpSpPr>
        <p:grpSpPr>
          <a:xfrm>
            <a:off x="7086600" y="6581880"/>
            <a:ext cx="2057400" cy="276120"/>
            <a:chOff x="7086600" y="6581880"/>
            <a:chExt cx="2057400" cy="276120"/>
          </a:xfrm>
        </p:grpSpPr>
        <p:pic>
          <p:nvPicPr>
            <p:cNvPr id="43" name="Picture 20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0866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21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78880" y="658188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2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WordArt 23"/>
          <p:cNvSpPr txBox="1"/>
          <p:nvPr/>
        </p:nvSpPr>
        <p:spPr>
          <a:xfrm>
            <a:off x="1042920" y="1052640"/>
            <a:ext cx="5905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隐姓埋名三十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"/>
          <p:cNvSpPr/>
          <p:nvPr/>
        </p:nvSpPr>
        <p:spPr>
          <a:xfrm>
            <a:off x="468360" y="24969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怪作者赞叹到：放弃名利，对于一般人尚且需要很大的勇气，更何况是早已闻名于世的王承书呢？作者对她这一表态的高度评价，指出闻名于世的王承书勇气非凡，不愧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泊明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典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042920" y="1197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阅读感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12" name="Picture 1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9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20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1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1547640" y="313272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承书是怎样隐姓埋名工作的？你是从哪里感受到她是一个不记名利、忠于祖国、无私奉献的人？默读课文思考。画出重点语句，谈一谈自己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900000" y="907920"/>
            <a:ext cx="3225960" cy="1006560"/>
            <a:chOff x="900000" y="907920"/>
            <a:chExt cx="3225960" cy="1006560"/>
          </a:xfrm>
        </p:grpSpPr>
        <p:sp>
          <p:nvSpPr>
            <p:cNvPr id="118" name="AutoShape 12"/>
            <p:cNvSpPr/>
            <p:nvPr/>
          </p:nvSpPr>
          <p:spPr>
            <a:xfrm>
              <a:off x="900000" y="907920"/>
              <a:ext cx="32259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1605960" y="1196280"/>
              <a:ext cx="2519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研读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AI_cd0001_02945"/>
            <p:cNvPicPr/>
            <p:nvPr/>
          </p:nvPicPr>
          <p:blipFill>
            <a:blip r:embed="rId2"/>
            <a:stretch/>
          </p:blipFill>
          <p:spPr>
            <a:xfrm>
              <a:off x="900000" y="907920"/>
              <a:ext cx="825840" cy="100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课文朗读.mp3" descr=""/>
          <p:cNvPicPr/>
          <p:nvPr/>
        </p:nvPicPr>
        <p:blipFill>
          <a:blip r:embed="rId3"/>
          <a:stretch/>
        </p:blipFill>
        <p:spPr>
          <a:xfrm>
            <a:off x="6999120" y="692280"/>
            <a:ext cx="648000" cy="649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7"/>
          <p:cNvSpPr/>
          <p:nvPr/>
        </p:nvSpPr>
        <p:spPr>
          <a:xfrm>
            <a:off x="6877080" y="1557360"/>
            <a:ext cx="9144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点击播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24" name="Picture 24" descr="按扭1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5" descr="按扭2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6" descr="按扭3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7" descr="按扭5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52618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611280" y="21088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，王承书从国内、国际的物理学术殿堂消失了；从此，她再没有在国内外任何学术杂志上发表过论文；就是在我国内部保密刊物和工作报告中，她也不署名，实现了自己隐姓埋名的承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977280" y="4004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她言必行，行必果，诚而有信，决不食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7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31" name="Picture 1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9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0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1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900000" y="49417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900000" y="2268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虽然王承书从没有接触过提炼浓缩铀技术研究领域，但她决心凭着自己坚实的物理学术功底，和大家共同学习，共同研究，攻克这个难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086720" y="4004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面对困难，她以极大的热情，迎难而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7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39" name="Picture 1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9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0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1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108000" y="1547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究这项核心技术，需要进行大量的复杂的计算。为了获取精确的数据，她和同事克服设备简陋的困难，一下一下地敲打计算机的键盘。这种枯燥繁重的工作，她和同事不分昼夜干了一年多，仅获得的有用的数据，就装满三个抽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0" y="43624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为了取得数据，王承书带领大家克服困难、艰苦奋斗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7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46" name="Picture 1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9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0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1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684360" y="2337480"/>
            <a:ext cx="64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她瘦弱而刚毅的身影，闪现在实验室和工厂，闪现在大西北的戈壁滩上。有时由于研究工作的需要回到北京，她也几乎没有时间和家人团聚，看看自己心爱的正在上小学的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323080" y="450288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舍小家，为国家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7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53" name="Picture 1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9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0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1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1"/>
          <p:cNvSpPr/>
          <p:nvPr/>
        </p:nvSpPr>
        <p:spPr>
          <a:xfrm>
            <a:off x="755640" y="1413000"/>
            <a:ext cx="6769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祖国国力增强，为了中华儿女扬眉吐气，虽然她为之付出极大牺牲，但做出了卓越贡献，是不折不扣的功臣；虽然她没能上台领奖，报刊的喜讯中也没提到她的名字，但她还是心甘情愿继续隐匿自己的姓名，继续为祖国核武器研制工作默默奉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972880" y="4625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共和国的英雄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60" name="Picture 19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2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755640" y="17730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了这篇课文，你有什么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900000" y="98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学文收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67" name="Picture 1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9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0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1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Rectangle 23"/>
          <p:cNvSpPr/>
          <p:nvPr/>
        </p:nvSpPr>
        <p:spPr>
          <a:xfrm>
            <a:off x="826920" y="2720880"/>
            <a:ext cx="640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　　</a:t>
            </a:r>
            <a:r>
              <a:rPr b="0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这篇文章主线鲜明，重点突出，在顺叙中有插叙，在记叙中有议论，饱含作者的深情，读着令人产生共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学习王承书的爱国与无私奉献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1116000" y="2565360"/>
            <a:ext cx="63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建国以来的科学家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钱学森、黄伯云、邓稼先、杨振宁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丁肇中、钱三强、袁隆平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68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拓展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W020080324536696640273"/>
          <p:cNvPicPr/>
          <p:nvPr/>
        </p:nvPicPr>
        <p:blipFill>
          <a:blip r:embed="rId2"/>
          <a:stretch/>
        </p:blipFill>
        <p:spPr>
          <a:xfrm>
            <a:off x="2411280" y="836640"/>
            <a:ext cx="719280" cy="665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8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76" name="Picture 19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0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1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2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0"/>
          <p:cNvSpPr/>
          <p:nvPr/>
        </p:nvSpPr>
        <p:spPr>
          <a:xfrm>
            <a:off x="900000" y="1844640"/>
            <a:ext cx="612144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作业超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科学家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笔：假如我是一位科学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6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82" name="Picture 17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8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9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0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755640" y="2205000"/>
            <a:ext cx="64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渺小  热忱  掌握  采购  撤走                撕毁  关键  刊物  署名  提炼                          不分昼夜   熠熠生辉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假思索                    闻名于世   世人瞩目   艰苦奋斗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力更生   毫不犹豫   欢欣鼓舞                 心甘情愿   不折不扣   默默奉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258920" y="1052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我会读  我会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50" name="Picture 11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4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8"/>
          <p:cNvGrpSpPr/>
          <p:nvPr/>
        </p:nvGrpSpPr>
        <p:grpSpPr>
          <a:xfrm>
            <a:off x="539640" y="260280"/>
            <a:ext cx="6984720" cy="5832360"/>
            <a:chOff x="539640" y="260280"/>
            <a:chExt cx="6984720" cy="5832360"/>
          </a:xfrm>
        </p:grpSpPr>
        <p:pic>
          <p:nvPicPr>
            <p:cNvPr id="187" name="Picture 9" descr="5而是"/>
            <p:cNvPicPr/>
            <p:nvPr/>
          </p:nvPicPr>
          <p:blipFill>
            <a:blip r:embed="rId2"/>
            <a:stretch/>
          </p:blipFill>
          <p:spPr>
            <a:xfrm>
              <a:off x="539640" y="260280"/>
              <a:ext cx="651816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0"/>
            <p:cNvSpPr/>
            <p:nvPr/>
          </p:nvSpPr>
          <p:spPr>
            <a:xfrm>
              <a:off x="1865520" y="2842920"/>
              <a:ext cx="5658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谢谢收看！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6"/>
          <p:cNvGrpSpPr/>
          <p:nvPr/>
        </p:nvGrpSpPr>
        <p:grpSpPr>
          <a:xfrm>
            <a:off x="7164360" y="6581880"/>
            <a:ext cx="1979640" cy="276120"/>
            <a:chOff x="7164360" y="6581880"/>
            <a:chExt cx="1979640" cy="276120"/>
          </a:xfrm>
        </p:grpSpPr>
        <p:pic>
          <p:nvPicPr>
            <p:cNvPr id="190" name="Picture 27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8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9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0"/>
          <p:cNvSpPr/>
          <p:nvPr/>
        </p:nvSpPr>
        <p:spPr>
          <a:xfrm>
            <a:off x="900000" y="2209680"/>
            <a:ext cx="640260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隐姓埋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隐姓埋名三十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三十年的时间里这个人做了什么事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质疑问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57" name="Picture 1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9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0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1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20080605131703979"/>
          <p:cNvPicPr/>
          <p:nvPr/>
        </p:nvPicPr>
        <p:blipFill>
          <a:blip r:embed="rId2"/>
          <a:stretch/>
        </p:blipFill>
        <p:spPr>
          <a:xfrm>
            <a:off x="6443640" y="1052640"/>
            <a:ext cx="1209600" cy="1904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539640" y="126828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王承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女，理论物理学家，气体动力学和铀同位素分离专家。致力于稀薄气体动力学的研究，第一个发现求解玻尔兹曼方程的本征值理论，提出适用于多原子气体的推广的玻尔兹曼方程，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ＷＣ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程。回国后，从事铀同位素分离工作，为我国铀同位素分离的理论研究奠定了基础，并培育了一支理论研究队伍。在研制我国第一颗原子弹的装料工作中做出了巨大贡献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76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人物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65" name="Picture 21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2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3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4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"/>
          <p:cNvSpPr/>
          <p:nvPr/>
        </p:nvSpPr>
        <p:spPr>
          <a:xfrm>
            <a:off x="539640" y="1484280"/>
            <a:ext cx="74883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阅读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课文，注意文中的生字新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边默读，一边思考：王承书怎样隐姓埋名？围绕隐姓埋名写了她的几件事？分别在哪些自然段中？简单概括写的是什么事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http_imgload参加"/>
          <p:cNvPicPr/>
          <p:nvPr/>
        </p:nvPicPr>
        <p:blipFill>
          <a:blip r:embed="rId2"/>
          <a:stretch/>
        </p:blipFill>
        <p:spPr>
          <a:xfrm>
            <a:off x="6948360" y="981000"/>
            <a:ext cx="719280" cy="7192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7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72" name="Picture 18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9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0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1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503280" y="2421360"/>
            <a:ext cx="864072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坚定承诺，隐姓埋名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放弃名利，毅然回国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果断受命，解决难题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部分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艰苦工作，爆炸成功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部分（第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熠熠生辉，英名永存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826200" y="1254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7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79" name="Picture 1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9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0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1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1187280" y="29185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承书为什么要隐姓埋名？她是怎么做的？你觉得哪件事情让你最感动？自学，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684360" y="692280"/>
            <a:ext cx="3225600" cy="1006200"/>
            <a:chOff x="684360" y="692280"/>
            <a:chExt cx="3225600" cy="1006200"/>
          </a:xfrm>
        </p:grpSpPr>
        <p:sp>
          <p:nvSpPr>
            <p:cNvPr id="85" name="AutoShape 12"/>
            <p:cNvSpPr/>
            <p:nvPr/>
          </p:nvSpPr>
          <p:spPr>
            <a:xfrm>
              <a:off x="684360" y="692280"/>
              <a:ext cx="32256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1390320" y="980640"/>
              <a:ext cx="2519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研读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4" descr="AI_cd0001_02945"/>
            <p:cNvPicPr/>
            <p:nvPr/>
          </p:nvPicPr>
          <p:blipFill>
            <a:blip r:embed="rId2"/>
            <a:stretch/>
          </p:blipFill>
          <p:spPr>
            <a:xfrm>
              <a:off x="684360" y="692280"/>
              <a:ext cx="825840" cy="100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15" descr="W020080925419958302006"/>
          <p:cNvPicPr/>
          <p:nvPr/>
        </p:nvPicPr>
        <p:blipFill>
          <a:blip r:embed="rId3"/>
          <a:stretch/>
        </p:blipFill>
        <p:spPr>
          <a:xfrm>
            <a:off x="5796000" y="4076640"/>
            <a:ext cx="1511280" cy="78444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1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90" name="Picture 22" descr="按扭1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3" descr="按扭2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4" descr="按扭3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25" descr="按扭5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539640" y="620280"/>
            <a:ext cx="63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我愿意！</a:t>
            </a:r>
            <a:r>
              <a:rPr b="0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王承书不假思索地说出这三个字，声音不高，却十分坚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682560" y="284904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极为平常的三个字，对王承书来说，将意味着</a:t>
            </a: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从此放弃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熟悉而喜爱的专业，</a:t>
            </a: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从此放弃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学家应有的学术待遇和荣誉，</a:t>
            </a:r>
            <a:r>
              <a:rPr b="0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从此放弃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切名利，而不能像其他领域的功臣那样面对鲜花和掌声；不管为国家做出多大贡献，自己的名字也不会为人所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266920" y="53038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你感受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98" name="Picture 19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2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"/>
          <p:cNvSpPr/>
          <p:nvPr/>
        </p:nvSpPr>
        <p:spPr>
          <a:xfrm>
            <a:off x="1258920" y="1767960"/>
            <a:ext cx="5977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感受到了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这意味着她从此放弃了一切名利</a:t>
            </a:r>
            <a:r>
              <a:rPr b="0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优厚的待遇和荣誉，无数次的鲜花和掌声，而这是需要有极大的勇气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‘"/>
          <p:cNvPicPr/>
          <p:nvPr/>
        </p:nvPicPr>
        <p:blipFill>
          <a:blip r:embed="rId2"/>
          <a:stretch/>
        </p:blipFill>
        <p:spPr>
          <a:xfrm>
            <a:off x="6156360" y="3860640"/>
            <a:ext cx="1098360" cy="11448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7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05" name="Picture 18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1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2:23:2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47:24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