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E699-4F12-4180-B4F3-7AE58A55A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4858-B4CF-4590-B2D0-947A69B28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69C0-989A-40B4-B287-CC0F00F75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2B540-4675-44A7-AD6E-54E6C5B5B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F3DC-7DEF-4A9B-B745-9E99B62A3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D2B51-64C8-4EDC-9C1C-14B41E37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DEE59-CA40-436C-83A6-B6FE79FFB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DAE4B-B7B4-48B0-89E5-029E068F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548A5-89F6-49E8-B378-8EE9F76F9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1986-6584-4EAA-8FE4-8E407908C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C2111-A4E9-4288-929D-95140707C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5AFF-9F90-473F-84A8-1BC9713AC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DD98-8795-48C5-99DD-C2ABA43C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7C8D9-1E56-4858-A457-D2E484C5D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099D3-AA38-4766-BFD3-0A8FE9123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BC2B2-FF00-4A7C-8C9A-F7BE36AC6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F5F2C-560C-4FD3-8FCF-16007FBCB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A319-01F1-42A0-9551-3C1533C3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D5DC-2244-4405-90F0-001A3EEA2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1F81-EFAB-4B4D-B1A2-0BC9695E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FDDB-5B4C-468B-A7C7-FBA3C9CC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0BF54-07DA-487C-AF1C-3CB6C61E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A4D4-1B24-4C81-8A06-5394FB532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6A44-C9FD-4BBD-BBDB-9A9243F08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122AF-75DC-4F4E-8C2E-FCB70171A7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E3136-3205-44B1-A733-FF5E69563D5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E343F-C2DB-4814-AB8F-B5830D0ECB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BS00975_"/>
          <p:cNvPicPr/>
          <p:nvPr/>
        </p:nvPicPr>
        <p:blipFill>
          <a:blip r:embed="rId1"/>
          <a:stretch/>
        </p:blipFill>
        <p:spPr>
          <a:xfrm>
            <a:off x="0" y="4800600"/>
            <a:ext cx="1905120" cy="14479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00"/>
                </a:solidFill>
                <a:latin typeface="Stencil"/>
              </a:rPr>
              <a:t>7A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03280" y="3860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tencil"/>
              </a:rPr>
              <a:t>Unit 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Stencil"/>
              </a:rPr>
              <a:t>Pronunci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WordArt 5"/>
          <p:cNvSpPr txBox="1"/>
          <p:nvPr/>
        </p:nvSpPr>
        <p:spPr>
          <a:xfrm>
            <a:off x="1676520" y="838080"/>
            <a:ext cx="5638680" cy="575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宋体"/>
              </a:rPr>
              <a:t>Fun with English</a:t>
            </a:r>
            <a:endParaRPr b="1" lang="en-US" sz="5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a word ends in[s], [z], [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∫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],[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],[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∫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] or[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з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] , the new ‘-(e)s ending is pronounced [iz]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6782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anges   houses   wat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ances    wishes    glas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asses   practises   hors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6705720" y="23320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[iz]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做词的填空练习，总结其发音情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560" y="914040"/>
            <a:ext cx="883908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There are twenty-four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n the class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desk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There are 9 secondar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in Gulou District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school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There are two big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n front of the buil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tree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He has man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.  ( orange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There are 48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in my class.  ( student 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清辅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s, ps 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］；浊辅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s, gs, ms, ls, vs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］；元音 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 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］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, x, ch, sh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, ze, (d)g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 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］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, 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 ---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s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dz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228600" y="533520"/>
            <a:ext cx="8610480" cy="62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Daniel ofte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me.  ( help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Simon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playing football after school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love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Daniel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 lot about computers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know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 Mr Wu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us English.  ( teach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y father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newspapers after supper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read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he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to school by bus.  ( go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8377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ork in pairs and talk about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：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284200"/>
            <a:ext cx="8229600" cy="289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chool and 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es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fter-school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eacher and frie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2"/>
          <p:cNvSpPr/>
          <p:nvPr/>
        </p:nvSpPr>
        <p:spPr>
          <a:xfrm>
            <a:off x="457200" y="1295280"/>
            <a:ext cx="7696080" cy="49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How to read the sentences in  B Speak up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o you do morning exercises at schoo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304920" y="228600"/>
          <a:ext cx="8534160" cy="6116760"/>
        </p:xfrm>
        <a:graphic>
          <a:graphicData uri="http://schemas.openxmlformats.org/drawingml/2006/table">
            <a:tbl>
              <a:tblPr/>
              <a:tblGrid>
                <a:gridCol w="790200"/>
                <a:gridCol w="2054160"/>
                <a:gridCol w="1803600"/>
                <a:gridCol w="3886200"/>
              </a:tblGrid>
              <a:tr h="8359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句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句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例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69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陈述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降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’s a cold day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264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疑问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一般疑问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升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it a cold day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特殊疑问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降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’s your mother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5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选择疑问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前升后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 it yours    or mine?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44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祈使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降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t’s go to the park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0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感叹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降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w lowly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hat a cold day today!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AutoShape 1062"/>
          <p:cNvSpPr/>
          <p:nvPr/>
        </p:nvSpPr>
        <p:spPr>
          <a:xfrm>
            <a:off x="7620120" y="2057400"/>
            <a:ext cx="485640" cy="38088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063"/>
          <p:cNvSpPr/>
          <p:nvPr/>
        </p:nvSpPr>
        <p:spPr>
          <a:xfrm>
            <a:off x="7620120" y="1219320"/>
            <a:ext cx="4856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064"/>
          <p:cNvSpPr/>
          <p:nvPr/>
        </p:nvSpPr>
        <p:spPr>
          <a:xfrm>
            <a:off x="6553080" y="3657600"/>
            <a:ext cx="486000" cy="609480"/>
          </a:xfrm>
          <a:prstGeom prst="upArrow">
            <a:avLst>
              <a:gd name="adj1" fmla="val 50000"/>
              <a:gd name="adj2" fmla="val 313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1065"/>
          <p:cNvSpPr/>
          <p:nvPr/>
        </p:nvSpPr>
        <p:spPr>
          <a:xfrm>
            <a:off x="8305920" y="3733920"/>
            <a:ext cx="485640" cy="533160"/>
          </a:xfrm>
          <a:prstGeom prst="downArrow">
            <a:avLst>
              <a:gd name="adj1" fmla="val 50000"/>
              <a:gd name="adj2" fmla="val 274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1066"/>
          <p:cNvSpPr/>
          <p:nvPr/>
        </p:nvSpPr>
        <p:spPr>
          <a:xfrm>
            <a:off x="8153280" y="4572000"/>
            <a:ext cx="486000" cy="533520"/>
          </a:xfrm>
          <a:prstGeom prst="downArrow">
            <a:avLst>
              <a:gd name="adj1" fmla="val 50000"/>
              <a:gd name="adj2" fmla="val 2744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067"/>
          <p:cNvSpPr/>
          <p:nvPr/>
        </p:nvSpPr>
        <p:spPr>
          <a:xfrm>
            <a:off x="6934320" y="5410080"/>
            <a:ext cx="4856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1068"/>
          <p:cNvSpPr/>
          <p:nvPr/>
        </p:nvSpPr>
        <p:spPr>
          <a:xfrm>
            <a:off x="8658360" y="5867280"/>
            <a:ext cx="4856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069"/>
          <p:cNvSpPr/>
          <p:nvPr/>
        </p:nvSpPr>
        <p:spPr>
          <a:xfrm>
            <a:off x="8229600" y="2895480"/>
            <a:ext cx="4856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ke more sentenc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8680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). What will you say if you want to know whe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thers hear you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). What will you ask your teacher if you want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ve the classroom for hom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). What will you say to your classmate if yo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nt to take a seat to have a r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). What will you say to your mother if you want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ke Eddie out for a walk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). What will you say to your friends if you want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o to the Space Museu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ad the questions after the ta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n I borrow your p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have your book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I watch TV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she tall and sli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you bus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 you like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920" y="4190760"/>
            <a:ext cx="8229600" cy="169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rs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book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flow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1"/>
          <p:cNvPicPr/>
          <p:nvPr/>
        </p:nvPicPr>
        <p:blipFill>
          <a:blip r:embed="rId2"/>
          <a:stretch/>
        </p:blipFill>
        <p:spPr>
          <a:xfrm>
            <a:off x="457200" y="990720"/>
            <a:ext cx="8381880" cy="312408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"/>
          <p:cNvSpPr/>
          <p:nvPr/>
        </p:nvSpPr>
        <p:spPr>
          <a:xfrm>
            <a:off x="685800" y="30492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the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2057400" y="4191120"/>
            <a:ext cx="1371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z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4952880" y="4191120"/>
            <a:ext cx="1067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7696080" y="4191120"/>
            <a:ext cx="1143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［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en a word ends in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[p] [f] [O] [t] [k], the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ew ‘-(e)s’ending is pronounced [s]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48006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walk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lik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k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cour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ea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chat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help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81120" y="2332080"/>
            <a:ext cx="342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[s]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5943600" y="380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a word ends in a vowel sound or a voiced consonant sound (except  [z] , [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]  [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]) , the new ‘-(e)s’ ending is pronounced [z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y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flow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bird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end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wea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go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bird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find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g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lov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friend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rl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give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867280" y="2971800"/>
            <a:ext cx="1828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[z]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0T00:57:45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4:19:00Z</dcterms:modified>
  <cp:revision>17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