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6BB-1987-4BF3-85D7-4B4A03AF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1899-FCAC-41D1-8DF3-1E5EE8C6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FC1-30C5-492D-A2D5-B29F4AA6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E082-8CE2-4507-9CC0-C8BD0047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0218-0A93-41AD-A788-8026D1A4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30CC-9179-4212-89BA-B18CF6C3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086F-74EA-48D2-BEE5-2608F6C7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71C4-5E1E-4230-885D-B4EE3069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DB85-B2EA-46A7-9131-14CE680C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A65D-BF52-42B5-9401-FA91B748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3CA6-D32C-41FE-9F78-0DA57D3E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CF2-D687-4ED4-9786-D961420E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F968-53A4-46F3-A14F-9C881422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7031-FBDF-4AF5-BDC3-FFF711AE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0EAE-8BBC-4127-B8C9-FB1BFD33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019D-F0A3-41A9-B22E-6894E8EE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DE79-9E99-4ABF-9B3A-1B58AB8C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9D6E-8168-46F5-A1EF-F1109658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D229-3301-4F60-8A50-371DB131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08B4-7B31-4363-B2C5-A78422B1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C55F-8127-494C-9656-ADBA0584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B9D8-78DA-4373-9128-3307A2D6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C648-F78F-4D80-9983-407F42E5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B10E-1FDE-4DBB-893B-DF626277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1665-2194-4430-B347-03DC27943A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0710-F2D7-4669-B168-C447932EEED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7BE6-3C6C-467C-AD9B-4866349238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kejian/" TargetMode="External"/><Relationship Id="rId3" Type="http://schemas.openxmlformats.org/officeDocument/2006/relationships/hyperlink" Target="http://www.1ppt.com/kejian/yuwen/" TargetMode="External"/><Relationship Id="rId4" Type="http://schemas.openxmlformats.org/officeDocument/2006/relationships/hyperlink" Target="http://www.1ppt.com/kejian/shuxue/" TargetMode="External"/><Relationship Id="rId5" Type="http://schemas.openxmlformats.org/officeDocument/2006/relationships/hyperlink" Target="http://www.1ppt.com/kejian/yingyu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hyperlink" Target="I:\&#23432;&#26666;&#24453;&#20820;.mpg" TargetMode="External"/><Relationship Id="rId18" Type="http://schemas.openxmlformats.org/officeDocument/2006/relationships/image" Target="../media/image2.jpe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3276720" y="223848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kejian/yuwen/138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九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www.1ppt.com/kejian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297160" y="333360"/>
            <a:ext cx="393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守株待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">
            <a:hlinkClick r:id="rId17"/>
          </p:cNvPr>
          <p:cNvSpPr/>
          <p:nvPr/>
        </p:nvSpPr>
        <p:spPr>
          <a:xfrm>
            <a:off x="179280" y="5734080"/>
            <a:ext cx="1079640" cy="936720"/>
          </a:xfrm>
          <a:custGeom>
            <a:avLst/>
            <a:gdLst>
              <a:gd name="textAreaLeft" fmla="*/ 58320 w 1079640"/>
              <a:gd name="textAreaRight" fmla="*/ 1021320 w 1079640"/>
              <a:gd name="textAreaTop" fmla="*/ 58320 h 936720"/>
              <a:gd name="textAreaBottom" fmla="*/ 878400 h 936720"/>
            </a:gdLst>
            <a:ahLst/>
            <a:rect l="textAreaLeft" t="textAreaTop" r="textAreaRight" b="textAreaBottom"/>
            <a:pathLst>
              <a:path w="24894" h="21600">
                <a:moveTo>
                  <a:pt x="0" y="0"/>
                </a:moveTo>
                <a:lnTo>
                  <a:pt x="24894" y="0"/>
                </a:lnTo>
                <a:lnTo>
                  <a:pt x="24894" y="21600"/>
                </a:lnTo>
                <a:lnTo>
                  <a:pt x="0" y="21600"/>
                </a:lnTo>
                <a:close/>
              </a:path>
              <a:path fill="lightenLess" w="24894" h="21600">
                <a:moveTo>
                  <a:pt x="0" y="0"/>
                </a:moveTo>
                <a:lnTo>
                  <a:pt x="24894" y="0"/>
                </a:lnTo>
                <a:lnTo>
                  <a:pt x="23544" y="1350"/>
                </a:lnTo>
                <a:lnTo>
                  <a:pt x="1350" y="1350"/>
                </a:lnTo>
                <a:close/>
              </a:path>
              <a:path fill="darken" w="24894" h="21600">
                <a:moveTo>
                  <a:pt x="24894" y="0"/>
                </a:moveTo>
                <a:lnTo>
                  <a:pt x="24894" y="21600"/>
                </a:lnTo>
                <a:lnTo>
                  <a:pt x="23544" y="20250"/>
                </a:lnTo>
                <a:lnTo>
                  <a:pt x="23544" y="1350"/>
                </a:lnTo>
                <a:close/>
              </a:path>
              <a:path fill="darkenLess" w="24894" h="21600">
                <a:moveTo>
                  <a:pt x="2489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544" y="20250"/>
                </a:lnTo>
                <a:close/>
              </a:path>
              <a:path fill="lighten" w="2489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894" h="21600">
                <a:moveTo>
                  <a:pt x="5403" y="7283"/>
                </a:moveTo>
                <a:lnTo>
                  <a:pt x="6322" y="7283"/>
                </a:lnTo>
                <a:lnTo>
                  <a:pt x="6707" y="7650"/>
                </a:lnTo>
                <a:lnTo>
                  <a:pt x="15965" y="7650"/>
                </a:lnTo>
                <a:lnTo>
                  <a:pt x="16525" y="8210"/>
                </a:lnTo>
                <a:lnTo>
                  <a:pt x="16525" y="8761"/>
                </a:lnTo>
                <a:lnTo>
                  <a:pt x="18380" y="8761"/>
                </a:lnTo>
                <a:lnTo>
                  <a:pt x="18747" y="8210"/>
                </a:lnTo>
                <a:lnTo>
                  <a:pt x="19491" y="8210"/>
                </a:lnTo>
                <a:lnTo>
                  <a:pt x="19491" y="13390"/>
                </a:lnTo>
                <a:lnTo>
                  <a:pt x="18747" y="13390"/>
                </a:lnTo>
                <a:lnTo>
                  <a:pt x="18380" y="12839"/>
                </a:lnTo>
                <a:lnTo>
                  <a:pt x="16525" y="12839"/>
                </a:lnTo>
                <a:lnTo>
                  <a:pt x="16525" y="14125"/>
                </a:lnTo>
                <a:lnTo>
                  <a:pt x="6891" y="14125"/>
                </a:lnTo>
                <a:lnTo>
                  <a:pt x="6891" y="9873"/>
                </a:lnTo>
                <a:lnTo>
                  <a:pt x="6707" y="9873"/>
                </a:lnTo>
                <a:lnTo>
                  <a:pt x="6322" y="10240"/>
                </a:lnTo>
                <a:lnTo>
                  <a:pt x="5403" y="102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5" descr="7110113"/>
          <p:cNvPicPr/>
          <p:nvPr/>
        </p:nvPicPr>
        <p:blipFill>
          <a:blip r:embed="rId18"/>
          <a:stretch/>
        </p:blipFill>
        <p:spPr>
          <a:xfrm>
            <a:off x="2481120" y="1521000"/>
            <a:ext cx="3746520" cy="44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866520" y="476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自学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426120" y="1436760"/>
            <a:ext cx="31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则寓言讲了一件什么事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927880" y="2100240"/>
            <a:ext cx="9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围绕三个问题自学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55640" y="278136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庄稼人为什么会在树桩旁等待撞死的兔子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895040" y="3933720"/>
            <a:ext cx="40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他是怎样等待兔子的？结果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1407600" y="4941720"/>
            <a:ext cx="25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这个人错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805760" y="476280"/>
            <a:ext cx="41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守株待兔说明农夫怎样的心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990240" y="1700280"/>
            <a:ext cx="11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则寓言告诉我们一个什么样的道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826920" y="3068640"/>
            <a:ext cx="729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不能存有不劳而获的侥幸心理，而应该通过努力去获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870360" y="371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板书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6160" y="2997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守株待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979640" y="2349360"/>
            <a:ext cx="431640" cy="201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720160" y="2384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556000" y="3122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做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2720160" y="380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467240" y="238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白捡野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231440" y="3141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丢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240880" y="3124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整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6310800" y="3124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7318800" y="3124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4548240" y="3807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庄稼全完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708360" y="404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547640" y="1662120"/>
            <a:ext cx="62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我们学习了两则寓言故事，  明白了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做事要持之以恒、才能获得成功</a:t>
            </a:r>
            <a:r>
              <a:rPr b="0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，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不能怀着侥幸的心理、不劳而获</a:t>
            </a:r>
            <a:r>
              <a:rPr b="0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这两个道理。希望同学们能够学以致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3:11:01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6:54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