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10B-AE7C-4DF2-BFE7-5D149B10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D47-2939-41FF-A93E-FCE2ED25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91A-4BD1-4E51-A804-3299B81E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B48-489E-40BC-8065-2C20160B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9282-C2BE-41C6-830E-8CB42170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04C4-CEDB-4845-8449-763F8DD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FC15-CA84-45DC-A4F7-A1B89ECF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7F7A-E7EE-4615-960C-D91A4DF9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0227-F4F0-44B4-914D-3F6ECD49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2D59-696A-4819-90E9-581AAD4C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36BD-FB59-4F8D-BA94-1DD606CD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817-A69C-4E6B-8143-D54F939E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7DC5-6C6F-47D9-AA6B-5F2BBB2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DAA9-FC5E-48C8-AD4D-D5DAEE70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853D-42E0-4954-9A6F-783BB95C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2044-9BB7-4965-9D05-9F34A024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7A78-C153-4F09-B8C8-8B016150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BF7-BEA3-4DCE-BB8C-16FFA849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32D-4E6B-458B-AE39-E8B99653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BEA-B9B7-4390-B216-DC4FE116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C26-1EE5-46A7-B27B-7D3A9DBD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2D3-7724-457F-BD6D-EEB138AD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893-2F0B-459E-9EDA-384691E8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34C-B75E-4134-A0C4-901AF0A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40D8-C298-442E-8C3C-23ABBFA9B6DB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0490-1144-4197-BD49-46995F51F80C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  <a:ea typeface="宋体"/>
              </a:rPr>
              <a:t>Magician Abra Cadabra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121932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560" y="1562040"/>
            <a:ext cx="37335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2057040"/>
            <a:ext cx="5181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38120" y="6858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24080" y="1295280"/>
            <a:ext cx="5181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0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0" descr="magician_abra_cadabra_qx"/>
          <p:cNvPicPr/>
          <p:nvPr/>
        </p:nvPicPr>
        <p:blipFill>
          <a:blip r:embed="rId1"/>
          <a:stretch/>
        </p:blipFill>
        <p:spPr>
          <a:xfrm>
            <a:off x="24382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9" name="Picture 111" descr="magician_abra_cadabra_sld"/>
          <p:cNvPicPr/>
          <p:nvPr/>
        </p:nvPicPr>
        <p:blipFill>
          <a:blip r:embed="rId2"/>
          <a:stretch/>
        </p:blipFill>
        <p:spPr>
          <a:xfrm>
            <a:off x="40384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Picture 112" descr="magician_abra_cadabra_trs"/>
          <p:cNvPicPr/>
          <p:nvPr/>
        </p:nvPicPr>
        <p:blipFill>
          <a:blip r:embed="rId3"/>
          <a:stretch/>
        </p:blipFill>
        <p:spPr>
          <a:xfrm>
            <a:off x="56386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Picture 113" descr="magician_abra_cadabra_prt"/>
          <p:cNvPicPr/>
          <p:nvPr/>
        </p:nvPicPr>
        <p:blipFill>
          <a:blip r:embed="rId4"/>
          <a:stretch/>
        </p:blipFill>
        <p:spPr>
          <a:xfrm>
            <a:off x="72388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18:32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47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