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6B8-9407-47F9-9AAF-9587625E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B8B-1656-491F-B9FE-0FEA1F83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D18-B374-46A5-9C9D-601841BB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FD6-58B8-4F39-8064-79D84F1D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A031-ED2D-4555-A03C-701CB752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8DA2-EC43-48DA-A6AF-86E3DCA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FBA7-55C3-43BF-865F-98EB164E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10DF-0B77-4EC1-9D5E-6824A754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C432-4375-456B-9C94-0173BA2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9527-7CF9-494A-9FFD-EF608785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2A0-F651-4E12-9563-D890485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E9A-CFAE-47D5-BD56-F89F9C33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ECB6-9575-4768-ABDA-FCFC114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83D-FC1D-4FB4-9D32-7126238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EC2E-79DA-4B5C-B940-7FAB91B9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7481-6551-4D9D-9D85-83B7FF0D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5D8D-5F8E-4ABB-BF85-B2515727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671-F69A-4392-8024-4C18CC7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D31-9B20-4E99-A1A0-6174EFF8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320-ED33-4C5E-A2A5-0595B516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9D7-ADD3-494A-8A31-9DE10DD5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DDB-0517-4402-8339-B688344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63-A6AA-4B4F-9F70-CE142E8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3F7-180B-4875-9F49-F0315E9B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7E8-7111-4F00-8437-000D52FA7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FA8-43AE-46FC-A7DE-9F14C0E96A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CEFE-0C80-407E-A52B-BFC0731EA8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背景红云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2286000" y="1371600"/>
            <a:ext cx="4572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99cc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纸船和风筝</a:t>
            </a:r>
            <a:endParaRPr b="0" lang="en-US" sz="2400" spc="1" strike="noStrike">
              <a:ln w="12600">
                <a:solidFill>
                  <a:srgbClr val="99cc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133720" y="4648320"/>
            <a:ext cx="51814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济南南洋学校    石春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8" descr="D:\图库\pic_30539.jpg"/>
          <p:cNvPicPr/>
          <p:nvPr/>
        </p:nvPicPr>
        <p:blipFill>
          <a:blip r:embed="rId1"/>
          <a:srcRect l="24087" t="66558" r="57129" b="6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D:\图库\pic_30539.jpg"/>
          <p:cNvPicPr/>
          <p:nvPr/>
        </p:nvPicPr>
        <p:blipFill>
          <a:blip r:embed="rId2"/>
          <a:srcRect l="63359" t="7666" r="15785" b="71171"/>
          <a:stretch/>
        </p:blipFill>
        <p:spPr>
          <a:xfrm>
            <a:off x="2666880" y="83808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30" descr="D:\图库\pic_30539.jpg"/>
          <p:cNvPicPr/>
          <p:nvPr/>
        </p:nvPicPr>
        <p:blipFill>
          <a:blip r:embed="rId3"/>
          <a:srcRect l="12465" t="72344" r="75024" b="11199"/>
          <a:stretch/>
        </p:blipFill>
        <p:spPr>
          <a:xfrm>
            <a:off x="685800" y="426708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106668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1960" y="2819160"/>
            <a:ext cx="990360" cy="609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39"/>
          <p:cNvSpPr/>
          <p:nvPr/>
        </p:nvSpPr>
        <p:spPr>
          <a:xfrm>
            <a:off x="2971800" y="3049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  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41"/>
          <p:cNvSpPr/>
          <p:nvPr/>
        </p:nvSpPr>
        <p:spPr>
          <a:xfrm>
            <a:off x="1937880" y="4724280"/>
            <a:ext cx="729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纸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905120" y="1600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坏人  乐坏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981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吵 架  争  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38280" y="5105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草  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05120" y="2787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幸福   幸   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105520" y="3962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接受  受气  感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105520" y="2787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福气  祝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181480" y="1600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抓住  抓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05520" y="51814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扎针  扎风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" descr="D:\图库\实用图案\小花2.jpg"/>
          <p:cNvPicPr/>
          <p:nvPr/>
        </p:nvPicPr>
        <p:blipFill>
          <a:blip r:embed="rId1"/>
          <a:stretch/>
        </p:blipFill>
        <p:spPr>
          <a:xfrm>
            <a:off x="990720" y="609480"/>
            <a:ext cx="1218960" cy="136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D:\图库\实用图案\小花2.jpg"/>
          <p:cNvPicPr/>
          <p:nvPr/>
        </p:nvPicPr>
        <p:blipFill>
          <a:blip r:embed="rId2"/>
          <a:stretch/>
        </p:blipFill>
        <p:spPr>
          <a:xfrm>
            <a:off x="7467480" y="6094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D:\图库\实用图案\小花2.jpg"/>
          <p:cNvPicPr/>
          <p:nvPr/>
        </p:nvPicPr>
        <p:blipFill>
          <a:blip r:embed="rId3"/>
          <a:stretch/>
        </p:blipFill>
        <p:spPr>
          <a:xfrm>
            <a:off x="914400" y="20620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7" descr="D:\图库\实用图案\小花2.jpg"/>
          <p:cNvPicPr/>
          <p:nvPr/>
        </p:nvPicPr>
        <p:blipFill>
          <a:blip r:embed="rId4"/>
          <a:stretch/>
        </p:blipFill>
        <p:spPr>
          <a:xfrm>
            <a:off x="7543800" y="20620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D:\图库\实用图案\小花2.jpg"/>
          <p:cNvPicPr/>
          <p:nvPr/>
        </p:nvPicPr>
        <p:blipFill>
          <a:blip r:embed="rId5"/>
          <a:stretch/>
        </p:blipFill>
        <p:spPr>
          <a:xfrm>
            <a:off x="838080" y="342900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9" descr="D:\图库\实用图案\小花2.jpg"/>
          <p:cNvPicPr/>
          <p:nvPr/>
        </p:nvPicPr>
        <p:blipFill>
          <a:blip r:embed="rId6"/>
          <a:stretch/>
        </p:blipFill>
        <p:spPr>
          <a:xfrm>
            <a:off x="7467480" y="3433680"/>
            <a:ext cx="121932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D:\图库\实用图案\小花2.jpg"/>
          <p:cNvPicPr/>
          <p:nvPr/>
        </p:nvPicPr>
        <p:blipFill>
          <a:blip r:embed="rId7"/>
          <a:stretch/>
        </p:blipFill>
        <p:spPr>
          <a:xfrm>
            <a:off x="990720" y="4876920"/>
            <a:ext cx="1218960" cy="1366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D:\图库\实用图案\小花2.jpg"/>
          <p:cNvPicPr/>
          <p:nvPr/>
        </p:nvPicPr>
        <p:blipFill>
          <a:blip r:embed="rId8"/>
          <a:stretch/>
        </p:blipFill>
        <p:spPr>
          <a:xfrm>
            <a:off x="7696080" y="4724280"/>
            <a:ext cx="12193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D:\图库\背景图片1\BJ1010.jpg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520"/>
            <a:ext cx="5181480" cy="41479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坏    扎    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莓    幸    福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7200" spc="-1" strike="noStrike">
                <a:solidFill>
                  <a:srgbClr val="0000ff"/>
                </a:solidFill>
                <a:latin typeface="Times New Roman"/>
              </a:rPr>
              <a:t>吵    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D:\图库\实用图案\小女孩2.jpg"/>
          <p:cNvPicPr/>
          <p:nvPr/>
        </p:nvPicPr>
        <p:blipFill>
          <a:blip r:embed="rId2"/>
          <a:stretch/>
        </p:blipFill>
        <p:spPr>
          <a:xfrm>
            <a:off x="685800" y="4724280"/>
            <a:ext cx="1343160" cy="17146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 rot="20644800">
            <a:off x="1676160" y="441972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Picture 11" descr="D:\图库\实用图案\SN017草莓.jpg"/>
          <p:cNvPicPr/>
          <p:nvPr/>
        </p:nvPicPr>
        <p:blipFill>
          <a:blip r:embed="rId3"/>
          <a:srcRect l="28439" t="10352" r="17189" b="15641"/>
          <a:stretch/>
        </p:blipFill>
        <p:spPr>
          <a:xfrm>
            <a:off x="457200" y="1676520"/>
            <a:ext cx="259092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D:\图库\背景图片1\BJ1010.jpg"/>
          <p:cNvPicPr/>
          <p:nvPr/>
        </p:nvPicPr>
        <p:blipFill>
          <a:blip r:embed="rId1"/>
          <a:srcRect l="0" t="7688" r="0" b="0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"/>
          <p:cNvSpPr/>
          <p:nvPr/>
        </p:nvSpPr>
        <p:spPr>
          <a:xfrm>
            <a:off x="3505320" y="438120"/>
            <a:ext cx="5181480" cy="5388480"/>
          </a:xfrm>
          <a:prstGeom prst="rect">
            <a:avLst/>
          </a:prstGeom>
          <a:noFill/>
          <a:ln cap="rnd" w="2844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顶  山脚  小溪  风筝  纸船  松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草莓  纸条  屋顶  门口  幸福  快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愿意  漂流  飘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D:\图库\实用图案\小女孩2.jpg"/>
          <p:cNvPicPr/>
          <p:nvPr/>
        </p:nvPicPr>
        <p:blipFill>
          <a:blip r:embed="rId2"/>
          <a:stretch/>
        </p:blipFill>
        <p:spPr>
          <a:xfrm>
            <a:off x="609480" y="4114800"/>
            <a:ext cx="1343160" cy="1714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 rot="19013400">
            <a:off x="1371600" y="3428640"/>
            <a:ext cx="2286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会读吗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8" name="Picture 9" descr="D:\图库\花\一朵独艳.jpg"/>
          <p:cNvPicPr/>
          <p:nvPr/>
        </p:nvPicPr>
        <p:blipFill>
          <a:blip r:embed="rId3"/>
          <a:srcRect l="0" t="31500" r="28358" b="16002"/>
          <a:stretch/>
        </p:blipFill>
        <p:spPr>
          <a:xfrm>
            <a:off x="762120" y="53352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D:\图库\背景图片1\BJ1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" y="2057400"/>
            <a:ext cx="46483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）＋ （不） ＝ 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267080" y="2057400"/>
            <a:ext cx="48006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（    ） ＝ （ 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28600" y="2971800"/>
            <a:ext cx="46483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 （    ） ＝ 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267080" y="2971800"/>
            <a:ext cx="48769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    ）＋ （    ） ＝ （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752480" y="4800600"/>
            <a:ext cx="6782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坏       </a:t>
            </a: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？</a:t>
            </a:r>
            <a:r>
              <a:rPr b="1" lang="en-US" sz="3600" spc="-1" strike="noStrike">
                <a:solidFill>
                  <a:srgbClr val="ff3300"/>
                </a:solidFill>
                <a:latin typeface="华文彩云"/>
                <a:ea typeface="华文彩云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福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 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514600" y="5105520"/>
            <a:ext cx="1219320" cy="228600"/>
          </a:xfrm>
          <a:prstGeom prst="leftRightArrow">
            <a:avLst>
              <a:gd name="adj1" fmla="val 50000"/>
              <a:gd name="adj2" fmla="val 106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6324480" y="5105520"/>
            <a:ext cx="1219320" cy="228600"/>
          </a:xfrm>
          <a:prstGeom prst="leftRightArrow">
            <a:avLst>
              <a:gd name="adj1" fmla="val 50000"/>
              <a:gd name="adj2" fmla="val 1066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7200" y="3962520"/>
            <a:ext cx="51814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漂（         ）        飘（     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15"/>
          <p:cNvSpPr txBox="1"/>
          <p:nvPr/>
        </p:nvSpPr>
        <p:spPr>
          <a:xfrm>
            <a:off x="1295280" y="762120"/>
            <a:ext cx="236232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000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练一练</a:t>
            </a:r>
            <a:endParaRPr b="0" lang="en-US" sz="2400" spc="-1" strike="noStrike">
              <a:ln w="9360">
                <a:solidFill>
                  <a:srgbClr val="339966"/>
                </a:solidFill>
                <a:miter/>
              </a:ln>
              <a:solidFill>
                <a:srgbClr val="008080"/>
              </a:solidFill>
              <a:latin typeface="隶书"/>
              <a:ea typeface="隶书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3733920" y="4876920"/>
            <a:ext cx="83808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7620120" y="4876920"/>
            <a:ext cx="1218960" cy="642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痛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3:17:33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36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