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E75-C22A-4655-8BF3-3EAEA809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45D-DF2D-46D5-B480-27CA70EC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3C8-9661-4C18-8BC5-3CF8FD3D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F9C-1A51-473C-B181-D0B82E78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930C-6A0B-4549-8212-44583C52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5000-EF45-4C67-88F1-D4B6C728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E823-82E4-4852-8E8E-F0CBEF9F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0BE5-852A-422D-A501-4DEAEC5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83D7-49C5-4C49-A942-AF854E42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6758-ED95-4FCD-A387-D3C952C2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139A-8DC0-407F-B741-B13C9BD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8D2-502F-4F2D-96A0-7571F7C1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2B1B-17F1-4704-A205-29BB59DE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A4EE-4A72-4C3D-BBF8-333303B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B961-5CEA-47D7-ACD5-A1C1AA5F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D36D-22BF-446F-8573-29163C0F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CC0-5E2E-44BC-97F6-8C147186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858-04BB-4B64-9883-FB6C35B4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73B-BFB0-4C0A-9F31-12E11934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3F5-3E4A-4DD2-AA09-80C57D09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252-1E81-48BC-8599-423F9535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158-C380-4097-A70F-F9857C5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104-5572-45B4-872F-DB4B408A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800-7AB7-4619-8152-A968E73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4D8B-978F-42E1-B19F-72E24844BC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6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4C0B-E5D6-4C40-8414-6AE9696493A3}" type="slidenum">
              <a:rPr b="0" lang="en-US" sz="1400" spc="-1" strike="noStrike">
                <a:solidFill>
                  <a:srgbClr val="cc00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920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8360" y="1844280"/>
            <a:ext cx="7812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5" name="WordArt 6"/>
          <p:cNvSpPr txBox="1"/>
          <p:nvPr/>
        </p:nvSpPr>
        <p:spPr>
          <a:xfrm rot="5400000">
            <a:off x="2896920" y="2008080"/>
            <a:ext cx="3699000" cy="1644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中餐礼仪</a:t>
            </a:r>
            <a:endParaRPr b="1" i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其他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一般餐桌上会为每位用餐者准备茶水饮料和酒水，通常茶水饮料酒水在右侧，饮用时尽量不要用错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作为主人（特别是陪同人员），宴会进行期间可能为客人斟酒上菜，应该从客人左侧上菜，从客人右侧斟酒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4"/>
          <p:cNvSpPr txBox="1"/>
          <p:nvPr/>
        </p:nvSpPr>
        <p:spPr>
          <a:xfrm rot="5400000">
            <a:off x="2088000" y="2167560"/>
            <a:ext cx="4680000" cy="24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谢谢</a:t>
            </a:r>
            <a:endParaRPr b="0" i="1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66"/>
                </a:solidFill>
                <a:latin typeface="隶书"/>
              </a:rPr>
              <a:t>www.eeppt.com</a:t>
            </a:r>
            <a:endParaRPr b="0" lang="en-US" sz="1400" spc="-1" strike="noStrike">
              <a:solidFill>
                <a:srgbClr val="cc0066"/>
              </a:solidFill>
              <a:latin typeface="隶书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中餐礼仪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宴会分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餐饮是一种常见的社交活动，中国餐饮文化很丰富，中国人热情好客，很讲究餐饮礼仪。中餐宴会是指具有中国传统民族风格的宴会，遵守中国人的饮食习惯和礼仪规范。宴请活动就其目的性质而言，大约分为三种：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一种是礼仪性质的，如为迎接重要的来宾或政界要员的公务性来访；为庆祝重大的节日或举行一项重要的仪式等举行的宴会，都属于礼仪上的需要，这种宴会要有一定的礼宾规格和程序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另一种是交谊性的，主要是为了沟通感情、表示友好、发展友谊，如：接风、送行、告别、聚会等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再一种是工作性质的，主人或参加宴会的人为解决某项工作而举行的宴请，以便在餐桌上商谈工作。这三种情况又常交相为用兼而有之。宴会的目的形式性质不同，但宾主所遵循的基本礼仪是一致的。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座次安排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隶书"/>
                <a:ea typeface="隶书"/>
              </a:rPr>
              <a:t>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座次安排。正式宴会，一般都事先安排座次，以便参加宴会者入席时井然有序，同时也是对客人的一种礼貌，非正式的宴会不必提前安排座次，但通常就坐也要有上下之分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安排座位时应考虑以下几点：一是以主人的位置为中心。如有女主人参加，则以主人和女主人为中心，以靠近主人者为上，依次排列；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二是要把主宾和夫人安排在最主要的位置。通常是以右为上，即主人的右手是最主要的位置。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第一主宾就坐于主人右侧，第二主宾在主人左侧或第一主宾右侧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变通处理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离门最远的、面对着门的位置是上座，离门最近的、背对着门的位置是下座，上座的右边是第二号位，左边是第三号位，依次类推；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三是在遵从礼宾次序的前提下，尽可能使相邻者便于交谈；四是主人方面的陪客应尽可能插在客人之间，以便与客人交谈，避免自己的人坐在一起。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755640" y="39337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宾主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主人的礼仪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应该说，宴会的成功有赖于主人的热情好客，慷慨招待和细致周到的组织安排。从礼节上讲，主人的职责是使每一位来宾都感到主人对自己的欢迎之意。主人举办宴请，无论是中餐还是西餐，无论是出于什么原因和目的，主人都应提前对客人发出口头或书面邀请，并依照客人的习惯、特点安排好请客时间、地点等事宜。礼仪性宴请礼节更隆重讲究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在宴会开始前，主人应该站立门前笑迎宾客，晚辈在前，长辈居后。对每一位来宾，要依次招呼，待客人大部分到齐之后，再回到宴会场所中来，分头跟客人招呼、应酬（家庭便宴比较随便，主人不一定在门口迎客，可在客人到达时趋前握手招呼）。主人对宾客必须热诚恳切，一视同仁，不可只注意应酬一两个忽略了别的客人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入席前，烟、茶不可全部假手他人或服务员代劳递送，主人应尽可能地亲自递烟倒茶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宾主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上菜后，主人要先向客人敬酒，说一些感谢光临的客气话。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斟酒上菜由宾客右侧进行，先主宾，后主人，先女宾，后男宾。酒斟八分，不可过满。上菜顺序依然保持传统，先冷后热。热菜应从主宾对面席位的左侧上；上单份菜或配菜席点和小吃先宾后主，上全鸡、全鸭、全鱼等整形菜，不能头尾朝向正主位。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此后每一道菜上来，都要先举杯邀饮，然后请客人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起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”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。要照顾到客人的用餐方便，及时调换菜点或转动餐台。遇到有特殊口味的客人要及时调换菜点。席散后，主人要到门口，恭送客人离去。对那些在宴请中照顾不多的客人，应说几句抱歉和感谢之类的话。对走在后面的客人，可略为寒暄几句。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0066"/>
                </a:solidFill>
                <a:latin typeface="隶书"/>
              </a:rPr>
              <a:t>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宾主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隶书"/>
                <a:ea typeface="隶书"/>
              </a:rPr>
              <a:t> 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做客礼仪 </a:t>
            </a:r>
            <a:br>
              <a:rPr sz="1800"/>
            </a:b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作为应邀参加宴会的客人，如时赴约，举止得当，讲究礼节是对主人的尊重。还应注意以下几个问题：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服饰。客人赴宴前应根据宴会的目的、规格、对象、风俗习惯或主人的要求考虑自己的着装，着装不得体会影响宾主的情绪，影响宴会的气氛。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点菜。如果主人安排好了菜，客人就不要再点菜了。如果你参加一个尚未安排好菜的宴会，就要注意点菜的礼节。点菜时，不要选择太贵的菜，同时也不宜点太便宜的菜，太便宜了，主人反而不高兴，认为你看不起他，如果最便宜的菜恰是你真心喜欢的菜，那就要想点办法，尽量说得委婉一些。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进餐。进餐时举止要文明礼貌，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隶书"/>
              </a:rPr>
              <a:t>“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不马食，不牛饮，不虎咽，不鲸吞，嚼食物，不出声，嘴唇边，不留痕，骨与秽，莫乱扔。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隶书"/>
              </a:rPr>
              <a:t>”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面对一桌子美味佳肴，不要急于动筷子，须等主人动筷说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隶书"/>
              </a:rPr>
              <a:t>“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请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隶书"/>
              </a:rPr>
              <a:t>”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之后你才能动筷。主人举杯示意开始，客人才能用餐。如果酒量还能够承受，对主人敬的第一杯酒应喝干。同席的客人可以相互劝酒，但不可以任何方式强迫对方喝酒，否则是失礼。自己不愿或不能喝酒时，可以谢绝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cc0066"/>
                </a:solidFill>
                <a:latin typeface="隶书"/>
              </a:rPr>
              <a:t> 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宾主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夹菜时，一是使用公筷；二是夹菜适量，不要取得过多，吃不了剩下不好。三是在自己跟前取菜，不要伸长胳膊去够远处的菜；四是不能用筷子随意翻动盘中的菜；五是遇到自己不喜欢吃的菜，可很少地夹一点，放在盘中，不要吃掉，当这道菜再传到你面前时，你就可以借口盘中的菜还没有吃完，而不再夹这道菜，最后你应将盘中的菜全部吃净。进食时尽可能不咳嗽、打喷嚏、打呵欠、擤鼻涕，万一不能抑制，要用手帕、餐巾纸遮挡口鼻，转身，脸侧向一方，低头尽量压低声音。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参加宴会最好不中途离去。万不得已时应向同桌的人说声对不起，同时还要郑重地向主人道歉，说明原委。吃完之后，应该等大家都放下筷子，主人示意可以散席，才能离座。宴会完毕，你可以依次走到主人面前，握手并说声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谢谢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”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，向主人告辞，但不要拉着主人的手不停地说话，以免妨碍主人送其他客人。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9464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其他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筷子的用法。筷子虽然用起来简单、方便，但也有很多规矩。比如：不能举着筷子和别人说话，说话时要把筷子放到筷架上，或将筷子并齐放在饭碗旁边。不能用筷子去推饭碗、菜碟，不要用筷子去叉馒头或别的食品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其它用筷忌讳还有：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舔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不要用舌头去舔筷子上的附着物；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迷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举着筷子却不知道夹什么，在菜碟间来回游移。更不能用筷子拨盘子里的菜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泪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夹菜时滴滴哒哒流着菜汁。应该拿着小碟，先把菜夹到小碟里再端过来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移筷</a:t>
            </a:r>
            <a:r>
              <a:rPr b="0" lang="en-US" sz="2000" spc="-1" strike="noStrike">
                <a:solidFill>
                  <a:srgbClr val="cc0066"/>
                </a:solidFill>
                <a:latin typeface="隶书"/>
                <a:ea typeface="隶书"/>
              </a:rPr>
              <a:t>--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刚夹了这盘里的菜，又去夹那盘里的菜，应该吃完之后再夹另一盘菜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敲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敲筷子是对主人的不尊重。另外，筷子通常应摆放在碗的旁边，不能放在碗上。在用餐时如需临时离开，应把筷子轻轻放在桌子上碗的旁边，切不可插在饭碗里。现在有些宴席实行公筷母匙，那么，你就要记住不能用个人独用的筷子汤匙给别人夹菜舀汤。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其他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餐巾的用法。如今很多餐厅都为顾客准备了餐巾，通常，要等坐在上座的尊者拿起餐巾后，你才可以取出平铺在腿上，动作要小，不要像斗牛似的在空中抖开。餐巾很大时可以叠起来使用，不要将餐巾别在领上或背心上。餐巾的主要作用是防止食物落在衣服上，所以只能用餐巾的一角来印一印嘴唇，不能拿整块餐巾擦脸、擤鼻涕，也不要用餐巾来擦餐具。如果你是暂时离开座位，请将餐巾叠放在椅背或椅子扶手上。用完餐，将餐巾叠一下放在桌子上，可千万别揉成一团“弃”在那儿，好像一朵被你摧残过的花朵。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3:05:4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9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