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F05-39AB-46D5-AC2F-6E8D1790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865-1B50-49AF-BA8A-DB9371A3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F00-F120-49F7-A9F7-F4AD7F52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6AE-72E3-46A6-B698-CC8891DB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476F-31E7-4CBB-B1D1-EC4B8EB1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9108-F627-4D75-B6E1-771D6F67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01F3-1943-41F9-94BA-B3A0F2A3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1B6A-D857-4CA8-BDCB-6B77AC11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A023-AE49-418C-A537-A0BDD3C1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9CA8-8C85-4149-8D86-FD22EE39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343F-3A98-468C-9988-7BEC7FFC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A84-C362-4882-B5F7-6A51524D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975F-78AE-4DAE-9D2C-CFEFF34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009C-608E-4951-A4C5-6B026858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6249-0D0F-48EF-B216-9B6319F8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75EC-FA93-4A18-B126-B460390E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9828-A6D4-472D-BD19-5DC5DCDC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E9A-3C27-45E6-9047-63D4A954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9DA-A2F4-454F-9AE3-BF3C1180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03E-8218-435C-9A16-EA80136A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0EA-CB9B-40BF-95F5-A149DFF5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D80-5D55-4DED-8652-BA0098C9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423-850B-4A37-AC8A-2FA41D9B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894-DBD9-43A6-9C05-CDF9BCBB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7266-4ECF-45A6-A771-BC490B9360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DBC3-9FC1-4F6F-B82E-C9B1E05ABE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0B4D-600B-4523-B86F-493A4462B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PM_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2916360" y="2666880"/>
            <a:ext cx="37335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彩云"/>
              </a:rPr>
              <a:t>找春天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3132000" y="242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到大自然中去找春天，把你看到的画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BJ_013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说从哪些地方看出春天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IC_052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说从哪些地方看出春天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PIC_12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说从哪些地方看出春天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IC_118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PTW_119"/>
          <p:cNvPicPr/>
          <p:nvPr/>
        </p:nvPicPr>
        <p:blipFill>
          <a:blip r:embed="rId1"/>
          <a:stretch/>
        </p:blipFill>
        <p:spPr>
          <a:xfrm>
            <a:off x="609480" y="3809880"/>
            <a:ext cx="4038840" cy="2743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PTW_102"/>
          <p:cNvPicPr/>
          <p:nvPr/>
        </p:nvPicPr>
        <p:blipFill>
          <a:blip r:embed="rId2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RM_0784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RM_0642"/>
          <p:cNvPicPr/>
          <p:nvPr/>
        </p:nvPicPr>
        <p:blipFill>
          <a:blip r:embed="rId4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3:05:4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