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596-910C-4D42-A658-6D009BD5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FF7B-7561-4494-92FB-7BD9AED0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9AC-D19D-479C-8036-67C8C6CB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999-7EAE-4A28-91AA-2576F6CC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6464-E42B-440C-9129-90566E49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EE91-BCE6-479E-B83F-6F5B3E0C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1AA4-727A-4D98-82EC-E898D188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66C0-0926-4151-AA1A-B8092245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3D9E-5834-4376-97E1-FEEC5BDA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8A7F-6848-4CA4-86F3-609B588D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C5DF-AF11-4126-874F-9EC0796C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1D5-B4DB-4E07-83A2-066CC2A5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4475-CEFD-4DBE-91EB-1831EC8A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41AE4-1AD5-4716-807B-F754CA19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CADF-0B86-4FE1-9FD0-C4D5D360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1C16-3E7B-416E-9E01-BAB19170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A318-5AA2-4DE6-B467-9DD6FB11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35A7-DA1B-42D0-B1B5-B1523FE6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35B29-24F5-4579-AAA4-8131D172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E863C-99D7-43E5-83F1-F745223E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3D763-E9F5-479E-B201-FB40EDE5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8BF5-A378-4028-8D6B-B46ED889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51A-D49E-4A05-8759-9DEB43B7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65CE1-F12F-43DA-93DA-86CA1E76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4319B-4989-412E-8A7E-B0A42E19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765BF-1839-4636-970A-64740567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B69E-7864-4071-B07B-0F4A9B67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47FE-FC57-4324-99DA-297E569C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3077-1292-458F-9CEE-43BB077E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4C648-8282-4CF0-A4D4-E803CC913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9C8-3F70-4FAB-B066-171C92F1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16C-3C9B-427C-981E-72CA7867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C5AE-1118-47BB-9680-CDD93F29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049-0E76-431E-AB1D-22D5A5FE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8B5-36E2-4409-ABDC-72261E17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8D0-EBC0-4E07-9615-B878F8EE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Picture 14" descr="d010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15"/>
            <p:cNvSpPr/>
            <p:nvPr/>
          </p:nvSpPr>
          <p:spPr>
            <a:xfrm>
              <a:off x="380880" y="0"/>
              <a:ext cx="838224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2881-E001-477B-84B2-A8B4F859AEB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39" descr="f026"/>
          <p:cNvPicPr/>
          <p:nvPr/>
        </p:nvPicPr>
        <p:blipFill>
          <a:blip r:embed="rId2"/>
          <a:stretch/>
        </p:blipFill>
        <p:spPr>
          <a:xfrm>
            <a:off x="460044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40" descr="f0261"/>
          <p:cNvPicPr/>
          <p:nvPr/>
        </p:nvPicPr>
        <p:blipFill>
          <a:blip r:embed="rId3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Line 1041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7240">
            <a:solidFill>
              <a:srgbClr val="f4f4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Line 1042"/>
          <p:cNvSpPr/>
          <p:nvPr/>
        </p:nvSpPr>
        <p:spPr>
          <a:xfrm>
            <a:off x="4572000" y="2637000"/>
            <a:ext cx="0" cy="3097080"/>
          </a:xfrm>
          <a:prstGeom prst="line">
            <a:avLst/>
          </a:prstGeom>
          <a:ln w="57240">
            <a:solidFill>
              <a:srgbClr val="a1d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Line 1043"/>
          <p:cNvSpPr/>
          <p:nvPr/>
        </p:nvSpPr>
        <p:spPr>
          <a:xfrm>
            <a:off x="4572000" y="3141720"/>
            <a:ext cx="0" cy="1800000"/>
          </a:xfrm>
          <a:prstGeom prst="line">
            <a:avLst/>
          </a:prstGeom>
          <a:ln w="57240">
            <a:solidFill>
              <a:srgbClr val="5285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82E0-9FC9-45B9-B00D-A7B4D95951F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FA9B-14FC-41E6-919F-9F12A0F27C9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B6EA-EDB3-4789-9C90-89631BC2F0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aolijie1@163.com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</a:rPr>
              <a:t>轴对称现象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3429000" y="4648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温州市第二十一中学       廖利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500720" y="5589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蝴蝶2"/>
          <p:cNvPicPr/>
          <p:nvPr/>
        </p:nvPicPr>
        <p:blipFill>
          <a:blip r:embed="rId1"/>
          <a:stretch/>
        </p:blipFill>
        <p:spPr>
          <a:xfrm>
            <a:off x="2209680" y="3962520"/>
            <a:ext cx="2895840" cy="22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52" name="Picture 14" descr="蝴蝶12"/>
          <p:cNvPicPr/>
          <p:nvPr/>
        </p:nvPicPr>
        <p:blipFill>
          <a:blip r:embed="rId2"/>
          <a:stretch/>
        </p:blipFill>
        <p:spPr>
          <a:xfrm>
            <a:off x="2133720" y="3962520"/>
            <a:ext cx="3047760" cy="230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3" name="Picture 13" descr="蝴蝶4"/>
          <p:cNvPicPr/>
          <p:nvPr/>
        </p:nvPicPr>
        <p:blipFill>
          <a:blip r:embed="rId3"/>
          <a:stretch/>
        </p:blipFill>
        <p:spPr>
          <a:xfrm>
            <a:off x="1981080" y="1371600"/>
            <a:ext cx="3657600" cy="2529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8"/>
          <p:cNvSpPr txBox="1"/>
          <p:nvPr/>
        </p:nvSpPr>
        <p:spPr>
          <a:xfrm>
            <a:off x="914400" y="68580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703440" y="3962520"/>
            <a:ext cx="1277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7c80"/>
                </a:solidFill>
                <a:latin typeface="Times New Roman"/>
                <a:ea typeface="幼圆"/>
              </a:rPr>
              <a:t>你能想办法将这个蝴蝶风筝修复吗？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Picture 19" descr="蝴蝶"/>
          <p:cNvPicPr/>
          <p:nvPr/>
        </p:nvPicPr>
        <p:blipFill>
          <a:blip r:embed="rId4"/>
          <a:stretch/>
        </p:blipFill>
        <p:spPr>
          <a:xfrm>
            <a:off x="5334120" y="2057400"/>
            <a:ext cx="2319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蝴蝶1"/>
          <p:cNvPicPr/>
          <p:nvPr/>
        </p:nvPicPr>
        <p:blipFill>
          <a:blip r:embed="rId1"/>
          <a:stretch/>
        </p:blipFill>
        <p:spPr>
          <a:xfrm>
            <a:off x="2438280" y="990720"/>
            <a:ext cx="4515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9" descr="Image7944"/>
          <p:cNvPicPr/>
          <p:nvPr/>
        </p:nvPicPr>
        <p:blipFill>
          <a:blip r:embed="rId1"/>
          <a:stretch/>
        </p:blipFill>
        <p:spPr>
          <a:xfrm>
            <a:off x="1905120" y="1219320"/>
            <a:ext cx="5486400" cy="482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9" name="Line 12"/>
          <p:cNvSpPr/>
          <p:nvPr/>
        </p:nvSpPr>
        <p:spPr>
          <a:xfrm>
            <a:off x="1752480" y="3809880"/>
            <a:ext cx="5867640" cy="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2388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对于两个图形，如果沿某条直线对折后，两个图形能够完全重合，那么这</a:t>
            </a:r>
            <a:r>
              <a:rPr b="1" lang="zh-CN" sz="3600" spc="-1" strike="noStrike">
                <a:solidFill>
                  <a:srgbClr val="e8452a"/>
                </a:solidFill>
                <a:latin typeface="Arial"/>
              </a:rPr>
              <a:t>两个图形成轴对称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折痕所在的直线叫做</a:t>
            </a:r>
            <a:r>
              <a:rPr b="1" lang="zh-CN" sz="3600" spc="-1" strike="noStrike">
                <a:solidFill>
                  <a:srgbClr val="e8452a"/>
                </a:solidFill>
                <a:latin typeface="Arial"/>
              </a:rPr>
              <a:t>对称轴</a:t>
            </a:r>
            <a:r>
              <a:rPr b="1" lang="zh-CN" sz="3600" spc="-1" strike="noStrike">
                <a:solidFill>
                  <a:srgbClr val="6666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3276720" y="2057400"/>
            <a:ext cx="1752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1523880" y="2590920"/>
            <a:ext cx="16002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1523880" y="3200400"/>
            <a:ext cx="7621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4724280" y="3809880"/>
            <a:ext cx="7621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3520" y="205704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7c80"/>
                </a:solidFill>
                <a:latin typeface="Arial"/>
                <a:ea typeface="华文行楷"/>
              </a:rPr>
              <a:t>你能设计一个 轴对称图形吗？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WordArt 7"/>
          <p:cNvSpPr txBox="1"/>
          <p:nvPr/>
        </p:nvSpPr>
        <p:spPr>
          <a:xfrm>
            <a:off x="990720" y="68580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一练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7" name="钢-秋日私语.mp3" descr=""/>
          <p:cNvPicPr/>
          <p:nvPr/>
        </p:nvPicPr>
        <p:blipFill>
          <a:blip r:embed="rId1"/>
          <a:stretch/>
        </p:blipFill>
        <p:spPr>
          <a:xfrm>
            <a:off x="502920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294920" y="236196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8800" spc="-1" strike="noStrike">
                <a:solidFill>
                  <a:srgbClr val="ff7c80"/>
                </a:solidFill>
                <a:latin typeface="Arial"/>
                <a:ea typeface="华文行楷"/>
              </a:rPr>
              <a:t>作品展示</a:t>
            </a:r>
            <a:endParaRPr b="0" lang="en-US" sz="8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990720" y="68580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一练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371600" y="16765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8452a"/>
                </a:solidFill>
                <a:latin typeface="Arial"/>
              </a:rPr>
              <a:t>你能谈谈这节课的感受吗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WordArt 7"/>
          <p:cNvSpPr txBox="1"/>
          <p:nvPr/>
        </p:nvSpPr>
        <p:spPr>
          <a:xfrm>
            <a:off x="990720" y="685800"/>
            <a:ext cx="1371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小结：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WordArt 9"/>
          <p:cNvSpPr txBox="1"/>
          <p:nvPr/>
        </p:nvSpPr>
        <p:spPr>
          <a:xfrm>
            <a:off x="1066680" y="281952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对称的应用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3" name="Picture 10" descr="建筑5"/>
          <p:cNvPicPr/>
          <p:nvPr/>
        </p:nvPicPr>
        <p:blipFill>
          <a:blip r:embed="rId1"/>
          <a:stretch/>
        </p:blipFill>
        <p:spPr>
          <a:xfrm>
            <a:off x="1447920" y="3657600"/>
            <a:ext cx="3033720" cy="22795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74" name="Picture 11" descr="飞机2"/>
          <p:cNvPicPr/>
          <p:nvPr/>
        </p:nvPicPr>
        <p:blipFill>
          <a:blip r:embed="rId2"/>
          <a:stretch/>
        </p:blipFill>
        <p:spPr>
          <a:xfrm>
            <a:off x="4648320" y="3657600"/>
            <a:ext cx="3200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MingLiU"/>
                <a:ea typeface="MingLiU"/>
              </a:rPr>
              <a:t>1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、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</a:rPr>
              <a:t>创作：</a:t>
            </a:r>
            <a:r>
              <a:rPr b="1" lang="zh-CN" sz="2800" spc="-1" strike="noStrike">
                <a:solidFill>
                  <a:srgbClr val="ff7c80"/>
                </a:solidFill>
                <a:latin typeface="Times New Roman"/>
                <a:ea typeface="MingLiU"/>
              </a:rPr>
              <a:t> 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剪一个轴对称图形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           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折一个轴对称图形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           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画一个轴对称图形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           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用笔尖扎纸孔扎一个轴对称图形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           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用水彩涂染一个轴对称图形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   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以上任选两项完成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MingLiU"/>
                <a:ea typeface="MingLiU"/>
              </a:rPr>
              <a:t>2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、课后上网查找关于轴对称图形的有关资料，写写你的感受寄给老师（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MingLiU"/>
                <a:ea typeface="MingLiU"/>
                <a:hlinkClick r:id="rId1"/>
              </a:rPr>
              <a:t>liaolijie1@163.com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）记得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</a:rPr>
              <a:t>要</a:t>
            </a:r>
            <a:r>
              <a:rPr b="1" lang="zh-CN" sz="2800" spc="-1" strike="noStrike">
                <a:solidFill>
                  <a:srgbClr val="ff7c80"/>
                </a:solidFill>
                <a:latin typeface="MingLiU"/>
                <a:ea typeface="MingLiU"/>
              </a:rPr>
              <a:t>写上你的真实姓名哦。</a:t>
            </a:r>
            <a:r>
              <a:rPr b="0" lang="zh-CN" sz="2800" spc="-1" strike="noStrike">
                <a:solidFill>
                  <a:srgbClr val="ff7c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990720" y="838080"/>
            <a:ext cx="129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：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</a:rPr>
              <a:t>谢谢指导！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666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</a:rPr>
              <a:t>轴对称现象</a:t>
            </a:r>
            <a:endParaRPr b="1" lang="en-US" sz="9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429000" y="4648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温州市第二十一中学       廖利洁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1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066680" y="106668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看一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7" name="Group 15"/>
          <p:cNvGrpSpPr/>
          <p:nvPr/>
        </p:nvGrpSpPr>
        <p:grpSpPr>
          <a:xfrm>
            <a:off x="1447920" y="2438280"/>
            <a:ext cx="6354720" cy="1855800"/>
            <a:chOff x="1447920" y="2438280"/>
            <a:chExt cx="6354720" cy="1855800"/>
          </a:xfrm>
        </p:grpSpPr>
        <p:pic>
          <p:nvPicPr>
            <p:cNvPr id="138" name="Picture 5" descr="脸谱（不对称的经典）"/>
            <p:cNvPicPr/>
            <p:nvPr/>
          </p:nvPicPr>
          <p:blipFill>
            <a:blip r:embed="rId1"/>
            <a:stretch/>
          </p:blipFill>
          <p:spPr>
            <a:xfrm>
              <a:off x="4724640" y="2514600"/>
              <a:ext cx="1400040" cy="17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6" descr="脸谱（对称的经典）"/>
            <p:cNvPicPr/>
            <p:nvPr/>
          </p:nvPicPr>
          <p:blipFill>
            <a:blip r:embed="rId2"/>
            <a:stretch/>
          </p:blipFill>
          <p:spPr>
            <a:xfrm>
              <a:off x="1447920" y="2514600"/>
              <a:ext cx="1386000" cy="17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3" descr="脸谱6"/>
            <p:cNvPicPr/>
            <p:nvPr/>
          </p:nvPicPr>
          <p:blipFill>
            <a:blip r:embed="rId3"/>
            <a:stretch/>
          </p:blipFill>
          <p:spPr>
            <a:xfrm>
              <a:off x="6324840" y="2438280"/>
              <a:ext cx="1477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4" descr="脸谱7"/>
            <p:cNvPicPr/>
            <p:nvPr/>
          </p:nvPicPr>
          <p:blipFill>
            <a:blip r:embed="rId4"/>
            <a:stretch/>
          </p:blipFill>
          <p:spPr>
            <a:xfrm>
              <a:off x="3048120" y="2514600"/>
              <a:ext cx="141300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028" descr="20020104001040"/>
          <p:cNvPicPr/>
          <p:nvPr/>
        </p:nvPicPr>
        <p:blipFill>
          <a:blip r:embed="rId1"/>
          <a:stretch/>
        </p:blipFill>
        <p:spPr>
          <a:xfrm>
            <a:off x="2590920" y="1143000"/>
            <a:ext cx="393372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29" descr="E:\My Documents\英国国旗.gif"/>
          <p:cNvPicPr/>
          <p:nvPr/>
        </p:nvPicPr>
        <p:blipFill>
          <a:blip r:embed="rId1"/>
          <a:stretch/>
        </p:blipFill>
        <p:spPr>
          <a:xfrm>
            <a:off x="2133720" y="1981080"/>
            <a:ext cx="49971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30" descr="E:\My Documents\My Picture\剪纸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62200" cy="36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052" descr="七星瓢虫"/>
          <p:cNvPicPr/>
          <p:nvPr/>
        </p:nvPicPr>
        <p:blipFill>
          <a:blip r:embed="rId1"/>
          <a:stretch/>
        </p:blipFill>
        <p:spPr>
          <a:xfrm>
            <a:off x="2743200" y="1828800"/>
            <a:ext cx="3581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2743200" y="1828800"/>
            <a:ext cx="3451320" cy="3184560"/>
          </a:xfrm>
          <a:prstGeom prst="rect">
            <a:avLst/>
          </a:prstGeom>
          <a:solidFill>
            <a:srgbClr val="ffa7e2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9"/>
          <p:cNvSpPr txBox="1"/>
          <p:nvPr/>
        </p:nvSpPr>
        <p:spPr>
          <a:xfrm>
            <a:off x="990720" y="762120"/>
            <a:ext cx="1447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折一折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3886200" y="2666880"/>
            <a:ext cx="4038480" cy="1752840"/>
          </a:xfrm>
          <a:prstGeom prst="parallelogram">
            <a:avLst>
              <a:gd name="adj" fmla="val 57599"/>
            </a:avLst>
          </a:prstGeom>
          <a:solidFill>
            <a:srgbClr val="aa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Oval 22"/>
          <p:cNvSpPr/>
          <p:nvPr/>
        </p:nvSpPr>
        <p:spPr>
          <a:xfrm>
            <a:off x="1447920" y="2209680"/>
            <a:ext cx="2438280" cy="2362320"/>
          </a:xfrm>
          <a:prstGeom prst="ellipse">
            <a:avLst/>
          </a:prstGeom>
          <a:solidFill>
            <a:srgbClr val="5bd8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AutoShape 26">
            <a:hlinkClick r:id="" action="ppaction://hlinkshowjump?jump=nextslide"/>
          </p:cNvPr>
          <p:cNvSpPr/>
          <p:nvPr/>
        </p:nvSpPr>
        <p:spPr>
          <a:xfrm>
            <a:off x="7236000" y="5300640"/>
            <a:ext cx="1223640" cy="1152720"/>
          </a:xfrm>
          <a:custGeom>
            <a:avLst/>
            <a:gdLst>
              <a:gd name="textAreaLeft" fmla="*/ 72000 w 1223640"/>
              <a:gd name="textAreaRight" fmla="*/ 1151640 w 1223640"/>
              <a:gd name="textAreaTop" fmla="*/ 72000 h 1152720"/>
              <a:gd name="textAreaBottom" fmla="*/ 1080720 h 1152720"/>
            </a:gdLst>
            <a:ahLst/>
            <a:rect l="textAreaLeft" t="textAreaTop" r="textAreaRight" b="textAreaBottom"/>
            <a:pathLst>
              <a:path w="22929" h="21600">
                <a:moveTo>
                  <a:pt x="0" y="0"/>
                </a:moveTo>
                <a:lnTo>
                  <a:pt x="22929" y="0"/>
                </a:lnTo>
                <a:lnTo>
                  <a:pt x="22929" y="21600"/>
                </a:lnTo>
                <a:lnTo>
                  <a:pt x="0" y="21600"/>
                </a:lnTo>
                <a:close/>
              </a:path>
              <a:path fill="lightenLess" w="22929" h="21600">
                <a:moveTo>
                  <a:pt x="0" y="0"/>
                </a:moveTo>
                <a:lnTo>
                  <a:pt x="22929" y="0"/>
                </a:lnTo>
                <a:lnTo>
                  <a:pt x="21579" y="1350"/>
                </a:lnTo>
                <a:lnTo>
                  <a:pt x="1350" y="1350"/>
                </a:lnTo>
                <a:close/>
              </a:path>
              <a:path fill="darken" w="22929" h="21600">
                <a:moveTo>
                  <a:pt x="22929" y="0"/>
                </a:moveTo>
                <a:lnTo>
                  <a:pt x="22929" y="21600"/>
                </a:lnTo>
                <a:lnTo>
                  <a:pt x="21579" y="20250"/>
                </a:lnTo>
                <a:lnTo>
                  <a:pt x="21579" y="1350"/>
                </a:lnTo>
                <a:close/>
              </a:path>
              <a:path fill="darkenLess" w="22929" h="21600">
                <a:moveTo>
                  <a:pt x="2292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579" y="20250"/>
                </a:lnTo>
                <a:close/>
              </a:path>
              <a:path fill="lighten" w="2292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2929" h="21600">
                <a:moveTo>
                  <a:pt x="4421" y="3756"/>
                </a:moveTo>
                <a:lnTo>
                  <a:pt x="18508" y="10800"/>
                </a:lnTo>
                <a:lnTo>
                  <a:pt x="4421" y="178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19Z</dcterms:created>
  <dc:creator>An</dc:creator>
  <dc:description/>
  <dc:language>en-US</dc:language>
  <cp:lastModifiedBy>a</cp:lastModifiedBy>
  <dcterms:modified xsi:type="dcterms:W3CDTF">2015-05-20T04:19:19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