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3D5-6656-430C-996A-3694ECAA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A6EA-FEB4-4C60-B53E-C3F6BFC5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1946-9476-4004-9446-534594C4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9B5-467A-4839-8567-A11852CC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CCDF-EE5F-41E8-B4B7-13B864C8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E9D-AC02-4668-A7CE-7E293406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211-50E6-48BB-B4B0-E37F7AAC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6FD-E97F-4DF8-98E3-7C026953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61AE-8A41-452F-8659-6C5A62CC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2B0-F953-42D3-88E7-E33C9F6D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D6E-05A8-48FD-A4D7-C5A4CDDD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8C9-71AB-474F-836A-D186986B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4FB6-A92B-4A4C-AEBE-060100F1C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515960" y="1125360"/>
            <a:ext cx="6264360" cy="13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最大的“书”</a:t>
            </a:r>
            <a:endParaRPr b="0" lang="en-US" sz="6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42" name="Picture 7" descr="E:\课件制作DISK2\课件图片素材\按钮图案\n3.jpg"/>
          <p:cNvPicPr/>
          <p:nvPr/>
        </p:nvPicPr>
        <p:blipFill>
          <a:blip r:embed="rId2"/>
          <a:stretch/>
        </p:blipFill>
        <p:spPr>
          <a:xfrm>
            <a:off x="1905120" y="32767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43" name="WordArt 11"/>
          <p:cNvSpPr txBox="1"/>
          <p:nvPr/>
        </p:nvSpPr>
        <p:spPr>
          <a:xfrm>
            <a:off x="533520" y="3124080"/>
            <a:ext cx="1218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雨、波痕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4" name="WordArt 12"/>
          <p:cNvSpPr txBox="1"/>
          <p:nvPr/>
        </p:nvSpPr>
        <p:spPr>
          <a:xfrm>
            <a:off x="1219320" y="3657600"/>
            <a:ext cx="838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矿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1676520" y="4191120"/>
            <a:ext cx="838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树叶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6" name="WordArt 14"/>
          <p:cNvSpPr txBox="1"/>
          <p:nvPr/>
        </p:nvSpPr>
        <p:spPr>
          <a:xfrm>
            <a:off x="2209680" y="4572000"/>
            <a:ext cx="838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贝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7" name="WordArt 15"/>
          <p:cNvSpPr txBox="1"/>
          <p:nvPr/>
        </p:nvSpPr>
        <p:spPr>
          <a:xfrm>
            <a:off x="2895480" y="5029200"/>
            <a:ext cx="838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小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8" name="Picture 16" descr="E:\课件制作DISK2\课件图片素材\按钮图案\n3.jpg"/>
          <p:cNvPicPr/>
          <p:nvPr/>
        </p:nvPicPr>
        <p:blipFill>
          <a:blip r:embed="rId3"/>
          <a:stretch/>
        </p:blipFill>
        <p:spPr>
          <a:xfrm>
            <a:off x="2362320" y="36576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E:\课件制作DISK2\课件图片素材\按钮图案\n3.jpg"/>
          <p:cNvPicPr/>
          <p:nvPr/>
        </p:nvPicPr>
        <p:blipFill>
          <a:blip r:embed="rId4"/>
          <a:stretch/>
        </p:blipFill>
        <p:spPr>
          <a:xfrm>
            <a:off x="2895480" y="41148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E:\课件制作DISK2\课件图片素材\按钮图案\n3.jpg"/>
          <p:cNvPicPr/>
          <p:nvPr/>
        </p:nvPicPr>
        <p:blipFill>
          <a:blip r:embed="rId5"/>
          <a:stretch/>
        </p:blipFill>
        <p:spPr>
          <a:xfrm>
            <a:off x="3352680" y="45720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E:\课件制作DISK2\课件图片素材\按钮图案\n3.jpg"/>
          <p:cNvPicPr/>
          <p:nvPr/>
        </p:nvPicPr>
        <p:blipFill>
          <a:blip r:embed="rId6"/>
          <a:stretch/>
        </p:blipFill>
        <p:spPr>
          <a:xfrm>
            <a:off x="3886200" y="50292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E:\课件制作DISK2\课件图片素材\按钮图案\n3.jpg"/>
          <p:cNvPicPr/>
          <p:nvPr/>
        </p:nvPicPr>
        <p:blipFill>
          <a:blip r:embed="rId7"/>
          <a:stretch/>
        </p:blipFill>
        <p:spPr>
          <a:xfrm>
            <a:off x="3962520" y="60199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E:\课件制作DISK2\课件图片素材\按钮图案\n3.jpg"/>
          <p:cNvPicPr/>
          <p:nvPr/>
        </p:nvPicPr>
        <p:blipFill>
          <a:blip r:embed="rId8"/>
          <a:stretch/>
        </p:blipFill>
        <p:spPr>
          <a:xfrm>
            <a:off x="5334120" y="60199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E:\课件制作DISK2\课件图片素材\按钮图案\n3.jpg"/>
          <p:cNvPicPr/>
          <p:nvPr/>
        </p:nvPicPr>
        <p:blipFill>
          <a:blip r:embed="rId9"/>
          <a:stretch/>
        </p:blipFill>
        <p:spPr>
          <a:xfrm>
            <a:off x="6705720" y="60199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55" name="WordArt 23"/>
          <p:cNvSpPr txBox="1"/>
          <p:nvPr/>
        </p:nvSpPr>
        <p:spPr>
          <a:xfrm>
            <a:off x="3200400" y="5943600"/>
            <a:ext cx="609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生词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6" name="WordArt 24"/>
          <p:cNvSpPr txBox="1"/>
          <p:nvPr/>
        </p:nvSpPr>
        <p:spPr>
          <a:xfrm>
            <a:off x="4648320" y="5943600"/>
            <a:ext cx="609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识字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7" name="WordArt 25"/>
          <p:cNvSpPr txBox="1"/>
          <p:nvPr/>
        </p:nvSpPr>
        <p:spPr>
          <a:xfrm>
            <a:off x="6019920" y="5943600"/>
            <a:ext cx="609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其他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39640" y="476280"/>
            <a:ext cx="83170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质            勘探    岩石   一册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厚厚的        脚印    波痕   刨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刨根问底     煤炭    宝藏   趴着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陆地            陆角     铁矿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1403280" y="1197000"/>
            <a:ext cx="14436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780000" y="1197000"/>
            <a:ext cx="14436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7"/>
          <p:cNvSpPr/>
          <p:nvPr/>
        </p:nvSpPr>
        <p:spPr>
          <a:xfrm>
            <a:off x="5651640" y="1197000"/>
            <a:ext cx="14436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8"/>
          <p:cNvSpPr/>
          <p:nvPr/>
        </p:nvSpPr>
        <p:spPr>
          <a:xfrm>
            <a:off x="7667640" y="1197000"/>
            <a:ext cx="14436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9"/>
          <p:cNvSpPr/>
          <p:nvPr/>
        </p:nvSpPr>
        <p:spPr>
          <a:xfrm>
            <a:off x="755640" y="2276640"/>
            <a:ext cx="144360" cy="14256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0"/>
          <p:cNvSpPr/>
          <p:nvPr/>
        </p:nvSpPr>
        <p:spPr>
          <a:xfrm>
            <a:off x="4356000" y="2276640"/>
            <a:ext cx="144720" cy="14256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6156360" y="2205000"/>
            <a:ext cx="14436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2"/>
          <p:cNvSpPr/>
          <p:nvPr/>
        </p:nvSpPr>
        <p:spPr>
          <a:xfrm>
            <a:off x="826920" y="3284640"/>
            <a:ext cx="14472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3924360" y="3284640"/>
            <a:ext cx="14436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4"/>
          <p:cNvSpPr/>
          <p:nvPr/>
        </p:nvSpPr>
        <p:spPr>
          <a:xfrm>
            <a:off x="5796000" y="3284640"/>
            <a:ext cx="14436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5"/>
          <p:cNvSpPr/>
          <p:nvPr/>
        </p:nvSpPr>
        <p:spPr>
          <a:xfrm>
            <a:off x="7380360" y="3284640"/>
            <a:ext cx="14436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6"/>
          <p:cNvSpPr/>
          <p:nvPr/>
        </p:nvSpPr>
        <p:spPr>
          <a:xfrm>
            <a:off x="826920" y="4221000"/>
            <a:ext cx="14472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7"/>
          <p:cNvSpPr/>
          <p:nvPr/>
        </p:nvSpPr>
        <p:spPr>
          <a:xfrm>
            <a:off x="3851280" y="4221000"/>
            <a:ext cx="14436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8"/>
          <p:cNvSpPr/>
          <p:nvPr/>
        </p:nvSpPr>
        <p:spPr>
          <a:xfrm>
            <a:off x="7236000" y="2276640"/>
            <a:ext cx="144360" cy="14256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9"/>
          <p:cNvSpPr/>
          <p:nvPr/>
        </p:nvSpPr>
        <p:spPr>
          <a:xfrm>
            <a:off x="5796000" y="4292640"/>
            <a:ext cx="14436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2987640" y="551664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    会    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1"/>
          <p:cNvSpPr/>
          <p:nvPr/>
        </p:nvSpPr>
        <p:spPr>
          <a:xfrm>
            <a:off x="8305920" y="6019920"/>
            <a:ext cx="45720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95280" y="476280"/>
            <a:ext cx="80629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质    勘    岩    册   厚   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痕   刨     煤    宝   趴  陆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铁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"/>
          <p:cNvSpPr/>
          <p:nvPr/>
        </p:nvSpPr>
        <p:spPr>
          <a:xfrm>
            <a:off x="755640" y="1341360"/>
            <a:ext cx="216000" cy="21600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"/>
          <p:cNvSpPr/>
          <p:nvPr/>
        </p:nvSpPr>
        <p:spPr>
          <a:xfrm>
            <a:off x="2124000" y="1341360"/>
            <a:ext cx="216000" cy="21600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3635280" y="1341360"/>
            <a:ext cx="216000" cy="21600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"/>
          <p:cNvSpPr/>
          <p:nvPr/>
        </p:nvSpPr>
        <p:spPr>
          <a:xfrm>
            <a:off x="5076720" y="1341360"/>
            <a:ext cx="216000" cy="21600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826920" y="2637000"/>
            <a:ext cx="216000" cy="21564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7667640" y="1341360"/>
            <a:ext cx="216000" cy="21600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6372360" y="1341360"/>
            <a:ext cx="215640" cy="21600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7524720" y="2637000"/>
            <a:ext cx="216000" cy="21564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2050920" y="2637000"/>
            <a:ext cx="217440" cy="21420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3708360" y="2637000"/>
            <a:ext cx="216000" cy="21564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5076720" y="2637000"/>
            <a:ext cx="216000" cy="21564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755640" y="4005360"/>
            <a:ext cx="216000" cy="21564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6"/>
          <p:cNvSpPr/>
          <p:nvPr/>
        </p:nvSpPr>
        <p:spPr>
          <a:xfrm>
            <a:off x="6443640" y="2637000"/>
            <a:ext cx="216000" cy="21564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2987640" y="551664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    会    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9"/>
          <p:cNvSpPr/>
          <p:nvPr/>
        </p:nvSpPr>
        <p:spPr>
          <a:xfrm>
            <a:off x="8381880" y="6019920"/>
            <a:ext cx="45720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黄色的岩石"/>
          <p:cNvPicPr/>
          <p:nvPr/>
        </p:nvPicPr>
        <p:blipFill>
          <a:blip r:embed="rId1"/>
          <a:stretch/>
        </p:blipFill>
        <p:spPr>
          <a:xfrm>
            <a:off x="0" y="0"/>
            <a:ext cx="101887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5">
            <a:hlinkClick r:id="" action="ppaction://hlinkshowjump?jump=firstslide"/>
          </p:cNvPr>
          <p:cNvSpPr/>
          <p:nvPr/>
        </p:nvSpPr>
        <p:spPr>
          <a:xfrm>
            <a:off x="8610480" y="6172200"/>
            <a:ext cx="304920" cy="45720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457200"/>
              <a:gd name="textAreaBottom" fmla="*/ 43848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50" y="31025"/>
                </a:lnTo>
                <a:lnTo>
                  <a:pt x="20250" y="135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350" y="31025"/>
                </a:lnTo>
                <a:lnTo>
                  <a:pt x="20250" y="3102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350" y="1350"/>
                </a:lnTo>
                <a:lnTo>
                  <a:pt x="1350" y="31025"/>
                </a:lnTo>
                <a:close/>
              </a:path>
              <a:path fill="darken" w="21600" h="32375">
                <a:moveTo>
                  <a:pt x="14318" y="16187"/>
                </a:moveTo>
                <a:lnTo>
                  <a:pt x="3756" y="23231"/>
                </a:lnTo>
                <a:lnTo>
                  <a:pt x="3756" y="9144"/>
                </a:lnTo>
                <a:close/>
              </a:path>
              <a:path fill="darken" w="21600" h="32375">
                <a:moveTo>
                  <a:pt x="16173" y="9144"/>
                </a:moveTo>
                <a:lnTo>
                  <a:pt x="16173" y="23231"/>
                </a:lnTo>
                <a:lnTo>
                  <a:pt x="17844" y="23231"/>
                </a:lnTo>
                <a:lnTo>
                  <a:pt x="17844" y="914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鱼的化石之三"/>
          <p:cNvPicPr/>
          <p:nvPr/>
        </p:nvPicPr>
        <p:blipFill>
          <a:blip r:embed="rId1"/>
          <a:stretch/>
        </p:blipFill>
        <p:spPr>
          <a:xfrm>
            <a:off x="1835280" y="765000"/>
            <a:ext cx="5041800" cy="50421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3">
            <a:hlinkClick r:id="" action="ppaction://hlinkshowjump?jump=firstslide"/>
          </p:cNvPr>
          <p:cNvSpPr/>
          <p:nvPr/>
        </p:nvSpPr>
        <p:spPr>
          <a:xfrm>
            <a:off x="8610480" y="6172200"/>
            <a:ext cx="304920" cy="45720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457200"/>
              <a:gd name="textAreaBottom" fmla="*/ 43848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50" y="31025"/>
                </a:lnTo>
                <a:lnTo>
                  <a:pt x="20250" y="135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350" y="31025"/>
                </a:lnTo>
                <a:lnTo>
                  <a:pt x="20250" y="3102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350" y="1350"/>
                </a:lnTo>
                <a:lnTo>
                  <a:pt x="1350" y="31025"/>
                </a:lnTo>
                <a:close/>
              </a:path>
              <a:path fill="darken" w="21600" h="32375">
                <a:moveTo>
                  <a:pt x="14318" y="16187"/>
                </a:moveTo>
                <a:lnTo>
                  <a:pt x="3756" y="23231"/>
                </a:lnTo>
                <a:lnTo>
                  <a:pt x="3756" y="9144"/>
                </a:lnTo>
                <a:close/>
              </a:path>
              <a:path fill="darken" w="21600" h="32375">
                <a:moveTo>
                  <a:pt x="16173" y="9144"/>
                </a:moveTo>
                <a:lnTo>
                  <a:pt x="16173" y="23231"/>
                </a:lnTo>
                <a:lnTo>
                  <a:pt x="17844" y="23231"/>
                </a:lnTo>
                <a:lnTo>
                  <a:pt x="17844" y="914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蜻蜓化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鱼的化石之四"/>
          <p:cNvPicPr/>
          <p:nvPr/>
        </p:nvPicPr>
        <p:blipFill>
          <a:blip r:embed="rId2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三叶虫化石"/>
          <p:cNvPicPr/>
          <p:nvPr/>
        </p:nvPicPr>
        <p:blipFill>
          <a:blip r:embed="rId3"/>
          <a:stretch/>
        </p:blipFill>
        <p:spPr>
          <a:xfrm>
            <a:off x="0" y="0"/>
            <a:ext cx="6877080" cy="6877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青蛙化石"/>
          <p:cNvPicPr/>
          <p:nvPr/>
        </p:nvPicPr>
        <p:blipFill>
          <a:blip r:embed="rId4"/>
          <a:stretch/>
        </p:blipFill>
        <p:spPr>
          <a:xfrm>
            <a:off x="4317840" y="1341360"/>
            <a:ext cx="4826160" cy="48261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>
            <a:hlinkClick r:id="" action="ppaction://hlinkshowjump?jump=firstslide"/>
          </p:cNvPr>
          <p:cNvSpPr/>
          <p:nvPr/>
        </p:nvSpPr>
        <p:spPr>
          <a:xfrm>
            <a:off x="8610480" y="6172200"/>
            <a:ext cx="304920" cy="45720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457200"/>
              <a:gd name="textAreaBottom" fmla="*/ 43848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50" y="31025"/>
                </a:lnTo>
                <a:lnTo>
                  <a:pt x="20250" y="135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350" y="31025"/>
                </a:lnTo>
                <a:lnTo>
                  <a:pt x="20250" y="3102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350" y="1350"/>
                </a:lnTo>
                <a:lnTo>
                  <a:pt x="1350" y="31025"/>
                </a:lnTo>
                <a:close/>
              </a:path>
              <a:path fill="darken" w="21600" h="32375">
                <a:moveTo>
                  <a:pt x="14318" y="16187"/>
                </a:moveTo>
                <a:lnTo>
                  <a:pt x="3756" y="23231"/>
                </a:lnTo>
                <a:lnTo>
                  <a:pt x="3756" y="9144"/>
                </a:lnTo>
                <a:close/>
              </a:path>
              <a:path fill="darken" w="21600" h="32375">
                <a:moveTo>
                  <a:pt x="16173" y="9144"/>
                </a:moveTo>
                <a:lnTo>
                  <a:pt x="16173" y="23231"/>
                </a:lnTo>
                <a:lnTo>
                  <a:pt x="17844" y="23231"/>
                </a:lnTo>
                <a:lnTo>
                  <a:pt x="17844" y="914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3:32:34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8:02:27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