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EFB-3EA5-434C-8782-8E21005B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77D-E77E-4469-B2A1-1E9C2490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5D7-36B9-45EE-8E23-C11557EA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212-6039-4FD7-98D5-E621F8B6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1A9-4AB1-4738-84FD-884644E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797-A080-4957-8D6C-06F59271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5BF-57D1-40BC-AF89-A4D5C37C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5A0-CDE8-4C19-9F76-0FF9292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CFA-EE50-416D-9F97-F883223C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C86-356E-49BA-9AC1-E53ADA16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110-3733-414D-A177-0A1DB8E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141-C932-4D04-8C3F-050D25E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AF1F-AD65-4C6E-AF99-E323945C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61,5,&#24187;&#28783;&#29255; 5" TargetMode="External"/><Relationship Id="rId3" Type="http://schemas.openxmlformats.org/officeDocument/2006/relationships/hyperlink" Target="262,7,&#24187;&#28783;&#29255; 7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81,4,&#24187;&#28783;&#29255; 4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81,4,&#24187;&#28783;&#29255; 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dengxiaop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-375120" y="210960"/>
            <a:ext cx="2618280" cy="63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Times New Roman"/>
                <a:ea typeface="隶书"/>
              </a:rPr>
              <a:t>在大海中永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D:\xuyulan\画框造型\FR_06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472120" y="2286000"/>
            <a:ext cx="453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飞机在高空盘旋，鲜花伴着骨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撒向无垠的大海。大海呜咽，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风卷着浪花，痛悼伟人的离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TA_3530.WAV" descr=""/>
          <p:cNvPicPr/>
          <p:nvPr/>
        </p:nvPicPr>
        <p:blipFill>
          <a:blip r:embed="rId2"/>
          <a:stretch/>
        </p:blipFill>
        <p:spPr>
          <a:xfrm>
            <a:off x="60199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D:\xuyulan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838080" y="609480"/>
            <a:ext cx="749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也许，奔腾不息的浪花会把他的骨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送往祖国的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万里海疆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；也许，奔腾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息的浪花会把他的骨灰送往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澳门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港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；也许，奔腾不息的浪花会把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骨灰送往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宝岛台湾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；也许，奔腾不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的浪花会把他的骨灰送向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太平洋、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度洋、大西洋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00200" y="5060880"/>
            <a:ext cx="321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D:\xuyulan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600200" y="5060880"/>
            <a:ext cx="321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85800" y="152388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邓小平爷爷的影响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超越时代，超越国界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，他不仅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属于中国，也属于全世界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D:\xuyulan\勤工简学.jpg"/>
          <p:cNvPicPr/>
          <p:nvPr/>
        </p:nvPicPr>
        <p:blipFill>
          <a:blip r:embed="rId1"/>
          <a:stretch/>
        </p:blipFill>
        <p:spPr>
          <a:xfrm>
            <a:off x="0" y="0"/>
            <a:ext cx="213372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xuyulan\111.jpg"/>
          <p:cNvPicPr/>
          <p:nvPr/>
        </p:nvPicPr>
        <p:blipFill>
          <a:blip r:embed="rId2"/>
          <a:stretch/>
        </p:blipFill>
        <p:spPr>
          <a:xfrm>
            <a:off x="2209680" y="0"/>
            <a:ext cx="213372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xuyulan\邓小平在北戴河.jpg"/>
          <p:cNvPicPr/>
          <p:nvPr/>
        </p:nvPicPr>
        <p:blipFill>
          <a:blip r:embed="rId3"/>
          <a:stretch/>
        </p:blipFill>
        <p:spPr>
          <a:xfrm>
            <a:off x="4495680" y="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xuyulan\19-6.jpg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08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04920" y="28954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他提出了改革开放，使中国经济得到空前发展，不管是在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世纪，还是在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世纪，都使中国雄立于世界。邓小平的影响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超越时代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904400" y="4329000"/>
            <a:ext cx="517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他提出了“一国两制”的构想，使香港、澳门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期回归，台湾也必将回到祖国的怀抱。香港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回归，为全世界国与国之间，和平友好地解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历史遗留问题提供了一个理想的模式。邓小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的影响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超越国界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D:\xuyulan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838080" y="609480"/>
            <a:ext cx="749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也许，奔腾不息的浪花会把他的骨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送往祖国的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万里海疆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；也许，奔腾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息的浪花会把他的骨灰送往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澳门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港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；也许，奔腾不息的浪花会把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骨灰送往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宝岛台湾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；也许，奔腾不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的浪花会把他的骨灰送向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太平洋、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度洋、大西洋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600200" y="5060880"/>
            <a:ext cx="321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454480" y="44355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邓小平爷爷的影响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超越时代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超越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界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，他不仅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属于中国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，也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属于全世界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23.mpg" descr=""/>
          <p:cNvPicPr/>
          <p:nvPr/>
        </p:nvPicPr>
        <p:blipFill>
          <a:blip r:embed="rId1"/>
          <a:stretch/>
        </p:blipFill>
        <p:spPr>
          <a:xfrm>
            <a:off x="0" y="-31104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D:\xuyulan\在大海中永生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72396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（         ）盘旋，（         ）伴着（       ），撒向（             ）。（          ）呜咽，寒风（         ），痛悼（                     ）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也许，（                         ）万里海疆；也许（                         ）澳门、香港  ；也许，          （                                   ）宝岛台湾；也许，（                                   ）太平洋、印度洋、大西洋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（       ）超越时代，超越国界，（   ）不仅（             ），也（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（    ）撒（    ），（    ）送（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D:\xuyulan\dengxiaoping.jpg"/>
          <p:cNvPicPr/>
          <p:nvPr/>
        </p:nvPicPr>
        <p:blipFill>
          <a:blip r:embed="rId1"/>
          <a:stretch/>
        </p:blipFill>
        <p:spPr>
          <a:xfrm>
            <a:off x="0" y="-168120"/>
            <a:ext cx="9448920" cy="7026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259280" y="-414000"/>
            <a:ext cx="1277640" cy="75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66"/>
                </a:solidFill>
                <a:latin typeface="Times New Roman"/>
                <a:ea typeface="隶书"/>
              </a:rPr>
              <a:t>在大海中永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3635280" y="26193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D:\xuyulan\在大海中永生\mi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14400" y="1752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1997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日上午，一架银色的专机离开北京西郊机场，在首都上空低低地缓缓地绕飞一周，然后穿过云层，飞向祖国的辽阔大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8001000" y="5867280"/>
            <a:ext cx="609480" cy="66204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62040"/>
              <a:gd name="textAreaBottom" fmla="*/ 62424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50" y="22112"/>
                </a:lnTo>
                <a:lnTo>
                  <a:pt x="20250" y="135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350" y="22112"/>
                </a:lnTo>
                <a:lnTo>
                  <a:pt x="20250" y="2211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350" y="1350"/>
                </a:lnTo>
                <a:lnTo>
                  <a:pt x="1350" y="22112"/>
                </a:lnTo>
                <a:close/>
              </a:path>
              <a:path fill="darken" w="21600" h="23462">
                <a:moveTo>
                  <a:pt x="3756" y="4687"/>
                </a:moveTo>
                <a:lnTo>
                  <a:pt x="17844" y="11731"/>
                </a:lnTo>
                <a:lnTo>
                  <a:pt x="3756" y="18775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6" descr="D:\xuyulan\在大海中永生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27"/>
          <p:cNvSpPr/>
          <p:nvPr/>
        </p:nvSpPr>
        <p:spPr>
          <a:xfrm>
            <a:off x="914400" y="1752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机舱里安放着全党、全军和全国各族人民衷心爱戴的邓小平爷爷的骨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30"/>
          <p:cNvSpPr/>
          <p:nvPr/>
        </p:nvSpPr>
        <p:spPr>
          <a:xfrm>
            <a:off x="8001000" y="5867280"/>
            <a:ext cx="609480" cy="66204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62040"/>
              <a:gd name="textAreaBottom" fmla="*/ 62424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50" y="22112"/>
                </a:lnTo>
                <a:lnTo>
                  <a:pt x="20250" y="135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350" y="22112"/>
                </a:lnTo>
                <a:lnTo>
                  <a:pt x="20250" y="2211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350" y="1350"/>
                </a:lnTo>
                <a:lnTo>
                  <a:pt x="1350" y="22112"/>
                </a:lnTo>
                <a:close/>
              </a:path>
              <a:path fill="darken" w="21600" h="23462">
                <a:moveTo>
                  <a:pt x="3756" y="4687"/>
                </a:moveTo>
                <a:lnTo>
                  <a:pt x="17844" y="11731"/>
                </a:lnTo>
                <a:lnTo>
                  <a:pt x="3756" y="18775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26" descr="D:\xuyulan\在大海中永生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27"/>
          <p:cNvSpPr/>
          <p:nvPr/>
        </p:nvSpPr>
        <p:spPr>
          <a:xfrm>
            <a:off x="914400" y="1752480"/>
            <a:ext cx="7696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一位以自己的一生带领人民书写中华民族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崭新历史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的伟人，今天将完成他人生的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最后一个篇章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30"/>
          <p:cNvSpPr/>
          <p:nvPr/>
        </p:nvSpPr>
        <p:spPr>
          <a:xfrm>
            <a:off x="8001000" y="5867280"/>
            <a:ext cx="609480" cy="66204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62040"/>
              <a:gd name="textAreaBottom" fmla="*/ 62424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50" y="22112"/>
                </a:lnTo>
                <a:lnTo>
                  <a:pt x="20250" y="135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350" y="22112"/>
                </a:lnTo>
                <a:lnTo>
                  <a:pt x="20250" y="2211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350" y="1350"/>
                </a:lnTo>
                <a:lnTo>
                  <a:pt x="1350" y="22112"/>
                </a:lnTo>
                <a:close/>
              </a:path>
              <a:path fill="darken" w="21600" h="23462">
                <a:moveTo>
                  <a:pt x="3756" y="4687"/>
                </a:moveTo>
                <a:lnTo>
                  <a:pt x="17844" y="11731"/>
                </a:lnTo>
                <a:lnTo>
                  <a:pt x="3756" y="18775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D:\xuyulan\美术边框\PM_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834640" y="1700280"/>
            <a:ext cx="3472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崭新历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邓小平爷爷带领人民改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放，使全国人民过上了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172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xuyulan\美术边框\PM_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600200" y="990720"/>
            <a:ext cx="6429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最后一个篇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邓小平同志临终前，再三叮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后捐献角膜，解剖遗体，不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骨灰，撒入大海，这是他把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生毫无保留地献给祖国和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民的遗愿，也是他留给党和人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份珍贵遗产。所以，骨灰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大海谓为“完成他人生的最后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篇章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72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23_1.mpg" descr=""/>
          <p:cNvPicPr/>
          <p:nvPr/>
        </p:nvPicPr>
        <p:blipFill>
          <a:blip r:embed="rId1"/>
          <a:stretch/>
        </p:blipFill>
        <p:spPr>
          <a:xfrm>
            <a:off x="0" y="-311040"/>
            <a:ext cx="9144000" cy="68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D:\xuyulan\在大海中永生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0508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8380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1997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日上午，一架银色的专机离开北京西郊机场，在首都上空低低地缓缓地绕飞一周，然后穿过云层，飞向祖国的辽阔大海。机舱里安放着全党、全军和全国各族人民衷心爱戴的邓小平爷爷的骨灰。一位以自己的一生带领人民书写中华民族崭新历史的伟人，今天将完成他人生的最后一个篇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D:\xuyulan\在大海中永生\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1:51:5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6:07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