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C82-5AF3-4D10-B110-D137CDB2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9B8-EC3F-4A47-AEB4-761EF2FF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E0DC-020F-4048-83A3-5884E31E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E200-AC2D-48CD-9214-BC257814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A7C9-D526-4AA2-9A09-E104DBAE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901-18BD-4288-B10A-67F6FA2B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30B-814E-4DDB-83FA-974BE1C2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92BB-3CD0-4B76-B5E4-CE22CEA6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44AB-3496-4B42-A8EA-9F7F5B05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955A-197F-48DD-AAD5-D17C0C43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3E5A-C3B4-47A4-82DC-8C099031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426-3CE0-41A3-87A6-DCDE7FF8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99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7E5F3D-188C-4442-995D-6AD5F4FF07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C:\Documents and Settings\Administrator\桌面\ims.arting365.com_中国风中秋团圆\4.png"/>
          <p:cNvPicPr/>
          <p:nvPr/>
        </p:nvPicPr>
        <p:blipFill>
          <a:blip r:embed="rId1"/>
          <a:stretch/>
        </p:blipFill>
        <p:spPr>
          <a:xfrm>
            <a:off x="-714240" y="-171360"/>
            <a:ext cx="10643760" cy="674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Documents and Settings\Administrator\桌面\ims.arting365.com_中国风中秋团圆\10.png"/>
          <p:cNvPicPr/>
          <p:nvPr/>
        </p:nvPicPr>
        <p:blipFill>
          <a:blip r:embed="rId2"/>
          <a:stretch/>
        </p:blipFill>
        <p:spPr>
          <a:xfrm>
            <a:off x="-776160" y="-71640"/>
            <a:ext cx="10205640" cy="7071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Documents and Settings\Administrator\桌面\ims.arting365.com_中国风中秋团圆\5.png"/>
          <p:cNvPicPr/>
          <p:nvPr/>
        </p:nvPicPr>
        <p:blipFill>
          <a:blip r:embed="rId3"/>
          <a:srcRect l="31568" t="0" r="25980" b="0"/>
          <a:stretch/>
        </p:blipFill>
        <p:spPr>
          <a:xfrm>
            <a:off x="6286680" y="-285840"/>
            <a:ext cx="2999880" cy="7261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C:\Documents and Settings\Administrator\桌面\ims.arting365.com_中国风中秋团圆\6.png"/>
          <p:cNvPicPr/>
          <p:nvPr/>
        </p:nvPicPr>
        <p:blipFill>
          <a:blip r:embed="rId4"/>
          <a:stretch/>
        </p:blipFill>
        <p:spPr>
          <a:xfrm>
            <a:off x="0" y="-142920"/>
            <a:ext cx="2850120" cy="2928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:\Documents and Settings\Administrator\桌面\ims.arting365.com_中国风中秋团圆\7.png"/>
          <p:cNvPicPr/>
          <p:nvPr/>
        </p:nvPicPr>
        <p:blipFill>
          <a:blip r:embed="rId5"/>
          <a:srcRect l="0" t="0" r="30005" b="28987"/>
          <a:stretch/>
        </p:blipFill>
        <p:spPr>
          <a:xfrm>
            <a:off x="-214200" y="-142920"/>
            <a:ext cx="3357360" cy="3500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Documents and Settings\Administrator\桌面\ims.arting365.com_中国风中秋团圆\3.png"/>
          <p:cNvPicPr/>
          <p:nvPr/>
        </p:nvPicPr>
        <p:blipFill>
          <a:blip r:embed="rId6"/>
          <a:srcRect l="7135" t="0" r="13192" b="15585"/>
          <a:stretch/>
        </p:blipFill>
        <p:spPr>
          <a:xfrm>
            <a:off x="-214200" y="2214720"/>
            <a:ext cx="9572400" cy="4642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C:\Documents and Settings\Administrator\桌面\ims.arting365.com_中国风中秋团圆\9.png"/>
          <p:cNvPicPr/>
          <p:nvPr/>
        </p:nvPicPr>
        <p:blipFill>
          <a:blip r:embed="rId7"/>
          <a:stretch/>
        </p:blipFill>
        <p:spPr>
          <a:xfrm>
            <a:off x="2214720" y="3205440"/>
            <a:ext cx="2928600" cy="3009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C:\Documents and Settings\Administrator\桌面\ims.arting365.com_中国风中秋团圆\11.png"/>
          <p:cNvPicPr/>
          <p:nvPr/>
        </p:nvPicPr>
        <p:blipFill>
          <a:blip r:embed="rId8"/>
          <a:stretch/>
        </p:blipFill>
        <p:spPr>
          <a:xfrm>
            <a:off x="-500040" y="-285840"/>
            <a:ext cx="7438320" cy="7643520"/>
          </a:xfrm>
          <a:prstGeom prst="rect">
            <a:avLst/>
          </a:prstGeom>
          <a:ln w="0">
            <a:noFill/>
          </a:ln>
        </p:spPr>
      </p:pic>
      <p:sp>
        <p:nvSpPr>
          <p:cNvPr id="88" name="TextBox 13"/>
          <p:cNvSpPr/>
          <p:nvPr/>
        </p:nvSpPr>
        <p:spPr>
          <a:xfrm>
            <a:off x="8170920" y="1357200"/>
            <a:ext cx="49212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262626"/>
                </a:solidFill>
                <a:latin typeface="书体坊米芾体"/>
                <a:ea typeface="书体坊米芾体"/>
              </a:rPr>
              <a:t>十里平湖霜满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7813800" y="1143000"/>
            <a:ext cx="49212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262626"/>
                </a:solidFill>
                <a:latin typeface="书体坊米芾体"/>
                <a:ea typeface="书体坊米芾体"/>
              </a:rPr>
              <a:t>寸寸青丝愁华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7456320" y="1684080"/>
            <a:ext cx="49212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262626"/>
                </a:solidFill>
                <a:latin typeface="书体坊米芾体"/>
                <a:ea typeface="书体坊米芾体"/>
              </a:rPr>
              <a:t>对月形单望相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7099200" y="1398600"/>
            <a:ext cx="49212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262626"/>
                </a:solidFill>
                <a:latin typeface="书体坊米芾体"/>
                <a:ea typeface="书体坊米芾体"/>
              </a:rPr>
              <a:t>只羡鸳鸯不羡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Documents and Settings\Administrator\桌面\图形1.png"/>
          <p:cNvPicPr/>
          <p:nvPr/>
        </p:nvPicPr>
        <p:blipFill>
          <a:blip r:embed="rId9"/>
          <a:stretch/>
        </p:blipFill>
        <p:spPr>
          <a:xfrm>
            <a:off x="6715080" y="2478960"/>
            <a:ext cx="447480" cy="73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C:\Documents and Settings\Administrator\桌面\ims.arting365.com_中国风中秋团圆\12.png"/>
          <p:cNvPicPr/>
          <p:nvPr/>
        </p:nvPicPr>
        <p:blipFill>
          <a:blip r:embed="rId10"/>
          <a:stretch/>
        </p:blipFill>
        <p:spPr>
          <a:xfrm flipH="1">
            <a:off x="4271400" y="3500280"/>
            <a:ext cx="4944240" cy="4142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Documents and Settings\Administrator\桌面\ims.arting365.com_中国风中秋团圆\2副本.png"/>
          <p:cNvPicPr/>
          <p:nvPr/>
        </p:nvPicPr>
        <p:blipFill>
          <a:blip r:embed="rId11"/>
          <a:stretch/>
        </p:blipFill>
        <p:spPr>
          <a:xfrm>
            <a:off x="9715680" y="-1000080"/>
            <a:ext cx="2710800" cy="2785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Documents and Settings\Administrator\桌面\ims.arting365.com_中国风中秋团圆\1副本.png"/>
          <p:cNvPicPr/>
          <p:nvPr/>
        </p:nvPicPr>
        <p:blipFill>
          <a:blip r:embed="rId12"/>
          <a:stretch/>
        </p:blipFill>
        <p:spPr>
          <a:xfrm>
            <a:off x="0" y="857160"/>
            <a:ext cx="3850920" cy="43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C:\Documents and Settings\Administrator\桌面\ims.arting365.com_中国风中秋团圆\8.png"/>
          <p:cNvPicPr/>
          <p:nvPr/>
        </p:nvPicPr>
        <p:blipFill>
          <a:blip r:embed="rId13"/>
          <a:stretch/>
        </p:blipFill>
        <p:spPr>
          <a:xfrm>
            <a:off x="-214200" y="3286080"/>
            <a:ext cx="4727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89 -0.0296 L -0.63194 0.43201 E">
                                      <p:cBhvr>
                                        <p:cTn id="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3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466480" cy="6858000"/>
            <a:chOff x="0" y="0"/>
            <a:chExt cx="8466480" cy="6858000"/>
          </a:xfrm>
        </p:grpSpPr>
        <p:sp>
          <p:nvSpPr>
            <p:cNvPr id="98" name="矩形 4"/>
            <p:cNvSpPr/>
            <p:nvPr/>
          </p:nvSpPr>
          <p:spPr>
            <a:xfrm>
              <a:off x="578160" y="0"/>
              <a:ext cx="6742800" cy="6991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846648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7">
              <a:hlinkClick r:id="rId3"/>
            </p:cNvPr>
            <p:cNvSpPr/>
            <p:nvPr/>
          </p:nvSpPr>
          <p:spPr>
            <a:xfrm rot="20926800">
              <a:off x="1920600" y="3571920"/>
              <a:ext cx="4667040" cy="11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  <Words>37</Words>
  <Paragraphs>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2-09T01:51:40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