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6AF-5E21-4555-B12D-5E467EBA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576-0B90-4AA6-90A7-FA05E0C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AD0-BCA4-4115-A332-21DCEDF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971-7C66-4F2C-9193-B794273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C23-CB47-4156-8687-17ADEB2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1B1-6AD4-4FED-A5D2-10E1D68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C08-6C6E-4114-80E1-EC24ACD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9CD-9EF4-4DC6-86B1-B39E9DD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757-1867-4EC9-AA81-05E06E7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108-C860-4109-B66D-3B1223D9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801-AD88-4EAE-BD56-C2C850AF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91D-8EF4-4994-87BC-50C4FA3E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608-FCE6-487F-82EC-E76EC70EAC7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8CE-6592-481A-8402-16AD47EAD75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465768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312840"/>
            <a:ext cx="15746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683000" y="207648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347000" y="313524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G:\公司\LOGO.png"/>
          <p:cNvPicPr/>
          <p:nvPr/>
        </p:nvPicPr>
        <p:blipFill>
          <a:blip r:embed="rId1"/>
          <a:stretch/>
        </p:blipFill>
        <p:spPr>
          <a:xfrm>
            <a:off x="309600" y="26496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465768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30312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328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>a</cp:lastModifiedBy>
  <dcterms:modified xsi:type="dcterms:W3CDTF">2015-05-20T04:15:5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