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60F-D771-4EFE-844B-92FE8FC7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54B-6BFA-45A2-A7F2-6ED1F58E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44C-BAAB-4EA0-91A4-1CDE178D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343-B8B5-4B2A-9DC0-5331E9BA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6F61-774D-447D-A24F-B306575E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D5E6-DA29-4746-93D3-5A5EA063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0D3B-E44B-41E4-9990-57FDC571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C655-1D89-43CD-A1A9-1C2C5584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8978-824D-4717-91B3-C38DD94B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D4B2-B83F-45C5-8BE4-FC3DF0D5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96D2-880E-4030-B52C-80C1B40D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DE4-A463-4381-AE72-382DEFD3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889D-6E2B-4E43-9F69-25BA1211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12FE-9BFB-4EF4-86DB-AB29E814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FF11-2C4C-4941-8260-C41FCE4F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D29C-3EC2-4710-A261-8BF5B023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E5D8-900A-4E97-9BE9-EDE19C23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4DC-E576-4AD0-9759-9A560A0D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259-971B-4ABB-9AA6-07E97BBF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78E-E0CE-435B-8319-DF9E93C6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0E5-6F1A-4387-9A21-8BC3E1DC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348-68D2-4FB0-A8A6-EA5B10FD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E5C-AEB2-434D-A3C2-0DA9551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B95-4388-4C26-8532-6E3ECFA3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6B48-523D-47EC-B49D-828E5D8B97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CDC-FB98-485C-B74D-18812AE0D166}" type="datetime">
              <a:rPr b="0" lang="zh-CN" sz="1400" spc="-1" strike="noStrike">
                <a:solidFill>
                  <a:srgbClr val="000000"/>
                </a:solidFill>
                <a:latin typeface="Tahoma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36FA-06C7-4050-99F7-69A87AEDDC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3" descr="图片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0" y="2184480"/>
            <a:ext cx="9144000" cy="345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新宋体"/>
                <a:ea typeface="黑体"/>
              </a:rPr>
              <a:t>“</a:t>
            </a:r>
            <a:r>
              <a:rPr b="1" lang="zh-CN" sz="9600" spc="-1" strike="noStrike">
                <a:solidFill>
                  <a:srgbClr val="ffcc00"/>
                </a:solidFill>
                <a:latin typeface="黑体"/>
                <a:ea typeface="黑体"/>
              </a:rPr>
              <a:t>贞观之治</a:t>
            </a:r>
            <a:r>
              <a:rPr b="1" lang="zh-CN" sz="9600" spc="-1" strike="noStrike">
                <a:solidFill>
                  <a:srgbClr val="ffcc00"/>
                </a:solidFill>
                <a:latin typeface="新宋体"/>
                <a:ea typeface="黑体"/>
              </a:rPr>
              <a:t>”</a:t>
            </a:r>
            <a:br>
              <a:rPr sz="66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  </a:t>
            </a:r>
            <a:r>
              <a:rPr b="1" lang="en-US" sz="4000" spc="-1" strike="noStrike">
                <a:solidFill>
                  <a:srgbClr val="2b5481"/>
                </a:solidFill>
                <a:latin typeface="Arial"/>
                <a:ea typeface="楷体_GB2312"/>
              </a:rPr>
              <a:t>——</a:t>
            </a:r>
            <a:r>
              <a:rPr b="1" lang="en-US" sz="40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人教版七年级下册第</a:t>
            </a:r>
            <a:r>
              <a:rPr b="1" lang="en-US" sz="40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2b5481"/>
                </a:solidFill>
                <a:latin typeface="楷体_GB2312"/>
                <a:ea typeface="楷体_GB2312"/>
              </a:rPr>
              <a:t>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.MPG" descr=""/>
          <p:cNvPicPr/>
          <p:nvPr/>
        </p:nvPicPr>
        <p:blipFill>
          <a:blip r:embed="rId2"/>
          <a:stretch/>
        </p:blipFill>
        <p:spPr>
          <a:xfrm>
            <a:off x="584280" y="189000"/>
            <a:ext cx="8001000" cy="6545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934320" y="6095880"/>
            <a:ext cx="533160" cy="609840"/>
          </a:xfrm>
          <a:custGeom>
            <a:avLst/>
            <a:gdLst>
              <a:gd name="textAreaLeft" fmla="*/ 33120 w 533160"/>
              <a:gd name="textAreaRight" fmla="*/ 500040 w 533160"/>
              <a:gd name="textAreaTop" fmla="*/ 33120 h 609840"/>
              <a:gd name="textAreaBottom" fmla="*/ 57672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50" y="23354"/>
                </a:lnTo>
                <a:lnTo>
                  <a:pt x="20250" y="135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350" y="23354"/>
                </a:lnTo>
                <a:lnTo>
                  <a:pt x="20250" y="2335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350" y="1350"/>
                </a:lnTo>
                <a:lnTo>
                  <a:pt x="1350" y="23354"/>
                </a:lnTo>
                <a:close/>
              </a:path>
              <a:path fill="darken" w="21600" h="24704">
                <a:moveTo>
                  <a:pt x="10800" y="5308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4704">
                <a:moveTo>
                  <a:pt x="10800" y="5685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4704">
                <a:moveTo>
                  <a:pt x="8210" y="9762"/>
                </a:moveTo>
                <a:lnTo>
                  <a:pt x="12095" y="9762"/>
                </a:lnTo>
                <a:lnTo>
                  <a:pt x="12095" y="16797"/>
                </a:lnTo>
                <a:lnTo>
                  <a:pt x="13390" y="16797"/>
                </a:lnTo>
                <a:lnTo>
                  <a:pt x="13390" y="17725"/>
                </a:lnTo>
                <a:lnTo>
                  <a:pt x="8210" y="17725"/>
                </a:lnTo>
                <a:lnTo>
                  <a:pt x="8210" y="16797"/>
                </a:lnTo>
                <a:lnTo>
                  <a:pt x="9505" y="16797"/>
                </a:lnTo>
                <a:lnTo>
                  <a:pt x="9505" y="10672"/>
                </a:lnTo>
                <a:lnTo>
                  <a:pt x="8210" y="10672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7">
            <a:hlinkClick r:id="" action="ppaction://hlinkshowjump?jump=nextslide"/>
          </p:cNvPr>
          <p:cNvSpPr/>
          <p:nvPr/>
        </p:nvSpPr>
        <p:spPr>
          <a:xfrm>
            <a:off x="7772400" y="6324480"/>
            <a:ext cx="762120" cy="381240"/>
          </a:xfrm>
          <a:custGeom>
            <a:avLst/>
            <a:gdLst>
              <a:gd name="textAreaLeft" fmla="*/ 23760 w 762120"/>
              <a:gd name="textAreaRight" fmla="*/ 738360 w 76212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809" y="1350"/>
                </a:lnTo>
                <a:lnTo>
                  <a:pt x="1350" y="135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809" y="20250"/>
                </a:lnTo>
                <a:lnTo>
                  <a:pt x="41809" y="135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09" y="2025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59" h="21600">
                <a:moveTo>
                  <a:pt x="14536" y="10800"/>
                </a:moveTo>
                <a:lnTo>
                  <a:pt x="28623" y="3756"/>
                </a:lnTo>
                <a:lnTo>
                  <a:pt x="28623" y="17844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7524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00200" y="259092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武则天的主要政绩有哪些？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685800" y="990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１、重视发展农业生产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85800" y="28195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２、破格重用有才能的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85800" y="44956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３、使唐朝国力不断增强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 rot="5400000">
            <a:off x="3695040" y="1942920"/>
            <a:ext cx="6553080" cy="32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宋体"/>
              </a:rPr>
              <a:t>治宏贞观　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宋体"/>
              </a:rPr>
              <a:t>政启开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28" name="Picture 6" descr="3"/>
          <p:cNvPicPr/>
          <p:nvPr/>
        </p:nvPicPr>
        <p:blipFill>
          <a:blip r:embed="rId2"/>
          <a:stretch/>
        </p:blipFill>
        <p:spPr>
          <a:xfrm>
            <a:off x="228600" y="228600"/>
            <a:ext cx="5257800" cy="64771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609480" y="990720"/>
            <a:ext cx="2743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脑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2120" y="29718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秦亡汉兴</a:t>
            </a: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隋亡唐兴有什么共同之处？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04920" y="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秦隋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80880" y="7621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是完成统一后很块灭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是统治者残暴无道　政治黑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爆发了大规模的农民起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28600" y="29718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汉唐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28600" y="3745080"/>
            <a:ext cx="8915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统治者都吸取前朝的教训出现了繁荣的局面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轻徭薄赋，整顿吏治，任用贤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都成为影响当时世界的大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380880" y="2506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唐朝的建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429000" y="2514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贞观之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124080" y="3581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起因　内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895480" y="28954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4343400" y="313848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5410080" y="289548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019920" y="2514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女皇武则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7238880" y="312408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5715000" y="35812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主要功绩和对历史的影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581280" y="14479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评价唐太宗　武则天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21"/>
          <p:cNvSpPr/>
          <p:nvPr/>
        </p:nvSpPr>
        <p:spPr>
          <a:xfrm rot="16200000">
            <a:off x="5562360" y="3352680"/>
            <a:ext cx="152640" cy="2895480"/>
          </a:xfrm>
          <a:custGeom>
            <a:avLst/>
            <a:gdLst>
              <a:gd name="textAreaLeft" fmla="*/ 44640 w 152640"/>
              <a:gd name="textAreaRight" fmla="*/ 153000 w 152640"/>
              <a:gd name="textAreaTop" fmla="*/ 120600 h 2895480"/>
              <a:gd name="textAreaBottom" fmla="*/ 27748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3733920" y="53341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秦亡汉兴隋亡唐兴的共同之处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25"/>
          <p:cNvSpPr/>
          <p:nvPr/>
        </p:nvSpPr>
        <p:spPr>
          <a:xfrm>
            <a:off x="5638680" y="487692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26"/>
          <p:cNvSpPr/>
          <p:nvPr/>
        </p:nvSpPr>
        <p:spPr>
          <a:xfrm>
            <a:off x="4648320" y="4876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探究　　链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27"/>
          <p:cNvSpPr/>
          <p:nvPr/>
        </p:nvSpPr>
        <p:spPr>
          <a:xfrm rot="5400000">
            <a:off x="5638680" y="914040"/>
            <a:ext cx="114480" cy="3314880"/>
          </a:xfrm>
          <a:custGeom>
            <a:avLst/>
            <a:gdLst>
              <a:gd name="textAreaLeft" fmla="*/ 33480 w 114480"/>
              <a:gd name="textAreaRight" fmla="*/ 114840 w 114480"/>
              <a:gd name="textAreaTop" fmla="*/ 137880 h 3314880"/>
              <a:gd name="textAreaBottom" fmla="*/ 3177000 h 33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9"/>
          <p:cNvSpPr/>
          <p:nvPr/>
        </p:nvSpPr>
        <p:spPr>
          <a:xfrm>
            <a:off x="5181480" y="19051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拓　展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30"/>
          <p:cNvSpPr/>
          <p:nvPr/>
        </p:nvSpPr>
        <p:spPr>
          <a:xfrm flipV="1">
            <a:off x="5715000" y="2057400"/>
            <a:ext cx="0" cy="380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685800" y="914400"/>
            <a:ext cx="25909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6668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设计一张表格，列出汉武帝与唐太宗的历史功绩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205740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课２课　“贞观之治”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7524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2362320"/>
            <a:ext cx="7696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隋朝是怎样灭亡的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唐太宗是唐朝的建立者吗？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0" name="WordArt 9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1" name="WordArt 12"/>
          <p:cNvSpPr txBox="1"/>
          <p:nvPr/>
        </p:nvSpPr>
        <p:spPr>
          <a:xfrm>
            <a:off x="380880" y="1143000"/>
            <a:ext cx="27432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思考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066680" y="12193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762200" y="7621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唐朝的建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295280" y="2506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66680" y="21337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时间：６１８年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990720" y="327672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建立者：李渊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066680" y="434340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都城：长安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.MPG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87631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09480" y="53352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唐朝的建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533520" y="22096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ahoma"/>
              </a:rPr>
              <a:t>贞观之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3733920" y="1905120"/>
            <a:ext cx="75960" cy="1828800"/>
          </a:xfrm>
          <a:custGeom>
            <a:avLst/>
            <a:gdLst>
              <a:gd name="textAreaLeft" fmla="*/ 48600 w 75960"/>
              <a:gd name="textAreaRight" fmla="*/ 76320 w 75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962520" y="1447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政治清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62520" y="22860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经济繁荣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886200" y="32004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ahoma"/>
              </a:rPr>
              <a:t>国力增强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5"/>
          <p:cNvSpPr txBox="1"/>
          <p:nvPr/>
        </p:nvSpPr>
        <p:spPr>
          <a:xfrm>
            <a:off x="609480" y="990720"/>
            <a:ext cx="2743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7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动脑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62120" y="297180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贞观之治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6000" spc="-1" strike="noStrike">
                <a:solidFill>
                  <a:srgbClr val="ffffff"/>
                </a:solidFill>
                <a:latin typeface="Tahoma"/>
              </a:rPr>
              <a:t>局面出现的原因是什么？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3581280" y="38088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ahoma"/>
              </a:rPr>
              <a:t>原因：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352680" y="16002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１．吸取隋亡的教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276720" y="25909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２．任贤纳谏　整顿吏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276720" y="3886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３．轻徭薄赋　发展生产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76720" y="5029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４．大兴学校　发展科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10" descr="1"/>
          <p:cNvPicPr/>
          <p:nvPr/>
        </p:nvPicPr>
        <p:blipFill>
          <a:blip r:embed="rId2"/>
          <a:stretch/>
        </p:blipFill>
        <p:spPr>
          <a:xfrm>
            <a:off x="65160" y="212760"/>
            <a:ext cx="3363840" cy="6553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09480" y="533520"/>
            <a:ext cx="49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唐朝的建立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33520" y="220968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ahoma"/>
              </a:rPr>
              <a:t>贞观之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85800" y="396252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ahoma"/>
              </a:rPr>
              <a:t>女皇武则天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15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4:19:16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