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96F-5554-4647-B9CB-7A2C4458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D06-47CB-4E9E-A9F5-3DB3D8AC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1D2A-68D0-460C-90F6-918221F3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11F3-1465-42A5-B846-B3F71AA8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F1D8-5F77-4B8D-B916-760DB2D8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0D18-2B50-4DCF-97BC-CD7A5AEC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ECBC-4655-47A9-9963-C8ACD733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2B0E-75E1-4BF7-ABA1-3EB5B4C1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54E6-63CD-4DB9-849F-3BAFE0ED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9696-0489-4F18-A8A0-5ED15D62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22D2-FFC9-46E9-BFBA-C037E940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6FB9-42E2-4179-969C-078C9F95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4182-E19E-40C5-952D-B4ECFEE6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42D3-0C32-494E-ABBB-C9C2129B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04E0-0B74-4319-ACDF-5048C2B9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AA38-5592-40F0-8C01-442D3CE2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2B22-A0B6-44CC-B433-9FC8E666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00809-718E-4795-B527-3E5B9583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E9B13-DDE6-4846-B1F6-47A8B7D3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9342D-67C5-4ED8-8253-9B7DBE76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FBC9D-7E1E-42FA-BEF5-7E1820AC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6F70B-2CB2-4130-9D4E-02834961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3BD-553F-4D88-9C07-AB2FEA5A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8A410-5BCC-446A-A7B8-970C8FD3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A0363-F34E-432A-A5E1-2E2EF3B7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10F6D-19E7-44E9-88DF-BB39D921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F298E-EA3F-49E5-BD81-735459F5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FB3C0-1B06-4D89-9EA0-F06C39D3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6AF64-25D2-41BB-A7FC-46A20A94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F311B-8882-475B-A4F5-59EDC56C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915E-47FD-456F-BCD6-C4A886BD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A8FD-7D6E-408F-BD73-F136DC20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BB4-4D7B-4FB5-A7AF-32E260DD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A4C-ED77-4207-B727-F424B922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7D60-CB04-402C-9C65-DC101EBB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7163-CDCF-4081-8D08-DBA57A72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F28F-2D0E-4C22-A5C5-0A000338B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F9ED-C422-4103-87F2-CFFB60572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D5F1-A67D-48F1-9789-D14AE04DC1A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BB11-AFA7-4FC7-A6DF-E3E5AA4BCC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rtsp://heritage.tom.com/rm/26.r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rtsp://heritage.tom.com/rm/20.r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吆喝"/>
          <p:cNvPicPr/>
          <p:nvPr/>
        </p:nvPicPr>
        <p:blipFill>
          <a:blip r:embed="rId2"/>
          <a:stretch/>
        </p:blipFill>
        <p:spPr>
          <a:xfrm>
            <a:off x="0" y="-3024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127" name="Text Box 6" descr=""/>
          <p:cNvPicPr/>
          <p:nvPr/>
        </p:nvPicPr>
        <p:blipFill>
          <a:blip r:embed="rId3"/>
          <a:stretch/>
        </p:blipFill>
        <p:spPr>
          <a:xfrm>
            <a:off x="1695600" y="695160"/>
            <a:ext cx="1949400" cy="5327640"/>
          </a:xfrm>
          <a:prstGeom prst="rect">
            <a:avLst/>
          </a:prstGeom>
          <a:ln w="0">
            <a:noFill/>
          </a:ln>
        </p:spPr>
      </p:pic>
      <p:pic>
        <p:nvPicPr>
          <p:cNvPr id="128" name="Text Box 7" descr=""/>
          <p:cNvPicPr/>
          <p:nvPr/>
        </p:nvPicPr>
        <p:blipFill>
          <a:blip r:embed="rId4"/>
          <a:stretch/>
        </p:blipFill>
        <p:spPr>
          <a:xfrm>
            <a:off x="3852720" y="3554280"/>
            <a:ext cx="67644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259920"/>
            <a:ext cx="7848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800080"/>
                </a:solidFill>
                <a:uFillTx/>
                <a:latin typeface="Arial"/>
                <a:hlinkClick r:id="rId2"/>
              </a:rPr>
              <a:t>酸梅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吆喝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】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哎 玉泉山的水来 东直门的冰</a:t>
            </a:r>
            <a:br>
              <a:rPr sz="3600"/>
            </a:b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        喝的嘴里凉了嗖嗖</a:t>
            </a:r>
            <a:br>
              <a:rPr sz="3600"/>
            </a:b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        给的又多来</a:t>
            </a:r>
            <a:br>
              <a:rPr sz="3600"/>
            </a:b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        汤儿好喝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酸梅汤是老北京传统的消暑饮料，在炎热的季节，多数人家会买杨梅来自行熬制，里边放点白糖去酸，冰镇后饮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玉泉山的水是有名的山泉水，很好喝，旧时皇上只喝玉泉山的水并有专门的水官从西直门走水。所以卖酸梅汤的以“玉泉山的水”来做宣传。而东直门有全城最大的冰窖，在冬天的时候，卖冰的会把冰放在冰窖里储存起来，到天热的时候卖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18960" y="-360"/>
            <a:ext cx="79246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800080"/>
                </a:solidFill>
                <a:uFillTx/>
                <a:latin typeface="Arial"/>
                <a:hlinkClick r:id="rId2"/>
              </a:rPr>
              <a:t>西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吆喝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】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哎 这斗大的西瓜 你就船这么大的个块儿咧 吃了呗呶快来哎</a:t>
            </a:r>
            <a:br>
              <a:rPr sz="3600"/>
            </a:b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润嗓子 甜嘞   这两个 大俩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城卖西瓜的小贩，有的整个的卖，有的就切成小块儿零卖。在闷热的季节，很多住家都喜欢在晚饭后去逛街，买块儿西瓜边走边啃消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府井花市大街有家西瓜摊，一个瓜切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块一样大的块，用很夸张的吆喝叫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5748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活中并不缺少美，只是缺少发现美的眼睛。” 寻找一种历史的积淀、品味这个城市的脉动、回想一些曾经与这片土地上的人们的生活息息相关的市井风情，既是一种很特别也很有意义的消遣也是一条学习语文的良好途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作业：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吆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为话题，自拟题目，写一篇不少于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字的文章（可以是调查报告，可以是散文小品，也可以是相声等其他形式）。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5748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月穿梭，北京城的旧面貌渐渐变得斑驳，胡同在不断的被拆，京腔京韵中日益掺杂了各样的口音。变化中的北京，发展了，现代了，京味文化的影子却也渐渐的淡了，但作为这个城市曾经拥有的文化财富，有些东西是需要留存下来的，除了看得见的建筑，代代相传的习俗，还有一些令人回味的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8"/>
          <p:cNvSpPr/>
          <p:nvPr/>
        </p:nvSpPr>
        <p:spPr>
          <a:xfrm>
            <a:off x="1332000" y="2997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27432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58920" y="304560"/>
            <a:ext cx="5981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吆喝是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生活交响曲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质朴简单但趣味良多。如果时光倒流，在旧北京城的胡同小巷，经常可以听到游商小贩的各种吆喝声。                       细细品味那起伏有致的吆喝声，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昔日的生活片断，人生的种种印象都能渐渐鲜活起来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无标题"/>
          <p:cNvPicPr/>
          <p:nvPr/>
        </p:nvPicPr>
        <p:blipFill>
          <a:blip r:embed="rId2"/>
          <a:stretch/>
        </p:blipFill>
        <p:spPr>
          <a:xfrm>
            <a:off x="0" y="685800"/>
            <a:ext cx="3429000" cy="5181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7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作者简介：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76720" y="990720"/>
            <a:ext cx="54482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_x000b__x000c_"/>
              </a:rPr>
              <a:t>   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_x000b__x000c_"/>
              </a:rPr>
              <a:t> 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萧乾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1910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27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日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――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1999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333333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日）</a:t>
            </a:r>
            <a:br>
              <a:rPr sz="2800"/>
            </a:b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    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原名萧秉乾，生于北京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蒙古族。世界闻名的记者，卓有成就的翻译家、作家。主要著译作有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梦之谷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人生百味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莎士比亚戏剧故事集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尤利西斯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wx_t4_1"/>
          <p:cNvPicPr/>
          <p:nvPr/>
        </p:nvPicPr>
        <p:blipFill>
          <a:blip r:embed="rId2"/>
          <a:stretch/>
        </p:blipFill>
        <p:spPr>
          <a:xfrm>
            <a:off x="395280" y="1268280"/>
            <a:ext cx="2743200" cy="4050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1200" y="456840"/>
            <a:ext cx="7235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认清字形，读准字音：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120" y="91440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Arial"/>
              </a:rPr>
              <a:t>招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囿</a:t>
            </a:r>
            <a:r>
              <a:rPr b="1" lang="zh-CN" sz="4400" spc="-1" strike="noStrike">
                <a:solidFill>
                  <a:srgbClr val="333333"/>
                </a:solidFill>
                <a:latin typeface="Arial"/>
              </a:rPr>
              <a:t>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Arial"/>
              </a:rPr>
              <a:t>隔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馄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饽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秫秸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荸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38440" y="685800"/>
            <a:ext cx="3809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á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ò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ún  tú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ú jiē gǎ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í q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BD04924_"/>
          <p:cNvPicPr/>
          <p:nvPr/>
        </p:nvPicPr>
        <p:blipFill>
          <a:blip r:embed="rId2"/>
          <a:stretch/>
        </p:blipFill>
        <p:spPr>
          <a:xfrm>
            <a:off x="7467480" y="685800"/>
            <a:ext cx="137160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默读课文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思考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913040"/>
            <a:ext cx="854064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作者介绍了北京的哪些吆喝声？是按照怎样的顺序来介绍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他对北京的吆喝声怀有怎样的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65680"/>
            <a:ext cx="85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81080" y="685800"/>
            <a:ext cx="7048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无标题2"/>
          <p:cNvPicPr/>
          <p:nvPr/>
        </p:nvPicPr>
        <p:blipFill>
          <a:blip r:embed="rId2"/>
          <a:stretch/>
        </p:blipFill>
        <p:spPr>
          <a:xfrm>
            <a:off x="3048120" y="1295280"/>
            <a:ext cx="2895480" cy="4267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深入研读课文：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71640" y="152352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、 为什么介绍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从早到晚，一年四季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中的吆喝时主要介绍卖什么而很少介绍怎样吆喝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、为什么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我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听到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卖荞麦皮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的吆喝会吓了马趴？ 这一定是夸张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、你最喜欢对文中哪一种吆喝的描写，能说说理由吗</a:t>
            </a:r>
            <a:r>
              <a:rPr b="1" lang="en-US" sz="3600" spc="-1" strike="noStrike">
                <a:solidFill>
                  <a:srgbClr val="333333"/>
                </a:solidFill>
                <a:latin typeface="宋体"/>
              </a:rPr>
              <a:t>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748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</a:rPr>
              <a:t>本文是用地道的北京口语的，富有浓郁的地方特色，你能用自己的朗读展现其中的“京味儿”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31" descr="BD04956_"/>
          <p:cNvPicPr/>
          <p:nvPr/>
        </p:nvPicPr>
        <p:blipFill>
          <a:blip r:embed="rId2"/>
          <a:stretch/>
        </p:blipFill>
        <p:spPr>
          <a:xfrm>
            <a:off x="304920" y="609480"/>
            <a:ext cx="2209680" cy="1905120"/>
          </a:xfrm>
          <a:prstGeom prst="rect">
            <a:avLst/>
          </a:prstGeom>
          <a:ln w="0">
            <a:noFill/>
          </a:ln>
        </p:spPr>
      </p:pic>
      <p:sp>
        <p:nvSpPr>
          <p:cNvPr id="150" name="WordArt 1035"/>
          <p:cNvSpPr txBox="1"/>
          <p:nvPr/>
        </p:nvSpPr>
        <p:spPr>
          <a:xfrm>
            <a:off x="4495680" y="5105520"/>
            <a:ext cx="4191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抓住大显身手的机会哦！</a:t>
            </a:r>
            <a:endParaRPr b="1" lang="en-US" sz="2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试一试：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我们的生活中也不时能听到吆喝声，只是有些显得过于简单粗糙，缺少韵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你能否选择熟悉的事物，编写一段吆喝，最好能体现出“南京味儿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28" descr="BD05545_"/>
          <p:cNvPicPr/>
          <p:nvPr/>
        </p:nvPicPr>
        <p:blipFill>
          <a:blip r:embed="rId2"/>
          <a:stretch/>
        </p:blipFill>
        <p:spPr>
          <a:xfrm>
            <a:off x="6477120" y="4267080"/>
            <a:ext cx="220968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08:31:58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6:28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