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690-3C81-4E9C-ABE8-A4DAC404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153-BFC5-455A-8221-9BAAD31E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420-734F-482F-BAC4-76073AE6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821-A565-4F65-BB97-DB0B3C9B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1944-50EB-419D-9616-6E607138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34BF-B80F-459E-8558-ABBDC697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D8B8-2AE5-49ED-98AC-23DBE23C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2D0B-927B-4BEE-8C50-6598B0E1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576E-BBFA-4F81-A5BF-AD23394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95C-0D45-46E1-8D08-886C25EE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B724-0D9B-44D7-95A0-9CD121D5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35A-BC1A-43FD-B312-D82D53B6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B182-7157-4999-8E23-9068D0B3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2FB-E34B-4717-BF49-B3748B9C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80F1-1C61-4313-9F8B-0B5DA9DB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8257-06FC-4693-84D9-840A73D5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EDF7-9F97-4CA1-902E-298B07C4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335-636E-4DC7-9D40-8A82004C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B20-D363-4D5E-9D26-FB60D181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A6F-8705-4100-B725-AA419B83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44F-41F6-481E-91EB-3E2EEEE0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879-B3FF-4A7B-B4D2-8080198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6E2-8C8E-4DBA-A22F-262AEF6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4EC-D75D-4CE4-85AE-F3F8712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2021-57F0-4750-8EB8-FCB4440F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544C-AC73-4D30-9765-946AEE5B16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BFE5-40CF-4AE6-BBF8-411978349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061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新魏"/>
              </a:rPr>
              <a:t>组合图形的面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4"/>
          <p:cNvGrpSpPr/>
          <p:nvPr/>
        </p:nvGrpSpPr>
        <p:grpSpPr>
          <a:xfrm>
            <a:off x="3564000" y="1773360"/>
            <a:ext cx="2016000" cy="2016000"/>
            <a:chOff x="3564000" y="1773360"/>
            <a:chExt cx="2016000" cy="2016000"/>
          </a:xfrm>
        </p:grpSpPr>
        <p:sp>
          <p:nvSpPr>
            <p:cNvPr id="131" name="Oval 5"/>
            <p:cNvSpPr/>
            <p:nvPr/>
          </p:nvSpPr>
          <p:spPr>
            <a:xfrm>
              <a:off x="3564000" y="1773360"/>
              <a:ext cx="2016000" cy="20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6"/>
            <p:cNvSpPr/>
            <p:nvPr/>
          </p:nvSpPr>
          <p:spPr>
            <a:xfrm>
              <a:off x="3959280" y="2133720"/>
              <a:ext cx="122400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7"/>
          <p:cNvSpPr/>
          <p:nvPr/>
        </p:nvSpPr>
        <p:spPr>
          <a:xfrm>
            <a:off x="3119760" y="4292640"/>
            <a:ext cx="34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圆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3419640" y="1197000"/>
            <a:ext cx="2449440" cy="1657440"/>
            <a:chOff x="3419640" y="1197000"/>
            <a:chExt cx="2449440" cy="1657440"/>
          </a:xfrm>
        </p:grpSpPr>
        <p:sp>
          <p:nvSpPr>
            <p:cNvPr id="135" name="Oval 5"/>
            <p:cNvSpPr/>
            <p:nvPr/>
          </p:nvSpPr>
          <p:spPr>
            <a:xfrm>
              <a:off x="421344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3419640" y="1197000"/>
              <a:ext cx="165744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7"/>
          <p:cNvSpPr/>
          <p:nvPr/>
        </p:nvSpPr>
        <p:spPr>
          <a:xfrm>
            <a:off x="2817360" y="4005360"/>
            <a:ext cx="37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圆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"/>
          <p:cNvGrpSpPr/>
          <p:nvPr/>
        </p:nvGrpSpPr>
        <p:grpSpPr>
          <a:xfrm>
            <a:off x="3276720" y="907920"/>
            <a:ext cx="2017440" cy="2016000"/>
            <a:chOff x="3276720" y="907920"/>
            <a:chExt cx="2017440" cy="2016000"/>
          </a:xfrm>
        </p:grpSpPr>
        <p:sp>
          <p:nvSpPr>
            <p:cNvPr id="139" name="Rectangle 5"/>
            <p:cNvSpPr/>
            <p:nvPr/>
          </p:nvSpPr>
          <p:spPr>
            <a:xfrm>
              <a:off x="3276720" y="907920"/>
              <a:ext cx="201744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>
              <a:off x="3277800" y="907920"/>
              <a:ext cx="2016000" cy="20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7"/>
          <p:cNvSpPr/>
          <p:nvPr/>
        </p:nvSpPr>
        <p:spPr>
          <a:xfrm>
            <a:off x="2975760" y="386064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4"/>
          <p:cNvGrpSpPr/>
          <p:nvPr/>
        </p:nvGrpSpPr>
        <p:grpSpPr>
          <a:xfrm>
            <a:off x="3419640" y="1700280"/>
            <a:ext cx="2158920" cy="2305080"/>
            <a:chOff x="3419640" y="1700280"/>
            <a:chExt cx="2158920" cy="2305080"/>
          </a:xfrm>
        </p:grpSpPr>
        <p:sp>
          <p:nvSpPr>
            <p:cNvPr id="143" name="Oval 5"/>
            <p:cNvSpPr/>
            <p:nvPr/>
          </p:nvSpPr>
          <p:spPr>
            <a:xfrm>
              <a:off x="3419640" y="1700280"/>
              <a:ext cx="2087640" cy="20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3419640" y="2708280"/>
              <a:ext cx="215892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3419640" y="1700280"/>
              <a:ext cx="2087640" cy="1008000"/>
            </a:xfrm>
            <a:prstGeom prst="triangle">
              <a:avLst>
                <a:gd name="adj" fmla="val 493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8"/>
          <p:cNvSpPr/>
          <p:nvPr/>
        </p:nvSpPr>
        <p:spPr>
          <a:xfrm>
            <a:off x="2975760" y="37893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2340000" y="907920"/>
            <a:ext cx="4390200" cy="3726720"/>
            <a:chOff x="2340000" y="907920"/>
            <a:chExt cx="4390200" cy="3726720"/>
          </a:xfrm>
        </p:grpSpPr>
        <p:grpSp>
          <p:nvGrpSpPr>
            <p:cNvPr id="148" name="Group 5"/>
            <p:cNvGrpSpPr/>
            <p:nvPr/>
          </p:nvGrpSpPr>
          <p:grpSpPr>
            <a:xfrm>
              <a:off x="2340000" y="907920"/>
              <a:ext cx="4390200" cy="3726720"/>
              <a:chOff x="2340000" y="907920"/>
              <a:chExt cx="4390200" cy="3726720"/>
            </a:xfrm>
          </p:grpSpPr>
          <p:sp>
            <p:nvSpPr>
              <p:cNvPr id="149" name="Oval 6"/>
              <p:cNvSpPr/>
              <p:nvPr/>
            </p:nvSpPr>
            <p:spPr>
              <a:xfrm>
                <a:off x="2606760" y="907920"/>
                <a:ext cx="3727080" cy="37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"/>
              <p:cNvSpPr/>
              <p:nvPr/>
            </p:nvSpPr>
            <p:spPr>
              <a:xfrm>
                <a:off x="2606760" y="1890720"/>
                <a:ext cx="1731600" cy="173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8"/>
              <p:cNvSpPr/>
              <p:nvPr/>
            </p:nvSpPr>
            <p:spPr>
              <a:xfrm>
                <a:off x="2340000" y="2689200"/>
                <a:ext cx="4390200" cy="194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9"/>
            <p:cNvSpPr/>
            <p:nvPr/>
          </p:nvSpPr>
          <p:spPr>
            <a:xfrm>
              <a:off x="4335840" y="2689560"/>
              <a:ext cx="19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0"/>
          <p:cNvSpPr/>
          <p:nvPr/>
        </p:nvSpPr>
        <p:spPr>
          <a:xfrm>
            <a:off x="2687400" y="3716280"/>
            <a:ext cx="39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半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半圆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3"/>
          <p:cNvGrpSpPr/>
          <p:nvPr/>
        </p:nvGrpSpPr>
        <p:grpSpPr>
          <a:xfrm>
            <a:off x="250920" y="189000"/>
            <a:ext cx="2016000" cy="2016000"/>
            <a:chOff x="250920" y="189000"/>
            <a:chExt cx="2016000" cy="2016000"/>
          </a:xfrm>
        </p:grpSpPr>
        <p:sp>
          <p:nvSpPr>
            <p:cNvPr id="155" name="Oval 5"/>
            <p:cNvSpPr/>
            <p:nvPr/>
          </p:nvSpPr>
          <p:spPr>
            <a:xfrm>
              <a:off x="250920" y="189000"/>
              <a:ext cx="2016000" cy="20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"/>
            <p:cNvSpPr/>
            <p:nvPr/>
          </p:nvSpPr>
          <p:spPr>
            <a:xfrm>
              <a:off x="646200" y="549360"/>
              <a:ext cx="122400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2"/>
          <p:cNvGrpSpPr/>
          <p:nvPr/>
        </p:nvGrpSpPr>
        <p:grpSpPr>
          <a:xfrm>
            <a:off x="3132000" y="260280"/>
            <a:ext cx="2017800" cy="2016000"/>
            <a:chOff x="3132000" y="260280"/>
            <a:chExt cx="2017800" cy="2016000"/>
          </a:xfrm>
        </p:grpSpPr>
        <p:sp>
          <p:nvSpPr>
            <p:cNvPr id="158" name="Rectangle 6"/>
            <p:cNvSpPr/>
            <p:nvPr/>
          </p:nvSpPr>
          <p:spPr>
            <a:xfrm>
              <a:off x="3132000" y="260280"/>
              <a:ext cx="201780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"/>
            <p:cNvSpPr/>
            <p:nvPr/>
          </p:nvSpPr>
          <p:spPr>
            <a:xfrm>
              <a:off x="3133440" y="260280"/>
              <a:ext cx="2016360" cy="20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1"/>
          <p:cNvGrpSpPr/>
          <p:nvPr/>
        </p:nvGrpSpPr>
        <p:grpSpPr>
          <a:xfrm>
            <a:off x="611280" y="2708280"/>
            <a:ext cx="4608360" cy="1441440"/>
            <a:chOff x="611280" y="2708280"/>
            <a:chExt cx="4608360" cy="1441440"/>
          </a:xfrm>
        </p:grpSpPr>
        <p:sp>
          <p:nvSpPr>
            <p:cNvPr id="161" name="Oval 10"/>
            <p:cNvSpPr/>
            <p:nvPr/>
          </p:nvSpPr>
          <p:spPr>
            <a:xfrm>
              <a:off x="3780000" y="2708280"/>
              <a:ext cx="143964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611280" y="2708280"/>
              <a:ext cx="144000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1403280" y="2708280"/>
              <a:ext cx="3095640" cy="14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6372360" y="620640"/>
            <a:ext cx="2158920" cy="2305080"/>
            <a:chOff x="6372360" y="620640"/>
            <a:chExt cx="2158920" cy="2305080"/>
          </a:xfrm>
        </p:grpSpPr>
        <p:sp>
          <p:nvSpPr>
            <p:cNvPr id="165" name="Oval 14"/>
            <p:cNvSpPr/>
            <p:nvPr/>
          </p:nvSpPr>
          <p:spPr>
            <a:xfrm>
              <a:off x="6372360" y="620640"/>
              <a:ext cx="2087640" cy="20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6372360" y="1628640"/>
              <a:ext cx="215892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6"/>
            <p:cNvSpPr/>
            <p:nvPr/>
          </p:nvSpPr>
          <p:spPr>
            <a:xfrm>
              <a:off x="6372360" y="620640"/>
              <a:ext cx="2087640" cy="1008000"/>
            </a:xfrm>
            <a:prstGeom prst="triangle">
              <a:avLst>
                <a:gd name="adj" fmla="val 493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6084720" y="2133720"/>
            <a:ext cx="2519280" cy="2160000"/>
            <a:chOff x="6084720" y="2133720"/>
            <a:chExt cx="2519280" cy="2160000"/>
          </a:xfrm>
        </p:grpSpPr>
        <p:sp>
          <p:nvSpPr>
            <p:cNvPr id="169" name="AutoShape 18"/>
            <p:cNvSpPr/>
            <p:nvPr/>
          </p:nvSpPr>
          <p:spPr>
            <a:xfrm>
              <a:off x="6084720" y="2133720"/>
              <a:ext cx="2519280" cy="863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6084720" y="2997000"/>
              <a:ext cx="2519280" cy="12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6156360" y="4653000"/>
            <a:ext cx="2449440" cy="1657440"/>
            <a:chOff x="6156360" y="4653000"/>
            <a:chExt cx="2449440" cy="1657440"/>
          </a:xfrm>
        </p:grpSpPr>
        <p:sp>
          <p:nvSpPr>
            <p:cNvPr id="172" name="Oval 22"/>
            <p:cNvSpPr/>
            <p:nvPr/>
          </p:nvSpPr>
          <p:spPr>
            <a:xfrm>
              <a:off x="6950160" y="4653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6156360" y="4653000"/>
              <a:ext cx="165744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2"/>
          <p:cNvGrpSpPr/>
          <p:nvPr/>
        </p:nvGrpSpPr>
        <p:grpSpPr>
          <a:xfrm>
            <a:off x="1476360" y="4842000"/>
            <a:ext cx="2374920" cy="2016000"/>
            <a:chOff x="1476360" y="4842000"/>
            <a:chExt cx="2374920" cy="2016000"/>
          </a:xfrm>
        </p:grpSpPr>
        <p:grpSp>
          <p:nvGrpSpPr>
            <p:cNvPr id="175" name="Group 31"/>
            <p:cNvGrpSpPr/>
            <p:nvPr/>
          </p:nvGrpSpPr>
          <p:grpSpPr>
            <a:xfrm>
              <a:off x="1476360" y="4842000"/>
              <a:ext cx="2374920" cy="2016000"/>
              <a:chOff x="1476360" y="4842000"/>
              <a:chExt cx="2374920" cy="2016000"/>
            </a:xfrm>
          </p:grpSpPr>
          <p:sp>
            <p:nvSpPr>
              <p:cNvPr id="176" name="Oval 26"/>
              <p:cNvSpPr/>
              <p:nvPr/>
            </p:nvSpPr>
            <p:spPr>
              <a:xfrm>
                <a:off x="1620720" y="4842000"/>
                <a:ext cx="2016360" cy="20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25"/>
              <p:cNvSpPr/>
              <p:nvPr/>
            </p:nvSpPr>
            <p:spPr>
              <a:xfrm>
                <a:off x="1620720" y="5373720"/>
                <a:ext cx="936720" cy="9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7"/>
              <p:cNvSpPr/>
              <p:nvPr/>
            </p:nvSpPr>
            <p:spPr>
              <a:xfrm>
                <a:off x="1476360" y="5805720"/>
                <a:ext cx="2374920" cy="10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Line 29"/>
            <p:cNvSpPr/>
            <p:nvPr/>
          </p:nvSpPr>
          <p:spPr>
            <a:xfrm>
              <a:off x="2556000" y="58057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33"/>
          <p:cNvSpPr/>
          <p:nvPr/>
        </p:nvSpPr>
        <p:spPr>
          <a:xfrm>
            <a:off x="1117440" y="87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3997080" y="98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7310160" y="98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277308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716580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 flipV="1" rot="10800000">
            <a:off x="2484360" y="508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6949800" y="508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4"/>
          <p:cNvGrpSpPr/>
          <p:nvPr/>
        </p:nvGrpSpPr>
        <p:grpSpPr>
          <a:xfrm>
            <a:off x="34920" y="907920"/>
            <a:ext cx="2016000" cy="2016000"/>
            <a:chOff x="34920" y="907920"/>
            <a:chExt cx="2016000" cy="2016000"/>
          </a:xfrm>
        </p:grpSpPr>
        <p:sp>
          <p:nvSpPr>
            <p:cNvPr id="188" name="Oval 5"/>
            <p:cNvSpPr/>
            <p:nvPr/>
          </p:nvSpPr>
          <p:spPr>
            <a:xfrm>
              <a:off x="34920" y="907920"/>
              <a:ext cx="2016000" cy="20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6"/>
            <p:cNvSpPr/>
            <p:nvPr/>
          </p:nvSpPr>
          <p:spPr>
            <a:xfrm>
              <a:off x="430200" y="1268280"/>
              <a:ext cx="122400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"/>
          <p:cNvGrpSpPr/>
          <p:nvPr/>
        </p:nvGrpSpPr>
        <p:grpSpPr>
          <a:xfrm>
            <a:off x="2340000" y="836640"/>
            <a:ext cx="2017800" cy="2016000"/>
            <a:chOff x="2340000" y="836640"/>
            <a:chExt cx="2017800" cy="2016000"/>
          </a:xfrm>
        </p:grpSpPr>
        <p:sp>
          <p:nvSpPr>
            <p:cNvPr id="191" name="Rectangle 8"/>
            <p:cNvSpPr/>
            <p:nvPr/>
          </p:nvSpPr>
          <p:spPr>
            <a:xfrm>
              <a:off x="2340000" y="836640"/>
              <a:ext cx="201780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2341440" y="836640"/>
              <a:ext cx="2016360" cy="20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4643280" y="1125360"/>
            <a:ext cx="2158920" cy="2305080"/>
            <a:chOff x="4643280" y="1125360"/>
            <a:chExt cx="2158920" cy="2305080"/>
          </a:xfrm>
        </p:grpSpPr>
        <p:sp>
          <p:nvSpPr>
            <p:cNvPr id="194" name="Oval 11"/>
            <p:cNvSpPr/>
            <p:nvPr/>
          </p:nvSpPr>
          <p:spPr>
            <a:xfrm>
              <a:off x="4643280" y="1125360"/>
              <a:ext cx="2087640" cy="20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4643280" y="2133360"/>
              <a:ext cx="215892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3"/>
            <p:cNvSpPr/>
            <p:nvPr/>
          </p:nvSpPr>
          <p:spPr>
            <a:xfrm>
              <a:off x="4643280" y="1125360"/>
              <a:ext cx="2087640" cy="1008000"/>
            </a:xfrm>
            <a:prstGeom prst="triangle">
              <a:avLst>
                <a:gd name="adj" fmla="val 493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4"/>
          <p:cNvGrpSpPr/>
          <p:nvPr/>
        </p:nvGrpSpPr>
        <p:grpSpPr>
          <a:xfrm>
            <a:off x="6769080" y="1052640"/>
            <a:ext cx="2374920" cy="2016000"/>
            <a:chOff x="6769080" y="1052640"/>
            <a:chExt cx="2374920" cy="2016000"/>
          </a:xfrm>
        </p:grpSpPr>
        <p:grpSp>
          <p:nvGrpSpPr>
            <p:cNvPr id="198" name="Group 15"/>
            <p:cNvGrpSpPr/>
            <p:nvPr/>
          </p:nvGrpSpPr>
          <p:grpSpPr>
            <a:xfrm>
              <a:off x="6769080" y="1052640"/>
              <a:ext cx="2374920" cy="2016000"/>
              <a:chOff x="6769080" y="1052640"/>
              <a:chExt cx="2374920" cy="2016000"/>
            </a:xfrm>
          </p:grpSpPr>
          <p:sp>
            <p:nvSpPr>
              <p:cNvPr id="199" name="Oval 16"/>
              <p:cNvSpPr/>
              <p:nvPr/>
            </p:nvSpPr>
            <p:spPr>
              <a:xfrm>
                <a:off x="6913440" y="1052640"/>
                <a:ext cx="2016360" cy="20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7"/>
              <p:cNvSpPr/>
              <p:nvPr/>
            </p:nvSpPr>
            <p:spPr>
              <a:xfrm>
                <a:off x="6913440" y="1584360"/>
                <a:ext cx="936720" cy="9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8"/>
              <p:cNvSpPr/>
              <p:nvPr/>
            </p:nvSpPr>
            <p:spPr>
              <a:xfrm>
                <a:off x="6769080" y="2016360"/>
                <a:ext cx="2374920" cy="10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9"/>
            <p:cNvSpPr/>
            <p:nvPr/>
          </p:nvSpPr>
          <p:spPr>
            <a:xfrm>
              <a:off x="7848720" y="20163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2584080" y="4292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涂色部分面积是几个简单图形面积的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"/>
          <p:cNvGrpSpPr/>
          <p:nvPr/>
        </p:nvGrpSpPr>
        <p:grpSpPr>
          <a:xfrm>
            <a:off x="2556000" y="2852640"/>
            <a:ext cx="4608360" cy="1441440"/>
            <a:chOff x="2556000" y="2852640"/>
            <a:chExt cx="4608360" cy="1441440"/>
          </a:xfrm>
        </p:grpSpPr>
        <p:sp>
          <p:nvSpPr>
            <p:cNvPr id="205" name="Oval 5"/>
            <p:cNvSpPr/>
            <p:nvPr/>
          </p:nvSpPr>
          <p:spPr>
            <a:xfrm>
              <a:off x="5724720" y="2852640"/>
              <a:ext cx="143964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"/>
            <p:cNvSpPr/>
            <p:nvPr/>
          </p:nvSpPr>
          <p:spPr>
            <a:xfrm>
              <a:off x="2556000" y="2852640"/>
              <a:ext cx="144000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3348000" y="2852640"/>
              <a:ext cx="3095640" cy="14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5724360" y="260280"/>
            <a:ext cx="2519280" cy="2160720"/>
            <a:chOff x="5724360" y="260280"/>
            <a:chExt cx="2519280" cy="2160720"/>
          </a:xfrm>
        </p:grpSpPr>
        <p:sp>
          <p:nvSpPr>
            <p:cNvPr id="209" name="AutoShape 9"/>
            <p:cNvSpPr/>
            <p:nvPr/>
          </p:nvSpPr>
          <p:spPr>
            <a:xfrm>
              <a:off x="5724360" y="260280"/>
              <a:ext cx="2519280" cy="863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5724360" y="1123920"/>
              <a:ext cx="251928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1"/>
          <p:cNvGrpSpPr/>
          <p:nvPr/>
        </p:nvGrpSpPr>
        <p:grpSpPr>
          <a:xfrm>
            <a:off x="1547640" y="907920"/>
            <a:ext cx="2449440" cy="1657440"/>
            <a:chOff x="1547640" y="907920"/>
            <a:chExt cx="2449440" cy="1657440"/>
          </a:xfrm>
        </p:grpSpPr>
        <p:sp>
          <p:nvSpPr>
            <p:cNvPr id="212" name="Oval 12"/>
            <p:cNvSpPr/>
            <p:nvPr/>
          </p:nvSpPr>
          <p:spPr>
            <a:xfrm>
              <a:off x="2341440" y="90792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"/>
            <p:cNvSpPr/>
            <p:nvPr/>
          </p:nvSpPr>
          <p:spPr>
            <a:xfrm>
              <a:off x="1547640" y="907920"/>
              <a:ext cx="165744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4"/>
          <p:cNvSpPr/>
          <p:nvPr/>
        </p:nvSpPr>
        <p:spPr>
          <a:xfrm>
            <a:off x="2584080" y="5084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涂色部分面积是几个简单图形面积的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3683520" y="404640"/>
            <a:ext cx="180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：下图涂色部分是个圆环形。它的外圆半径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圆半径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。它的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908000" y="3284640"/>
            <a:ext cx="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395280" y="1773360"/>
            <a:ext cx="3168720" cy="3168360"/>
            <a:chOff x="395280" y="1773360"/>
            <a:chExt cx="3168720" cy="3168360"/>
          </a:xfrm>
        </p:grpSpPr>
        <p:sp>
          <p:nvSpPr>
            <p:cNvPr id="218" name="Oval 5"/>
            <p:cNvSpPr/>
            <p:nvPr/>
          </p:nvSpPr>
          <p:spPr>
            <a:xfrm>
              <a:off x="395280" y="1773360"/>
              <a:ext cx="3168720" cy="316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6"/>
            <p:cNvSpPr/>
            <p:nvPr/>
          </p:nvSpPr>
          <p:spPr>
            <a:xfrm>
              <a:off x="1006560" y="2349360"/>
              <a:ext cx="1942920" cy="19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"/>
            <p:cNvSpPr/>
            <p:nvPr/>
          </p:nvSpPr>
          <p:spPr>
            <a:xfrm>
              <a:off x="1906560" y="32130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1332000" y="2060640"/>
            <a:ext cx="1584360" cy="1224000"/>
            <a:chOff x="1332000" y="2060640"/>
            <a:chExt cx="1584360" cy="1224000"/>
          </a:xfrm>
        </p:grpSpPr>
        <p:sp>
          <p:nvSpPr>
            <p:cNvPr id="222" name="Line 10"/>
            <p:cNvSpPr/>
            <p:nvPr/>
          </p:nvSpPr>
          <p:spPr>
            <a:xfrm flipV="1">
              <a:off x="1979640" y="2060640"/>
              <a:ext cx="936720" cy="1224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1332000" y="234972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"/>
          <p:cNvGrpSpPr/>
          <p:nvPr/>
        </p:nvGrpSpPr>
        <p:grpSpPr>
          <a:xfrm>
            <a:off x="1979280" y="3284640"/>
            <a:ext cx="971640" cy="604080"/>
            <a:chOff x="1979280" y="3284640"/>
            <a:chExt cx="971640" cy="604080"/>
          </a:xfrm>
        </p:grpSpPr>
        <p:sp>
          <p:nvSpPr>
            <p:cNvPr id="225" name="Line 12"/>
            <p:cNvSpPr/>
            <p:nvPr/>
          </p:nvSpPr>
          <p:spPr>
            <a:xfrm>
              <a:off x="1979280" y="3284640"/>
              <a:ext cx="97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1986480" y="342900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6"/>
          <p:cNvSpPr/>
          <p:nvPr/>
        </p:nvSpPr>
        <p:spPr>
          <a:xfrm>
            <a:off x="4486680" y="1413000"/>
            <a:ext cx="194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外圆面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14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.14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14(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平方厘米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4387320" y="3141720"/>
            <a:ext cx="23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内圆面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14×6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.14×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113.04(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平方厘米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4389840" y="4797360"/>
            <a:ext cx="40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圆环形的面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14—113.04=200.9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平方厘米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152960" y="57340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答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这个圆环形的面积是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00.9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zhongdui qi"/>
          <p:cNvPicPr/>
          <p:nvPr/>
        </p:nvPicPr>
        <p:blipFill>
          <a:blip r:embed="rId1"/>
          <a:stretch/>
        </p:blipFill>
        <p:spPr>
          <a:xfrm>
            <a:off x="539640" y="549360"/>
            <a:ext cx="734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7"/>
          <p:cNvSpPr/>
          <p:nvPr/>
        </p:nvSpPr>
        <p:spPr>
          <a:xfrm>
            <a:off x="1352520" y="1073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187280" y="836640"/>
            <a:ext cx="1079640" cy="1079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116000" y="3500280"/>
            <a:ext cx="1600200" cy="69228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144000 h 692280"/>
              <a:gd name="textAreaBottom" fmla="*/ 54828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995640" y="3429000"/>
            <a:ext cx="1257480" cy="792000"/>
          </a:xfrm>
          <a:prstGeom prst="triangle">
            <a:avLst>
              <a:gd name="adj" fmla="val 7328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948360" y="3141720"/>
            <a:ext cx="1079640" cy="10810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348000" y="907920"/>
            <a:ext cx="1371600" cy="79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6084720" y="981000"/>
            <a:ext cx="2057400" cy="693720"/>
          </a:xfrm>
          <a:prstGeom prst="parallelogram">
            <a:avLst>
              <a:gd name="adj" fmla="val 480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93920" y="2506680"/>
            <a:ext cx="173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87280" y="220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547640" y="4581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梯  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995640" y="458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7020000" y="4653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220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6012000" y="2133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ic-5"/>
          <p:cNvPicPr/>
          <p:nvPr/>
        </p:nvPicPr>
        <p:blipFill>
          <a:blip r:embed="rId1"/>
          <a:stretch/>
        </p:blipFill>
        <p:spPr>
          <a:xfrm>
            <a:off x="1835280" y="549360"/>
            <a:ext cx="576108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队旗6"/>
          <p:cNvPicPr/>
          <p:nvPr/>
        </p:nvPicPr>
        <p:blipFill>
          <a:blip r:embed="rId1"/>
          <a:stretch/>
        </p:blipFill>
        <p:spPr>
          <a:xfrm>
            <a:off x="539640" y="1268280"/>
            <a:ext cx="291492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队旗1"/>
          <p:cNvPicPr/>
          <p:nvPr/>
        </p:nvPicPr>
        <p:blipFill>
          <a:blip r:embed="rId2"/>
          <a:stretch/>
        </p:blipFill>
        <p:spPr>
          <a:xfrm>
            <a:off x="539640" y="1268280"/>
            <a:ext cx="2914920" cy="107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队旗5"/>
          <p:cNvPicPr/>
          <p:nvPr/>
        </p:nvPicPr>
        <p:blipFill>
          <a:blip r:embed="rId3"/>
          <a:stretch/>
        </p:blipFill>
        <p:spPr>
          <a:xfrm>
            <a:off x="539640" y="2349360"/>
            <a:ext cx="2914920" cy="106704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>
            <a:off x="539640" y="2349360"/>
            <a:ext cx="215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240640" y="4941720"/>
            <a:ext cx="47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队旗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梯形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梯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60116E-006 L 0.48629 -0.08901 E">
                                      <p:cBhvr>
                                        <p:cTn id="1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39306E-006 L 0.47066 0.18451 E">
                                      <p:cBhvr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队旗6"/>
          <p:cNvPicPr/>
          <p:nvPr/>
        </p:nvPicPr>
        <p:blipFill>
          <a:blip r:embed="rId1"/>
          <a:stretch/>
        </p:blipFill>
        <p:spPr>
          <a:xfrm>
            <a:off x="250920" y="1341360"/>
            <a:ext cx="291456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队旗2"/>
          <p:cNvPicPr/>
          <p:nvPr/>
        </p:nvPicPr>
        <p:blipFill>
          <a:blip r:embed="rId2"/>
          <a:stretch/>
        </p:blipFill>
        <p:spPr>
          <a:xfrm>
            <a:off x="241200" y="1341360"/>
            <a:ext cx="217008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队旗3"/>
          <p:cNvPicPr/>
          <p:nvPr/>
        </p:nvPicPr>
        <p:blipFill>
          <a:blip r:embed="rId3"/>
          <a:stretch/>
        </p:blipFill>
        <p:spPr>
          <a:xfrm>
            <a:off x="2394000" y="1341360"/>
            <a:ext cx="738000" cy="1090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队旗4"/>
          <p:cNvPicPr/>
          <p:nvPr/>
        </p:nvPicPr>
        <p:blipFill>
          <a:blip r:embed="rId4"/>
          <a:stretch/>
        </p:blipFill>
        <p:spPr>
          <a:xfrm>
            <a:off x="2394000" y="2349360"/>
            <a:ext cx="738000" cy="1073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11280" y="134136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665000" y="4797360"/>
            <a:ext cx="58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队旗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面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08092E-006 L 0.54254 -0.03745 E">
                                      <p:cBhvr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17919E-006 L 0.53455 0.05803 E">
                                      <p:cBhvr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51445E-007 L 0.45677 7.51445E-007 E">
                                      <p:cBhvr>
                                        <p:cTn id="3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队旗6"/>
          <p:cNvPicPr/>
          <p:nvPr/>
        </p:nvPicPr>
        <p:blipFill>
          <a:blip r:embed="rId1"/>
          <a:stretch/>
        </p:blipFill>
        <p:spPr>
          <a:xfrm>
            <a:off x="826920" y="981000"/>
            <a:ext cx="29149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3"/>
          <p:cNvGrpSpPr/>
          <p:nvPr/>
        </p:nvGrpSpPr>
        <p:grpSpPr>
          <a:xfrm>
            <a:off x="826920" y="981000"/>
            <a:ext cx="2952720" cy="2231640"/>
            <a:chOff x="826920" y="981000"/>
            <a:chExt cx="2952720" cy="2231640"/>
          </a:xfrm>
        </p:grpSpPr>
        <p:pic>
          <p:nvPicPr>
            <p:cNvPr id="111" name="Picture 4" descr="队旗6"/>
            <p:cNvPicPr/>
            <p:nvPr/>
          </p:nvPicPr>
          <p:blipFill>
            <a:blip r:embed="rId2"/>
            <a:stretch/>
          </p:blipFill>
          <p:spPr>
            <a:xfrm>
              <a:off x="826920" y="981000"/>
              <a:ext cx="2914560" cy="22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12"/>
            <p:cNvSpPr/>
            <p:nvPr/>
          </p:nvSpPr>
          <p:spPr>
            <a:xfrm>
              <a:off x="2266920" y="2095920"/>
              <a:ext cx="1512720" cy="1116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10"/>
          <p:cNvSpPr/>
          <p:nvPr/>
        </p:nvSpPr>
        <p:spPr>
          <a:xfrm>
            <a:off x="2268360" y="2060640"/>
            <a:ext cx="1440000" cy="1116000"/>
          </a:xfrm>
          <a:prstGeom prst="triangle">
            <a:avLst>
              <a:gd name="adj" fmla="val 4906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>
            <a:off x="2268000" y="2060640"/>
            <a:ext cx="72108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829520" y="530064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队旗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梯形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6763E-006 L 0.43316 0.19168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00578E-006 L 0.5434 -0.11538 E">
                                      <p:cBhvr>
                                        <p:cTn id="5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684360" y="1484280"/>
            <a:ext cx="2914560" cy="2158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队旗6"/>
          <p:cNvPicPr/>
          <p:nvPr/>
        </p:nvPicPr>
        <p:blipFill>
          <a:blip r:embed="rId1"/>
          <a:stretch/>
        </p:blipFill>
        <p:spPr>
          <a:xfrm>
            <a:off x="684360" y="1484280"/>
            <a:ext cx="2914560" cy="21337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8"/>
          <p:cNvSpPr/>
          <p:nvPr/>
        </p:nvSpPr>
        <p:spPr>
          <a:xfrm rot="16200000">
            <a:off x="6643800" y="2185560"/>
            <a:ext cx="2158920" cy="75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031480" y="5300640"/>
            <a:ext cx="52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队旗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4624E-007 L 0.4941 0.00023 E">
                                      <p:cBhvr>
                                        <p:cTn id="7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"/>
          <p:cNvGrpSpPr/>
          <p:nvPr/>
        </p:nvGrpSpPr>
        <p:grpSpPr>
          <a:xfrm>
            <a:off x="3059280" y="1052640"/>
            <a:ext cx="2519280" cy="2160000"/>
            <a:chOff x="3059280" y="1052640"/>
            <a:chExt cx="2519280" cy="2160000"/>
          </a:xfrm>
        </p:grpSpPr>
        <p:sp>
          <p:nvSpPr>
            <p:cNvPr id="121" name="AutoShape 5"/>
            <p:cNvSpPr/>
            <p:nvPr/>
          </p:nvSpPr>
          <p:spPr>
            <a:xfrm>
              <a:off x="3059280" y="1052640"/>
              <a:ext cx="2519280" cy="863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3059280" y="1915920"/>
              <a:ext cx="2519280" cy="12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7"/>
          <p:cNvSpPr/>
          <p:nvPr/>
        </p:nvSpPr>
        <p:spPr>
          <a:xfrm>
            <a:off x="2725920" y="440532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2050920" y="981000"/>
            <a:ext cx="4608360" cy="1441440"/>
            <a:chOff x="2050920" y="981000"/>
            <a:chExt cx="4608360" cy="1441440"/>
          </a:xfrm>
        </p:grpSpPr>
        <p:sp>
          <p:nvSpPr>
            <p:cNvPr id="125" name="Oval 5"/>
            <p:cNvSpPr/>
            <p:nvPr/>
          </p:nvSpPr>
          <p:spPr>
            <a:xfrm>
              <a:off x="5219640" y="981000"/>
              <a:ext cx="143964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"/>
            <p:cNvSpPr/>
            <p:nvPr/>
          </p:nvSpPr>
          <p:spPr>
            <a:xfrm>
              <a:off x="2050920" y="981000"/>
              <a:ext cx="144000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2842920" y="981000"/>
              <a:ext cx="3095640" cy="14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8"/>
          <p:cNvSpPr/>
          <p:nvPr/>
        </p:nvSpPr>
        <p:spPr>
          <a:xfrm>
            <a:off x="2419200" y="3357720"/>
            <a:ext cx="46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部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529720" y="450864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部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05:11:0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37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