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37F-A3E6-4DA8-86A9-15F1A109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864-C8D8-49A7-971E-F03FC629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38E-BF36-47AC-A60D-520C58BC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5A9-76AE-4169-88FA-93B66885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81A5-77FD-4405-8BF8-72BBB46B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A8CA-31E4-4811-8ECD-FA9C15E3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B75F-EBBC-4129-B7A8-2F59E726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AE9B-4C42-4C40-BFBE-9EAC6B02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1B1C-10CE-46AF-831D-1A393D23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2658-4766-4625-BB27-BF3AFE5B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1321-92C8-4BDD-A8FE-A0237F12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677-5623-432D-8F1C-E5B08672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4B99-B604-47CE-BDFC-3AA9B945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D092-804D-4D50-AFEC-A7FDBE00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3435-1A75-4660-B2F9-A55980A1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4E0A-D3C0-474F-A411-3E1A9BD4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299B-BD1C-47D2-BA6F-D12573DF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D9B-3D72-40E4-A9D8-C5D6F562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79B4-4FEB-47F1-9731-F836CC04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485-F225-4CAE-B85B-8351445D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00A4-0DD7-439E-B813-55B134F5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D47-C726-4F29-A085-B87CD41D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300-8AEB-442A-A106-5FFAF5AD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9CF-8F62-497C-BC13-99E13BC6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B8FD-1519-4552-8F03-7BD4902DAF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EEA5-62BF-4048-A5A0-83F8C3D21705}" type="datetime">
              <a:rPr b="0" lang="zh-CN" sz="14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C1AA-0464-4BB8-846D-4E8CB45BAE60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郑和"/>
          <p:cNvPicPr/>
          <p:nvPr/>
        </p:nvPicPr>
        <p:blipFill>
          <a:blip r:embed="rId2"/>
          <a:stretch/>
        </p:blipFill>
        <p:spPr>
          <a:xfrm>
            <a:off x="4716360" y="1554120"/>
            <a:ext cx="3802320" cy="4602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685800" y="1628640"/>
            <a:ext cx="31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6699"/>
                </a:solidFill>
                <a:latin typeface="Times New Roman"/>
                <a:ea typeface="隶书"/>
              </a:rPr>
              <a:t>郑 和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042920" y="3201840"/>
            <a:ext cx="31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6699"/>
                </a:solidFill>
                <a:latin typeface="Times New Roman"/>
                <a:ea typeface="隶书"/>
              </a:rPr>
              <a:t> </a:t>
            </a:r>
            <a:r>
              <a:rPr b="1" lang="zh-CN" sz="8800" spc="-1" strike="noStrike">
                <a:solidFill>
                  <a:srgbClr val="336699"/>
                </a:solidFill>
                <a:latin typeface="Times New Roman"/>
                <a:ea typeface="隶书"/>
              </a:rPr>
              <a:t>远 航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7315200" y="4648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110760" y="5284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苏教版五年级语文下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１"/>
          <p:cNvPicPr/>
          <p:nvPr/>
        </p:nvPicPr>
        <p:blipFill>
          <a:blip r:embed="rId2"/>
          <a:stretch/>
        </p:blipFill>
        <p:spPr>
          <a:xfrm>
            <a:off x="3780000" y="3716280"/>
            <a:ext cx="1981080" cy="2362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２"/>
          <p:cNvPicPr/>
          <p:nvPr/>
        </p:nvPicPr>
        <p:blipFill>
          <a:blip r:embed="rId3"/>
          <a:stretch/>
        </p:blipFill>
        <p:spPr>
          <a:xfrm>
            <a:off x="6948360" y="3645000"/>
            <a:ext cx="1828800" cy="2361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３"/>
          <p:cNvPicPr/>
          <p:nvPr/>
        </p:nvPicPr>
        <p:blipFill>
          <a:blip r:embed="rId4"/>
          <a:stretch/>
        </p:blipFill>
        <p:spPr>
          <a:xfrm>
            <a:off x="539640" y="3645000"/>
            <a:ext cx="2057400" cy="2438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４"/>
          <p:cNvPicPr/>
          <p:nvPr/>
        </p:nvPicPr>
        <p:blipFill>
          <a:blip r:embed="rId5"/>
          <a:stretch/>
        </p:blipFill>
        <p:spPr>
          <a:xfrm>
            <a:off x="6934320" y="457200"/>
            <a:ext cx="1752480" cy="2035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５"/>
          <p:cNvPicPr/>
          <p:nvPr/>
        </p:nvPicPr>
        <p:blipFill>
          <a:blip r:embed="rId6"/>
          <a:stretch/>
        </p:blipFill>
        <p:spPr>
          <a:xfrm>
            <a:off x="3809880" y="7621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６"/>
          <p:cNvPicPr/>
          <p:nvPr/>
        </p:nvPicPr>
        <p:blipFill>
          <a:blip r:embed="rId7"/>
          <a:stretch/>
        </p:blipFill>
        <p:spPr>
          <a:xfrm>
            <a:off x="609480" y="380880"/>
            <a:ext cx="2057400" cy="1463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2438280" y="1905120"/>
            <a:ext cx="13716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瓷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867280" y="274320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器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990720" y="518148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丝  绸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3" descr="11"/>
          <p:cNvPicPr/>
          <p:nvPr/>
        </p:nvPicPr>
        <p:blipFill>
          <a:blip r:embed="rId2"/>
          <a:stretch/>
        </p:blipFill>
        <p:spPr>
          <a:xfrm>
            <a:off x="684360" y="1341360"/>
            <a:ext cx="3429000" cy="3471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２２"/>
          <p:cNvPicPr/>
          <p:nvPr/>
        </p:nvPicPr>
        <p:blipFill>
          <a:blip r:embed="rId3"/>
          <a:stretch/>
        </p:blipFill>
        <p:spPr>
          <a:xfrm>
            <a:off x="5292720" y="2565360"/>
            <a:ext cx="2232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71680" y="1989000"/>
            <a:ext cx="79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在大海上，船队好几次遇上险恶的风浪。狂风呼啸着，海水像脱缰的野马，奔腾咆哮，巨浪疯狂地扑向船队，仿佛要把船只撕裂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84360" y="1700280"/>
            <a:ext cx="80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从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405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年到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43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年的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年间，郑和率领船队出洋七次，前后到过三十多个国家。最后一次远航，郑和已经是六十多岁的老人，鬓发全白了。这次航行，一直到达非洲东岸，直到第三年才回到祖国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Verdana"/>
              </a:rPr>
              <a:t>郑和远航，</a:t>
            </a:r>
            <a:r>
              <a:rPr b="1" lang="zh-CN" sz="3300" spc="-1" strike="noStrike" u="sng">
                <a:solidFill>
                  <a:srgbClr val="336699"/>
                </a:solidFill>
                <a:uFillTx/>
                <a:latin typeface="Verdana"/>
              </a:rPr>
              <a:t>规模之大，时间之长，范围之广</a:t>
            </a:r>
            <a:r>
              <a:rPr b="1" lang="zh-CN" sz="3300" spc="-1" strike="noStrike">
                <a:solidFill>
                  <a:srgbClr val="ff0000"/>
                </a:solidFill>
                <a:latin typeface="Verdana"/>
              </a:rPr>
              <a:t>，达到了当时世界航海事业的顶峰。它表现了我国古代人民顽强的探索精神，也开阔了中国人的眼界。郑和出使，促进了我国和亚非许多国家的经济文化交流和友好往来。直到现在，有关国家还流传着三保太监下西洋的故事。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线路图"/>
          <p:cNvPicPr/>
          <p:nvPr/>
        </p:nvPicPr>
        <p:blipFill>
          <a:blip r:embed="rId2"/>
          <a:stretch/>
        </p:blipFill>
        <p:spPr>
          <a:xfrm>
            <a:off x="324000" y="549360"/>
            <a:ext cx="861048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33520" y="1773360"/>
            <a:ext cx="784836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小组活动：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郑和率领的船队与很多国家进行了友好交往，请你选择最感兴趣的一项，分角色，加动作、对话来表演，或者进行具体的描述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533520" y="6858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49200" y="184464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郑和远航，规模之大，时间之长，范围之广，达到了当时世界航海事业的顶峰。它表现了我国古代人民顽强的探索精神，也开阔了中国人的眼界。郑和出使，促进了我国和亚非许多国家的经济文化交流和友好往来。起到现在，有关国家还流传着三保太监下西洋的故事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619280" y="33336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0c0"/>
                </a:solidFill>
                <a:latin typeface="Times New Roman"/>
              </a:rPr>
              <a:t>创新和实践</a:t>
            </a:r>
            <a:r>
              <a:rPr b="1" lang="zh-CN" sz="6000" spc="-1" strike="noStrike">
                <a:solidFill>
                  <a:srgbClr val="0070c0"/>
                </a:solidFill>
                <a:latin typeface="Times New Roman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2120" y="1600200"/>
            <a:ext cx="7772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看有关郑和下西洋的图书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给你的父母讲郑和下西洋的故事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收集有关我国古代在科学技术方面的突出成就，如：指南针、造纸、火药、印刷、万里长城、大运河等有关资料，开展览会或介绍会，从而感受古代劳动人民的聪明智慧，发奋学习，振兴中华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7" descr="c042"/>
          <p:cNvPicPr/>
          <p:nvPr/>
        </p:nvPicPr>
        <p:blipFill>
          <a:blip r:embed="rId2"/>
          <a:stretch/>
        </p:blipFill>
        <p:spPr>
          <a:xfrm>
            <a:off x="228600" y="304920"/>
            <a:ext cx="160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09480" y="1447920"/>
            <a:ext cx="784872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郑和几次下西洋？课文着重写了哪一次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郑和下西洋有什么重大意义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3" descr="BD00028_"/>
          <p:cNvPicPr/>
          <p:nvPr/>
        </p:nvPicPr>
        <p:blipFill>
          <a:blip r:embed="rId2"/>
          <a:stretch/>
        </p:blipFill>
        <p:spPr>
          <a:xfrm>
            <a:off x="990720" y="609480"/>
            <a:ext cx="12952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3564000" y="263700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2" descr="宝船"/>
          <p:cNvPicPr/>
          <p:nvPr/>
        </p:nvPicPr>
        <p:blipFill>
          <a:blip r:embed="rId2"/>
          <a:stretch/>
        </p:blipFill>
        <p:spPr>
          <a:xfrm>
            <a:off x="2268360" y="2060640"/>
            <a:ext cx="4246920" cy="2663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609480" y="45720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宝船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之家：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1720" y="1814040"/>
            <a:ext cx="7556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10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457200" y="1600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艘宝船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，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，有十多层楼房那么高。船上有九根桅杆和十二面风帆，可以乘坐一千多人，需由二三百人驾驶。船上配备着航海罗盘等当时最先进的仪器。紧挨着宝船的还有许多战船、粮船和水船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457200" y="1600200"/>
            <a:ext cx="8305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每艘宝船长</a:t>
            </a:r>
            <a:r>
              <a:rPr b="1" lang="en-US" sz="3500" spc="-1" strike="noStrike">
                <a:solidFill>
                  <a:srgbClr val="0070c0"/>
                </a:solidFill>
                <a:latin typeface="Times New Roman"/>
              </a:rPr>
              <a:t>148</a:t>
            </a:r>
            <a:r>
              <a:rPr b="1" lang="zh-CN" sz="3500" spc="-1" strike="noStrike">
                <a:solidFill>
                  <a:srgbClr val="0070c0"/>
                </a:solidFill>
                <a:latin typeface="Times New Roman"/>
              </a:rPr>
              <a:t>米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，宽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米，有</a:t>
            </a:r>
            <a:r>
              <a:rPr b="1" lang="zh-CN" sz="3500" spc="-1" strike="noStrike">
                <a:solidFill>
                  <a:srgbClr val="0070c0"/>
                </a:solidFill>
                <a:latin typeface="Times New Roman"/>
              </a:rPr>
              <a:t>十多层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楼房那么高。船上有</a:t>
            </a:r>
            <a:r>
              <a:rPr b="1" lang="zh-CN" sz="3500" spc="-1" strike="noStrike">
                <a:solidFill>
                  <a:srgbClr val="0070c0"/>
                </a:solidFill>
                <a:latin typeface="Times New Roman"/>
              </a:rPr>
              <a:t>九根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桅杆和</a:t>
            </a:r>
            <a:r>
              <a:rPr b="1" lang="zh-CN" sz="3500" spc="-1" strike="noStrike">
                <a:solidFill>
                  <a:srgbClr val="0070c0"/>
                </a:solidFill>
                <a:latin typeface="Times New Roman"/>
              </a:rPr>
              <a:t>十二面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风帆，可以乘坐</a:t>
            </a:r>
            <a:r>
              <a:rPr b="1" lang="zh-CN" sz="3500" spc="-1" strike="noStrike">
                <a:solidFill>
                  <a:srgbClr val="0070c0"/>
                </a:solidFill>
                <a:latin typeface="Times New Roman"/>
              </a:rPr>
              <a:t>一千多人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，需由</a:t>
            </a:r>
            <a:r>
              <a:rPr b="1" lang="zh-CN" sz="3500" spc="-1" strike="noStrike">
                <a:solidFill>
                  <a:srgbClr val="0070c0"/>
                </a:solidFill>
                <a:latin typeface="Times New Roman"/>
              </a:rPr>
              <a:t>二三百人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驾驶。船上配备着航海罗盘等当时最先进的仪器。紧挨着宝船的还有许多战船、粮船和水船。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755640" y="191628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将近中午，身材魁梧的郑和健步走上指挥船，他双手抱拳向岸上的人群告别，接着高举令旗，大声喊道：“启航！”在人们的欢呼声和祝福声中，船队像一条巨龙，浩浩荡荡地出发了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539640" y="1447920"/>
            <a:ext cx="80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将近中午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身材魁梧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的郑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健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走上指挥船，他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双手抱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向岸上的人群告别，接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举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令旗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声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喊道：“启航！”在人们的欢呼声和祝福声中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船队像一条巨龙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浩浩荡荡地出发了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01720" y="1814040"/>
            <a:ext cx="7556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船队出了长江口，驶过东海和南海，破浪西行。每到一个国家，郑和先把国书递交给国王，并代表明朝皇帝向他们赠送礼品，希望同他们友好交往。各国君臣看见船队规模宏大，使者的态度友好亲切，没有丝毫炫耀武力、威胁别人的意思，都表示热烈欢迎，老百姓听说明朝的船队来了，也都扶老携幼，争相到海边观看。他们面对那些从来没有看见过的宝船，个个惊叹不已。当时中国的丝绸、瓷器早就名扬海外，沿途的百姓听说船队满载这些产品，都很高兴，纷纷用香料、珊瑚、珠宝等去换取中国的土特产品。各地的商人十分乐意同中国人做生意。很多人还向中国客人赠送礼物，以表达友好的感情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3:25:33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9:23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