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F98-DB92-4BB3-B9DF-37490EDC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18D-A155-451A-91E4-1F4B151B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FCE5-C273-4E67-8A03-48A6E13B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003-0ED3-4316-82BF-9BF898DA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F46-4F97-4EA2-95D2-33557760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6512-40C7-4D06-B231-C13DEF19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9FCE-E9CC-43F5-B348-DE68D967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34BB-4FBE-4EF3-94BD-2A374909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C2BB-A648-40CC-8CFB-BCE14786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5F2A-3839-4914-A270-7299DD16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575A-0763-4DDB-8C66-2A652C1A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951-650C-4916-A06A-3361CB21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213C-3ABC-4F7F-BF13-766F6DE9C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xyw.com/ebook/10/images/008_jpg.jp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q6z.com/blog/user1/88songbaobao/archives/2006/6953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aike.baidu.com/view/27601.htm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图片点击可在新窗口打开查看">
            <a:hlinkClick r:id="rId1"/>
          </p:cNvPr>
          <p:cNvPicPr/>
          <p:nvPr/>
        </p:nvPicPr>
        <p:blipFill>
          <a:blip r:embed="rId2"/>
          <a:srcRect l="5899" t="11551" r="0" b="70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"/>
          <p:cNvSpPr/>
          <p:nvPr/>
        </p:nvSpPr>
        <p:spPr>
          <a:xfrm>
            <a:off x="1187280" y="177948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拣儿童多处行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26"/>
          <p:cNvSpPr/>
          <p:nvPr/>
        </p:nvSpPr>
        <p:spPr>
          <a:xfrm>
            <a:off x="228600" y="9144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香山归来，路过颐和园，看见颐和园门口，就像散戏似的，成千盈百的孩子，闹嚷嚷地从门内挤了出来，就像从一只大魔术匣子里，飞涌出一群接着一群的小天使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027" descr="r014"/>
          <p:cNvPicPr/>
          <p:nvPr/>
        </p:nvPicPr>
        <p:blipFill>
          <a:blip r:embed="rId1"/>
          <a:stretch/>
        </p:blipFill>
        <p:spPr>
          <a:xfrm>
            <a:off x="4952880" y="3886200"/>
            <a:ext cx="1997280" cy="1665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28" descr="r082"/>
          <p:cNvPicPr/>
          <p:nvPr/>
        </p:nvPicPr>
        <p:blipFill>
          <a:blip r:embed="rId2"/>
          <a:stretch/>
        </p:blipFill>
        <p:spPr>
          <a:xfrm>
            <a:off x="6659640" y="4114800"/>
            <a:ext cx="1861920" cy="2743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29" descr="r082"/>
          <p:cNvPicPr/>
          <p:nvPr/>
        </p:nvPicPr>
        <p:blipFill>
          <a:blip r:embed="rId3"/>
          <a:stretch/>
        </p:blipFill>
        <p:spPr>
          <a:xfrm>
            <a:off x="4643280" y="4937040"/>
            <a:ext cx="1305000" cy="192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30" descr="r082"/>
          <p:cNvPicPr/>
          <p:nvPr/>
        </p:nvPicPr>
        <p:blipFill>
          <a:blip r:embed="rId4"/>
          <a:stretch/>
        </p:blipFill>
        <p:spPr>
          <a:xfrm>
            <a:off x="1523880" y="5013360"/>
            <a:ext cx="1252800" cy="1844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31" descr="r082"/>
          <p:cNvPicPr/>
          <p:nvPr/>
        </p:nvPicPr>
        <p:blipFill>
          <a:blip r:embed="rId5"/>
          <a:stretch/>
        </p:blipFill>
        <p:spPr>
          <a:xfrm>
            <a:off x="3602160" y="3657600"/>
            <a:ext cx="1460520" cy="214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32" descr="r082"/>
          <p:cNvPicPr/>
          <p:nvPr/>
        </p:nvPicPr>
        <p:blipFill>
          <a:blip r:embed="rId6"/>
          <a:stretch/>
        </p:blipFill>
        <p:spPr>
          <a:xfrm>
            <a:off x="5651640" y="4581360"/>
            <a:ext cx="1252440" cy="1845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33" descr="r014"/>
          <p:cNvPicPr/>
          <p:nvPr/>
        </p:nvPicPr>
        <p:blipFill>
          <a:blip r:embed="rId7"/>
          <a:stretch/>
        </p:blipFill>
        <p:spPr>
          <a:xfrm>
            <a:off x="1258920" y="4005360"/>
            <a:ext cx="1989000" cy="1963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34" descr="r014"/>
          <p:cNvPicPr/>
          <p:nvPr/>
        </p:nvPicPr>
        <p:blipFill>
          <a:blip r:embed="rId8"/>
          <a:stretch/>
        </p:blipFill>
        <p:spPr>
          <a:xfrm>
            <a:off x="5003640" y="3357720"/>
            <a:ext cx="1997280" cy="1665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35" descr="r014"/>
          <p:cNvPicPr/>
          <p:nvPr/>
        </p:nvPicPr>
        <p:blipFill>
          <a:blip r:embed="rId9"/>
          <a:stretch/>
        </p:blipFill>
        <p:spPr>
          <a:xfrm>
            <a:off x="2971800" y="5192640"/>
            <a:ext cx="1996920" cy="1665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36" descr="r014"/>
          <p:cNvPicPr/>
          <p:nvPr/>
        </p:nvPicPr>
        <p:blipFill>
          <a:blip r:embed="rId10"/>
          <a:stretch/>
        </p:blipFill>
        <p:spPr>
          <a:xfrm>
            <a:off x="0" y="4876920"/>
            <a:ext cx="1996920" cy="1665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37" descr="r014"/>
          <p:cNvPicPr/>
          <p:nvPr/>
        </p:nvPicPr>
        <p:blipFill>
          <a:blip r:embed="rId11"/>
          <a:stretch/>
        </p:blipFill>
        <p:spPr>
          <a:xfrm>
            <a:off x="2050920" y="5229360"/>
            <a:ext cx="1717920" cy="1431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38" descr="r014"/>
          <p:cNvPicPr/>
          <p:nvPr/>
        </p:nvPicPr>
        <p:blipFill>
          <a:blip r:embed="rId12"/>
          <a:stretch/>
        </p:blipFill>
        <p:spPr>
          <a:xfrm>
            <a:off x="6732720" y="3645000"/>
            <a:ext cx="1920600" cy="1368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20070127233039503"/>
          <p:cNvPicPr/>
          <p:nvPr/>
        </p:nvPicPr>
        <p:blipFill>
          <a:blip r:embed="rId1"/>
          <a:srcRect l="0" t="0" r="18263" b="125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324000" y="260280"/>
            <a:ext cx="8534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本想在知春亭畔喝茶，哪知道知春亭畔已是座无隙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838080" y="1700280"/>
            <a:ext cx="8305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东一堆，西一堆，叽叽呱呱地，也不知说些什么，笑些什么，个个鼻尖上闪着汗珠，小小的身躯上喷发着太阳的香气息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11280" y="4221000"/>
            <a:ext cx="82296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无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坐满儿童的小船，在湖面上荡漾，一面一面鲜红的队旗，在东风里哗哗地响着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6588000" y="3500280"/>
            <a:ext cx="609480" cy="76320"/>
            <a:chOff x="6588000" y="3500280"/>
            <a:chExt cx="609480" cy="76320"/>
          </a:xfrm>
        </p:grpSpPr>
        <p:sp>
          <p:nvSpPr>
            <p:cNvPr id="89" name="AutoShape 8"/>
            <p:cNvSpPr/>
            <p:nvPr/>
          </p:nvSpPr>
          <p:spPr>
            <a:xfrm>
              <a:off x="7121520" y="3500280"/>
              <a:ext cx="7596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AutoShape 9"/>
            <p:cNvSpPr/>
            <p:nvPr/>
          </p:nvSpPr>
          <p:spPr>
            <a:xfrm>
              <a:off x="6588000" y="350028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5"/>
          <p:cNvGrpSpPr/>
          <p:nvPr/>
        </p:nvGrpSpPr>
        <p:grpSpPr>
          <a:xfrm>
            <a:off x="2895480" y="2276640"/>
            <a:ext cx="5105520" cy="85680"/>
            <a:chOff x="2895480" y="2276640"/>
            <a:chExt cx="5105520" cy="85680"/>
          </a:xfrm>
        </p:grpSpPr>
        <p:sp>
          <p:nvSpPr>
            <p:cNvPr id="92" name="AutoShape 12"/>
            <p:cNvSpPr/>
            <p:nvPr/>
          </p:nvSpPr>
          <p:spPr>
            <a:xfrm>
              <a:off x="3779640" y="227664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AutoShape 15"/>
            <p:cNvSpPr/>
            <p:nvPr/>
          </p:nvSpPr>
          <p:spPr>
            <a:xfrm>
              <a:off x="7924680" y="228600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utoShape 16"/>
            <p:cNvSpPr/>
            <p:nvPr/>
          </p:nvSpPr>
          <p:spPr>
            <a:xfrm>
              <a:off x="7543800" y="2286000"/>
              <a:ext cx="7596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AutoShape 17"/>
            <p:cNvSpPr/>
            <p:nvPr/>
          </p:nvSpPr>
          <p:spPr>
            <a:xfrm>
              <a:off x="7010280" y="228600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AutoShape 18"/>
            <p:cNvSpPr/>
            <p:nvPr/>
          </p:nvSpPr>
          <p:spPr>
            <a:xfrm>
              <a:off x="6553080" y="228600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utoShape 19"/>
            <p:cNvSpPr/>
            <p:nvPr/>
          </p:nvSpPr>
          <p:spPr>
            <a:xfrm>
              <a:off x="5638680" y="228600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AutoShape 20"/>
            <p:cNvSpPr/>
            <p:nvPr/>
          </p:nvSpPr>
          <p:spPr>
            <a:xfrm>
              <a:off x="5181480" y="228600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AutoShape 21"/>
            <p:cNvSpPr/>
            <p:nvPr/>
          </p:nvSpPr>
          <p:spPr>
            <a:xfrm>
              <a:off x="4724280" y="228600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AutoShape 22"/>
            <p:cNvSpPr/>
            <p:nvPr/>
          </p:nvSpPr>
          <p:spPr>
            <a:xfrm>
              <a:off x="3352680" y="228600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AutoShape 23"/>
            <p:cNvSpPr/>
            <p:nvPr/>
          </p:nvSpPr>
          <p:spPr>
            <a:xfrm>
              <a:off x="2895480" y="228600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4"/>
          <p:cNvGrpSpPr/>
          <p:nvPr/>
        </p:nvGrpSpPr>
        <p:grpSpPr>
          <a:xfrm>
            <a:off x="2484360" y="1557360"/>
            <a:ext cx="1371600" cy="76320"/>
            <a:chOff x="2484360" y="1557360"/>
            <a:chExt cx="1371600" cy="76320"/>
          </a:xfrm>
        </p:grpSpPr>
        <p:sp>
          <p:nvSpPr>
            <p:cNvPr id="103" name="AutoShape 7"/>
            <p:cNvSpPr/>
            <p:nvPr/>
          </p:nvSpPr>
          <p:spPr>
            <a:xfrm>
              <a:off x="2484360" y="155736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24"/>
            <p:cNvSpPr/>
            <p:nvPr/>
          </p:nvSpPr>
          <p:spPr>
            <a:xfrm>
              <a:off x="3779640" y="155736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AutoShape 25"/>
            <p:cNvSpPr/>
            <p:nvPr/>
          </p:nvSpPr>
          <p:spPr>
            <a:xfrm>
              <a:off x="3419280" y="155736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AutoShape 26"/>
            <p:cNvSpPr/>
            <p:nvPr/>
          </p:nvSpPr>
          <p:spPr>
            <a:xfrm>
              <a:off x="2987640" y="155736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20070127233039503"/>
          <p:cNvPicPr/>
          <p:nvPr/>
        </p:nvPicPr>
        <p:blipFill>
          <a:blip r:embed="rId1"/>
          <a:srcRect l="0" t="0" r="18263" b="125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"/>
          <p:cNvSpPr/>
          <p:nvPr/>
        </p:nvSpPr>
        <p:spPr>
          <a:xfrm>
            <a:off x="457200" y="609480"/>
            <a:ext cx="80773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…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转弯的地方，总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一群一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孩子撞个满怀，他们匆匆地说了声“对不起”，又匆匆地往前跑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971640" y="5013360"/>
            <a:ext cx="7488000" cy="7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春天的颐和园成了儿童的乐园，儿童的世界，儿童的海洋。</a:t>
            </a:r>
            <a:endParaRPr b="1" i="1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20070127233039503"/>
          <p:cNvPicPr/>
          <p:nvPr/>
        </p:nvPicPr>
        <p:blipFill>
          <a:blip r:embed="rId1"/>
          <a:srcRect l="0" t="0" r="18263" b="125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042920" y="1341360"/>
            <a:ext cx="7272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儿童：朝气蓬勃、充满活力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20070127233039503"/>
          <p:cNvPicPr/>
          <p:nvPr/>
        </p:nvPicPr>
        <p:blipFill>
          <a:blip r:embed="rId1"/>
          <a:srcRect l="0" t="0" r="18263" b="125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"/>
          <p:cNvSpPr/>
          <p:nvPr/>
        </p:nvSpPr>
        <p:spPr>
          <a:xfrm>
            <a:off x="539640" y="692280"/>
            <a:ext cx="83170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走进玉澜堂的院落里，眼睛忽然一亮，那几棵大海棠树，开满了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密密层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淡红的花，这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繁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从树枝开到树梢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不留一点空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阳光下就像几座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喷花的飞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20070127233039503"/>
          <p:cNvPicPr/>
          <p:nvPr/>
        </p:nvPicPr>
        <p:blipFill>
          <a:blip r:embed="rId1"/>
          <a:srcRect l="0" t="0" r="18263" b="125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533520" y="12193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50920" y="2060640"/>
            <a:ext cx="8748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春光，竟会这样地饱满，这样地烂漫！它把一冬天蕴藏的精神、力量，都尽情地释放出来了！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20070127233039503"/>
          <p:cNvPicPr/>
          <p:nvPr/>
        </p:nvPicPr>
        <p:blipFill>
          <a:blip r:embed="rId1"/>
          <a:srcRect l="0" t="0" r="18263" b="125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只要管理得好，给它适时地浇水施肥，花儿和儿童一样，在春天的感召下，就会欢畅活泼地，以旺盛的生命力，舒展出新鲜美丽的四肢，使出浑身解数。这时候，自己感到快乐，别人看着也快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2720" y="6237360"/>
            <a:ext cx="7920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说课ppt模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20070127233039503"/>
          <p:cNvPicPr/>
          <p:nvPr/>
        </p:nvPicPr>
        <p:blipFill>
          <a:blip r:embed="rId1"/>
          <a:srcRect l="0" t="0" r="18263" b="125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只要管理得好，给它适时地浇水施肥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花儿和儿童一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在春天的感召下，就会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欢畅活泼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地，以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旺盛的生命力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，舒展出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新鲜美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四肢，使出浑身解数。这时候，自己感到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快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别人看着也快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" descr="20070127233039503"/>
          <p:cNvPicPr/>
          <p:nvPr/>
        </p:nvPicPr>
        <p:blipFill>
          <a:blip r:embed="rId1"/>
          <a:srcRect l="0" t="0" r="18263" b="125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250920" y="981000"/>
            <a:ext cx="889308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朋友，春天在哪里？当你春游的时候，记住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“只拣儿童多处行”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是永远不会找不到春天的！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179280" y="177948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" descr="20070127233039503"/>
          <p:cNvPicPr/>
          <p:nvPr/>
        </p:nvPicPr>
        <p:blipFill>
          <a:blip r:embed="rId1"/>
          <a:srcRect l="0" t="0" r="18263" b="125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042920" y="260280"/>
            <a:ext cx="6265800" cy="59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田   间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       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清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   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汪楫 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小妇扶犁大妇耕，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陇头一树有啼莺。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儿童不解春何在， </a:t>
            </a:r>
            <a:br>
              <a:rPr sz="4400"/>
            </a:b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  只向游人多处行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0" descr="20070127233039503"/>
          <p:cNvPicPr/>
          <p:nvPr/>
        </p:nvPicPr>
        <p:blipFill>
          <a:blip r:embed="rId1"/>
          <a:srcRect l="0" t="0" r="18263" b="125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3212640"/>
            <a:ext cx="8424720" cy="27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儿童是世界上最美的，除了宇宙之外，就是儿童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　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冰心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9" descr="gaoxia2846200643213185305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00016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11280" y="2043000"/>
            <a:ext cx="8243640" cy="29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冰心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）享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岁，人称“世纪老人”，福建长乐人，原名为谢婉莹，笔名为冰心 。现代著名诗人，翻译家，作家，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儿童文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家，崇尚“爱的哲学”，母爱，童真，自然是其作品的主旋律。她非常爱小孩，把小孩看做“最神圣的人”。深受人民的敬仰。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1" descr="20070127233039503"/>
          <p:cNvPicPr/>
          <p:nvPr/>
        </p:nvPicPr>
        <p:blipFill>
          <a:blip r:embed="rId1"/>
          <a:srcRect l="0" t="0" r="18263" b="125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1452600" y="1555200"/>
            <a:ext cx="2033640" cy="34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雨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》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繁星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春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寄小读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桔灯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》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20070127233039503"/>
          <p:cNvPicPr/>
          <p:nvPr/>
        </p:nvPicPr>
        <p:blipFill>
          <a:blip r:embed="rId1"/>
          <a:srcRect l="0" t="0" r="18263" b="125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116000" y="1484280"/>
            <a:ext cx="5400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游人不解春何在，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只拣儿童多处行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冰心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9" descr="20070127233039503"/>
          <p:cNvPicPr/>
          <p:nvPr/>
        </p:nvPicPr>
        <p:blipFill>
          <a:blip r:embed="rId1"/>
          <a:srcRect l="0" t="0" r="18263" b="125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179280" y="981000"/>
            <a:ext cx="8820360" cy="382284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额头       忸怩       纽扣          倚着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旺盛       四肢       颐和园     玉澜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成千盈百       魔术匣子      座无隙地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聚精会神       欢畅活泼      浑身解数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20070127233039503"/>
          <p:cNvPicPr/>
          <p:nvPr/>
        </p:nvPicPr>
        <p:blipFill>
          <a:blip r:embed="rId1"/>
          <a:srcRect l="0" t="0" r="18263" b="125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826920" y="1125360"/>
            <a:ext cx="7704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儿童不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解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春何在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使出浑身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解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20070127233039503"/>
          <p:cNvPicPr/>
          <p:nvPr/>
        </p:nvPicPr>
        <p:blipFill>
          <a:blip r:embed="rId1"/>
          <a:srcRect l="0" t="0" r="18263" b="125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116000" y="1341360"/>
            <a:ext cx="727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哪些句段可以看出“儿童多”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39" descr="20070127233039503"/>
          <p:cNvPicPr/>
          <p:nvPr/>
        </p:nvPicPr>
        <p:blipFill>
          <a:blip r:embed="rId1"/>
          <a:srcRect l="0" t="0" r="18263" b="125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从香山归来，路过颐和园，看见颐和园门口，就像散戏似的，成千盈百的孩子，闹嚷嚷地从门内挤了出来。这几扇大红门，就像一只大魔术匣子，盖子敞开着，飞涌出一群接着一群的小天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053" descr="20070127233039503"/>
          <p:cNvPicPr/>
          <p:nvPr/>
        </p:nvPicPr>
        <p:blipFill>
          <a:blip r:embed="rId1"/>
          <a:srcRect l="0" t="0" r="18263" b="125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699320" cy="46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从香山归来，路过颐和园，看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成千盈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孩子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闹嚷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地从颐和园门内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了出来，就像从一只大魔术匣子里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飞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出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群接着一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小天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28" descr="20070127233039503"/>
          <p:cNvPicPr/>
          <p:nvPr/>
        </p:nvPicPr>
        <p:blipFill>
          <a:blip r:embed="rId1"/>
          <a:srcRect l="0" t="0" r="18263" b="125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826920" y="9810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从香山归来，路过颐和园，看见颐和园门口，就像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散戏似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成千盈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孩子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闹嚷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地从颐和园门内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了出来。这几扇大红门，就像一只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大魔术匣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盖子敞开着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飞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出一群接着一群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小天使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22:15:38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57:48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