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34B-4F0D-4FE2-A2BA-2ACB2F29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F84-F215-4181-9289-251AF227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2E7-3385-4E5F-8E39-7DF64A5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DC4-AFD9-4BC6-9580-30864018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CAD9-446F-400D-9B2B-963283D6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E655-52B2-40BC-9904-A167B338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4D78-DF6C-41F9-AD62-AF7461BC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1413-20D1-4DC5-AA60-67661E56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61B6-986A-417D-8715-B62A5533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6BAD-26F0-402B-A567-12678FEC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9C0-A2C3-453D-9E96-0FD59F0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06B-C2D8-4D8D-B855-6C0EE442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63C3-D95A-448C-A597-56F4DE1F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835C-C087-4DFC-B794-8B4041D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74D9-118A-4006-9E3C-B1BD3645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E0D9-2963-4E02-AC6F-A200BA39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D162-8803-4C5B-89B5-7029A290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804-0D34-4014-BC9B-66ED80A8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8CE-A633-48CA-B399-D309FCC8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6ED-498A-43BB-A757-B4730844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AAB-F9BF-4E5F-B40D-31572672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43A-1AA1-454B-BD5B-6AA88F1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74A-0984-4E76-906D-D68F01A6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FF4-E5DA-40D7-ACE4-BB62E860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A:\grapes.GIF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1747-51D9-4944-BD4D-AAE225784077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5E30-F397-4C34-93DA-CA2FC0440E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0A4C-A3B6-4F76-8F40-D005A7E43B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My Documents\songxi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My Documents\2.jpg"/>
          <p:cNvPicPr/>
          <p:nvPr/>
        </p:nvPicPr>
        <p:blipFill>
          <a:blip r:embed="rId3"/>
          <a:srcRect l="0" t="0" r="0" b="161"/>
          <a:stretch/>
        </p:blipFill>
        <p:spPr>
          <a:xfrm>
            <a:off x="-38160" y="3957480"/>
            <a:ext cx="91821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:\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-228600" y="99072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您为我们失去了自己的亲人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-228600" y="327672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您为我们失去了惟一的亲人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您知道我们缺少蔬菜，就挎着小篮子上山去挖野菜。后面山上的野菜挖光了，您又跑到前沿阵地上挖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A:\songxi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51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再见了，亲人！我们的心永 远在一起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2:03:2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