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1EE-8978-41C1-8985-95427172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DE8-D322-4F61-9367-ACA6BB9F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B78-E9A9-4A71-8C0A-0FDB7315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925-684C-4063-913D-3C9AE75D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664A-1E75-4BD9-8DA9-8FBECBA1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7ECA-19A0-45E1-8FCD-F7B8F420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EF81-E4A5-4C47-B3A8-F1081AFC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AF1F-7057-4AD5-92E6-D299CC83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1544-FF99-4C77-9A70-24978A74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F19F-07F6-41C3-A39B-4724DEBA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C9E6-8424-4A0B-AF5E-B1F38990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5793-4CD3-438F-B88F-82FAB2AF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CAEC-8A9A-4A8B-AEC0-B144A9CE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38E3-0C6D-41EB-826C-4C7D5119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25C0-DD83-498B-AA75-9121BFE5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75A6-D8B8-4CFD-B38B-EC34193E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F2FD-AB27-429F-988C-6B6B8173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833-2E8A-4066-90FC-F5E87831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1A9-EBD5-4BF0-A4B6-08BA0B7E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321-E128-418D-890C-DB872A91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54A-7916-493A-91AA-C79873EB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5F5-38D3-455D-AC8E-8C76C0BD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337-2F36-49F9-AB1D-0A20B85E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EB4-219E-4B20-9887-7A90BCE7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F911-CEB9-4D5F-8EA9-BFD0BE8BB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93E6-1279-44DF-8339-AD1118872B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B291-F4D9-488A-945E-B61976F3BA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2590920" y="2819520"/>
            <a:ext cx="3581280" cy="91692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6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、找骆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8380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自 学 提 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由读课文，读懂每段话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利用字典，联系上下文理解新词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本文讲的是一件什么事？老人根据什么指点商人找到了骆驼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提出学不懂的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915360" y="3200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忿  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186560" y="3124080"/>
            <a:ext cx="14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    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6489000" y="3276720"/>
            <a:ext cx="11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商  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3701160" y="240660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èn fè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242000" y="243828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ǐ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008040" y="243828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 ré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1219320" y="838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词语注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2209680" y="2133720"/>
            <a:ext cx="5105520" cy="21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幼圆"/>
              </a:rPr>
              <a:t>图片欣赏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E:\资源库\第二单元\三年级\6、《找骆驼》\野骆驼2.jpg"/>
          <p:cNvPicPr/>
          <p:nvPr/>
        </p:nvPicPr>
        <p:blipFill>
          <a:blip r:embed="rId2"/>
          <a:stretch/>
        </p:blipFill>
        <p:spPr>
          <a:xfrm>
            <a:off x="1523880" y="1447920"/>
            <a:ext cx="6124680" cy="38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E:\资源库\第二单元\三年级\6、《找骆驼》\野骆驼1.jpg"/>
          <p:cNvPicPr/>
          <p:nvPr/>
        </p:nvPicPr>
        <p:blipFill>
          <a:blip r:embed="rId2"/>
          <a:stretch/>
        </p:blipFill>
        <p:spPr>
          <a:xfrm>
            <a:off x="2014560" y="152280"/>
            <a:ext cx="467028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E:\资源库\第二单元\三年级\6、《找骆驼》\骆驼.jpg"/>
          <p:cNvPicPr/>
          <p:nvPr/>
        </p:nvPicPr>
        <p:blipFill>
          <a:blip r:embed="rId2"/>
          <a:stretch/>
        </p:blipFill>
        <p:spPr>
          <a:xfrm>
            <a:off x="1219320" y="990720"/>
            <a:ext cx="6476760" cy="48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E:\资源库\第二单元\三年级\6、《找骆驼》\路旁的骆驼.jpg"/>
          <p:cNvPicPr/>
          <p:nvPr/>
        </p:nvPicPr>
        <p:blipFill>
          <a:blip r:embed="rId2"/>
          <a:stretch/>
        </p:blipFill>
        <p:spPr>
          <a:xfrm>
            <a:off x="990720" y="1219320"/>
            <a:ext cx="7086600" cy="44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E:\资源库\第二单元\三年级\6、《找骆驼》\两只骆驼.jpg"/>
          <p:cNvPicPr/>
          <p:nvPr/>
        </p:nvPicPr>
        <p:blipFill>
          <a:blip r:embed="rId2"/>
          <a:stretch/>
        </p:blipFill>
        <p:spPr>
          <a:xfrm>
            <a:off x="1066680" y="1219320"/>
            <a:ext cx="7162920" cy="44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6:19:2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7:3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