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D84-79D9-49A4-9B41-D40CB79F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B0C-47E5-4946-BF69-02C00DE0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A3F-615D-4FBA-B75A-719030DA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5FD3-E176-46C3-98A2-6756CD69E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1806-E7BD-46EE-837B-057FC764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FC17-BD92-498B-8B64-8ED513C8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4D63-EFD3-44FC-B4BA-1D5C3997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6D50-8588-4DA5-8A81-E9904D87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EBE3-C439-4E83-85BB-B555F91A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0C3E-6AB4-4A23-9E6A-43F035AB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FFA4-FFC5-4D0D-90AC-9AE11E22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948-1BA9-4C4E-94EC-6B2CF5B4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6858-30EB-4170-B76B-D65148BF9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D369-ABDD-48C5-9D8E-6884D09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DF95-DBB2-41C2-A0A5-795D19C0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F8EA-4548-4F22-BABE-B80CD993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0F23-A7A3-42CB-A465-F2D89E88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81D-CA52-480F-9603-B6267204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606-8137-4D04-9049-5AB1B1CA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620A-EA2B-42CF-8C6E-55F03B50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0BD-0971-400B-83D1-E06EC0AE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4DE-157A-47B2-B1A9-27D2DE43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B43C-9996-4C92-A137-7F1BF0AB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EF6-B38F-45B7-92A5-39C0D25F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0CAA-AEA8-4755-B87C-80B73EB7E2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063D-FAEB-41CF-9314-022D4F304F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C01D-B095-4944-B57D-22A1D4C82F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838080" y="8380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寓   言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2133720" y="283356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cc99"/>
                </a:solidFill>
                <a:latin typeface="Times New Roman"/>
              </a:rPr>
              <a:t>揠苗助长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075280" y="47847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主讲：张傲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E:\My Documents\新建文件夹\11.JPG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"/>
          <p:cNvSpPr/>
          <p:nvPr/>
        </p:nvSpPr>
        <p:spPr>
          <a:xfrm>
            <a:off x="990720" y="533520"/>
            <a:ext cx="1828800" cy="1218960"/>
          </a:xfrm>
          <a:prstGeom prst="cloudCallout">
            <a:avLst>
              <a:gd name="adj1" fmla="val 47916"/>
              <a:gd name="adj2" fmla="val 11302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我帮禾苗长高了一大截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5105520" y="1295280"/>
            <a:ext cx="1066680" cy="1143000"/>
          </a:xfrm>
          <a:prstGeom prst="wedgeEllipseCallout">
            <a:avLst>
              <a:gd name="adj1" fmla="val 45833"/>
              <a:gd name="adj2" fmla="val 1197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啊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914400" y="1828800"/>
            <a:ext cx="1066680" cy="762120"/>
          </a:xfrm>
          <a:prstGeom prst="wedgeEllipseCallout">
            <a:avLst>
              <a:gd name="adj1" fmla="val 50148"/>
              <a:gd name="adj2" fmla="val 5354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E:\My Documents\新建文件夹\12.JPG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4"/>
          <p:cNvSpPr/>
          <p:nvPr/>
        </p:nvSpPr>
        <p:spPr>
          <a:xfrm>
            <a:off x="6095880" y="304920"/>
            <a:ext cx="1143000" cy="259056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禾苗长高了，我看看去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" descr="E:\My Documents\新建文件夹\13.1.JPG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"/>
          <p:cNvSpPr/>
          <p:nvPr/>
        </p:nvSpPr>
        <p:spPr>
          <a:xfrm>
            <a:off x="1981080" y="0"/>
            <a:ext cx="2057400" cy="2209680"/>
          </a:xfrm>
          <a:prstGeom prst="wedgeRectCallout">
            <a:avLst>
              <a:gd name="adj1" fmla="val 60569"/>
              <a:gd name="adj2" fmla="val 85273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枯死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！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死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什么？为什么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9" descr="E:\My Documents\新建文件夹\13.JPG"/>
          <p:cNvPicPr/>
          <p:nvPr/>
        </p:nvPicPr>
        <p:blipFill>
          <a:blip r:embed="rId2"/>
          <a:stretch/>
        </p:blipFill>
        <p:spPr>
          <a:xfrm>
            <a:off x="0" y="0"/>
            <a:ext cx="9172440" cy="68864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6"/>
          <p:cNvSpPr/>
          <p:nvPr/>
        </p:nvSpPr>
        <p:spPr>
          <a:xfrm>
            <a:off x="533520" y="838080"/>
            <a:ext cx="838080" cy="1600200"/>
          </a:xfrm>
          <a:prstGeom prst="cloudCallout">
            <a:avLst>
              <a:gd name="adj1" fmla="val 28976"/>
              <a:gd name="adj2" fmla="val 1071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533520" y="38862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违反了事物的发展规律、急于求成，反而会误了大事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26520" y="1030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请同学们思考寓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75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E:\My Documents\新建文件夹\3.JPG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E:\My Documents\新建文件夹\4.JPG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6" descr="E:\My Documents\新建文件夹\5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86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0" y="3352680"/>
            <a:ext cx="640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3657600" y="1371600"/>
            <a:ext cx="1219320" cy="1752480"/>
          </a:xfrm>
          <a:prstGeom prst="wedgeEllipseCallout">
            <a:avLst>
              <a:gd name="adj1" fmla="val -46745"/>
              <a:gd name="adj2" fmla="val 90851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怎么没长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C:\My Documents\4.BMP"/>
          <p:cNvPicPr/>
          <p:nvPr/>
        </p:nvPicPr>
        <p:blipFill>
          <a:blip r:embed="rId2"/>
          <a:srcRect l="0" t="0" r="74" b="164"/>
          <a:stretch/>
        </p:blipFill>
        <p:spPr>
          <a:xfrm>
            <a:off x="6400800" y="4114800"/>
            <a:ext cx="2514600" cy="194796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15"/>
          <p:cNvSpPr/>
          <p:nvPr/>
        </p:nvSpPr>
        <p:spPr>
          <a:xfrm>
            <a:off x="7010280" y="533520"/>
            <a:ext cx="1828800" cy="2438280"/>
          </a:xfrm>
          <a:prstGeom prst="cloudCallout">
            <a:avLst>
              <a:gd name="adj1" fmla="val -18750"/>
              <a:gd name="adj2" fmla="val 981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得想个办法帮它们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My Documents\19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6781680" y="68580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  <a:ea typeface="宋体"/>
              </a:rPr>
              <a:t>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E:\My Documents\新建文件夹\7.JPG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3"/>
          <p:cNvSpPr/>
          <p:nvPr/>
        </p:nvSpPr>
        <p:spPr>
          <a:xfrm>
            <a:off x="4800600" y="228600"/>
            <a:ext cx="2514600" cy="13716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啊！我想到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E:\My Documents\新建文件夹\8.JPG"/>
          <p:cNvPicPr/>
          <p:nvPr/>
        </p:nvPicPr>
        <p:blipFill>
          <a:blip r:embed="rId1"/>
          <a:stretch/>
        </p:blipFill>
        <p:spPr>
          <a:xfrm>
            <a:off x="-14400" y="-14400"/>
            <a:ext cx="9172800" cy="6886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228600" y="22860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同学们观察图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农夫想出了一个什么办法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75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" descr="E:\My Documents\新建文件夹\9.2.JPG"/>
          <p:cNvPicPr/>
          <p:nvPr/>
        </p:nvPicPr>
        <p:blipFill>
          <a:blip r:embed="rId1"/>
          <a:stretch/>
        </p:blipFill>
        <p:spPr>
          <a:xfrm>
            <a:off x="5126040" y="3562200"/>
            <a:ext cx="4017960" cy="3295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609480" y="7621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农夫看着禾苗长高了，心情怎么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8"/>
          <p:cNvSpPr/>
          <p:nvPr/>
        </p:nvSpPr>
        <p:spPr>
          <a:xfrm>
            <a:off x="5715000" y="685800"/>
            <a:ext cx="2514600" cy="3048120"/>
          </a:xfrm>
          <a:prstGeom prst="cloudCallout">
            <a:avLst>
              <a:gd name="adj1" fmla="val -12060"/>
              <a:gd name="adj2" fmla="val 794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哈哈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真是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聪明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9" descr="E:\My Documents\新建文件夹\9.1.JPG"/>
          <p:cNvPicPr/>
          <p:nvPr/>
        </p:nvPicPr>
        <p:blipFill>
          <a:blip r:embed="rId2"/>
          <a:stretch/>
        </p:blipFill>
        <p:spPr>
          <a:xfrm>
            <a:off x="457200" y="1828800"/>
            <a:ext cx="3886200" cy="318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E:\My Documents\新建文件夹\10.JPG"/>
          <p:cNvPicPr/>
          <p:nvPr/>
        </p:nvPicPr>
        <p:blipFill>
          <a:blip r:embed="rId1"/>
          <a:stretch/>
        </p:blipFill>
        <p:spPr>
          <a:xfrm>
            <a:off x="-36360" y="0"/>
            <a:ext cx="9172440" cy="68882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228600" y="685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于是，他兴高采烈地跑回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6094440"/>
            <a:ext cx="562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说课ppt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3:43:54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42:29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