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F7CD-9C52-4D4D-8AA2-A57D40384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590A-36F2-4022-9F6B-CEFE4938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71E7-C16C-4B31-BA67-B0350FDC4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B2AB-E488-4EE9-A249-C3CBB674C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6AB3-B4E2-4A7E-B5FC-4CB61AC3F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3AAA-A954-4542-9DA2-69AE404D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F212-9D1C-4671-8676-505BBE8C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3B12-F490-4805-AE73-EF2CEF0E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3D10-301F-4A98-B71E-96E1E8FA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9097-2372-4C72-8E2F-C50BB28B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FDC0-DA32-47E9-957E-A801F996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E0CB-C690-4D1B-98E7-BFE1D498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D1E3-F4B7-4228-B66A-68CD0F97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7278-F0A7-4923-82B4-B1C55994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01AE-66BC-4145-8A62-53C048DB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3AE5-6B6A-4E69-A796-5CAA28F8F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8225-866D-4E7C-AFD8-8F6CAC801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5F09-25BB-460C-AB53-0DA93FF4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4428-B0CC-4742-9F57-38A9BF44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C2DC-4283-4D2C-A972-46E5BC1E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3A2D-4652-464A-B1EE-B5B1A94F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5F55-BF9B-499D-BBB3-49A48427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290C-619D-4412-B0E1-CD54208F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19E2-29C4-4564-BD69-B2127EAC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1C4F-6832-4A5C-B1BA-08200781A9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84B4-4C8F-469F-867E-87EFF9BF6EA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59D9-F652-476A-8AD3-95DC8F573A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768400" y="2060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424040" y="4292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76776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7677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839040" y="4221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839040" y="522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848040" y="2349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991680" y="4437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247400" y="5084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4128120" y="5079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6864120" y="5084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4136040" y="9079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055240" y="3540600"/>
            <a:ext cx="45468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508200" y="3933720"/>
            <a:ext cx="7290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5354280" y="3870360"/>
            <a:ext cx="72900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6965640" y="3905280"/>
            <a:ext cx="7290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923840" y="4791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6288480" y="4797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084920" y="5589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99040" y="17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047760" y="17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5351760" y="17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7655400" y="1628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234108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450180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71148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1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15:58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