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8CE-18BE-4E69-B1FA-2E52372E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951-C2EE-4086-B284-21632A43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F00-B228-4EB6-A5F5-658554F6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1C3-BC81-419D-BCC6-0B2E7DDE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41C3-F18D-424F-9B73-241452AE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EAD1-901C-4E26-9A06-38182D50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375E-CD57-47CA-9667-CF1F6A70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34EB-CA3A-44EF-AF4E-E688605E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5848-C024-4FFB-BC14-095906A7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F9CD-5EC8-4242-AAB8-70AD8975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A2B8-2B83-429E-8D56-CCA968F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401-6B26-4286-99AC-A718A34A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072A-5098-4AF7-A70E-AC2CB594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4B72-4D0B-468C-8E62-9D32BE81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30AC-724C-4C3A-BC3D-6BA8C7BF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C67C-3CCE-4C03-8A7F-EE92DF66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7A3E-072B-47CA-AB79-F7C2DCC5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E29-0DBF-48A4-819C-7F7A125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A1C-CD7F-4863-813D-AC2A0537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212-09BE-4BEE-BD86-AC62670F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5DE-BDAD-4793-8FA3-AFBC80A8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0F9-AAA0-41A5-899F-394CBA4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D6B-924D-4ACB-910E-D9ADD23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885-8C7D-4FE3-89D8-D2881B7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ch_02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0DB-9B42-405E-900A-33B116B5DAD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F10C-D976-48AB-8E0D-788D195666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8A76-B845-4ED1-B863-BD665AB83A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533520" y="1447920"/>
            <a:ext cx="8076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九单元 丰富多彩的精神生活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867280" cy="4192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447920" y="4952880"/>
            <a:ext cx="67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先进的生物技术，大大提高水稻产量。不仅解决了中国人的吃饭问题，而且被认为是解决下个世纪世界性饥饿问题的法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9200" cy="487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5334120" cy="355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532880" y="4876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人类在月球的第一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509080" y="43052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中国发射“神舟三号”宇宙飞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447920" y="603576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们对科学技术和改善生活的要求是无止境的。人们已突破了地球的束缚，开始了更广阔的宇宙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785320" y="541008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是什么使得人类的活动不再局限于地球的范围，进入到更加广袤的太空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0" y="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学习改变命运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746240" y="228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知识就是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89080" y="1371600"/>
            <a:ext cx="8854920" cy="5486400"/>
            <a:chOff x="289080" y="1371600"/>
            <a:chExt cx="8854920" cy="5486400"/>
          </a:xfrm>
        </p:grpSpPr>
        <p:sp>
          <p:nvSpPr>
            <p:cNvPr id="124" name="AutoShape 4"/>
            <p:cNvSpPr/>
            <p:nvPr/>
          </p:nvSpPr>
          <p:spPr>
            <a:xfrm>
              <a:off x="1828800" y="2752560"/>
              <a:ext cx="304920" cy="29624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7040 h 2962440"/>
                <a:gd name="textAreaBottom" fmla="*/ 2885400 h 296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"/>
            <p:cNvSpPr/>
            <p:nvPr/>
          </p:nvSpPr>
          <p:spPr>
            <a:xfrm>
              <a:off x="2339280" y="2416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外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289080" y="3962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外案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2339280" y="5468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3124080" y="2676600"/>
              <a:ext cx="45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3754440" y="2362320"/>
              <a:ext cx="132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海伦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凯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4274640" y="5486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北京郊区一农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13" descr=""/>
            <p:cNvPicPr/>
            <p:nvPr/>
          </p:nvPicPr>
          <p:blipFill>
            <a:blip r:embed="rId2"/>
            <a:stretch/>
          </p:blipFill>
          <p:spPr>
            <a:xfrm>
              <a:off x="5257800" y="1371600"/>
              <a:ext cx="23922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4" descr=""/>
            <p:cNvPicPr/>
            <p:nvPr/>
          </p:nvPicPr>
          <p:blipFill>
            <a:blip r:embed="rId3"/>
            <a:stretch/>
          </p:blipFill>
          <p:spPr>
            <a:xfrm>
              <a:off x="5791320" y="4521240"/>
              <a:ext cx="3352680" cy="233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3"/>
          <p:cNvSpPr txBox="1"/>
          <p:nvPr/>
        </p:nvSpPr>
        <p:spPr>
          <a:xfrm>
            <a:off x="3429000" y="304920"/>
            <a:ext cx="1828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人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648960" y="23623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口、人手、人力、人才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762120" y="3505320"/>
            <a:ext cx="2438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教育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084200" y="4038480"/>
            <a:ext cx="180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口－教育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口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育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98108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个人来说，学习是我们每个人开启富裕之门的钥匙；对于祖国和社会来说，它还关系到祖国的强盛和社会的繁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392160" y="3976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重的负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381000" y="4510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资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3404880" y="106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到老学到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152960" cy="5257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537600" y="3276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龄大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龄学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0" y="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学习化社会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383160" y="76212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断学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断进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609480" y="4876920"/>
            <a:ext cx="7788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享受新的文明生活，创造新的文明生活，知识需要不断更新。终身学习已成为人们生存和发展的必然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28600" y="87480"/>
            <a:ext cx="868680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教育部做出规定，进一步放宽参加高考的条件，取消年龄和婚否的限制。结果当年全国就出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以上的考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2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最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，实际录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以上学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以上的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新学年开学后，在南京医科大学，人们经常能看到一位背着书包的老人。他就是今年全国年龄最大的新生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的汪侠老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爷爷考生和爷爷学生肯定不是为了毕业后好找工作才上大学学习，那么，他们为什么要重回课堂？这给我们什么启示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47920" y="5257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享受新的文明生活，创造新的文明生活，知识需要不断更新。终身学习已成为人们生存和发展的必然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362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4572000" cy="2779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3625200" y="3657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类进入信息时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838080" y="48164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学习方式、学习手段发生巨大变化。学习突破课堂的限制，更加方便、快捷、平等、民主。这种变化使越来越多的人接受到各种教育，学习化社会的趋势日益明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45720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学习，人们不断地积累知识，改造世界，也改变着自己的生活。伴随着社会前进的脚步，人们对知识的渴求越来越强烈，因为我们已经从历史中悟出一个道理：知识改变生活，学习改变命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371600" y="152280"/>
            <a:ext cx="5943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第一课 知识就是力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302256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768760" cy="312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6116760" y="1371600"/>
            <a:ext cx="3027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04920" y="1523880"/>
            <a:ext cx="87627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学校教育中的课堂学习，你和父母还通过哪些途径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段来学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学习方式和在校学习有什么不同？父母和你有什么感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学习化社会中，学习的途径、方式、内容等与过去相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生了哪些显著的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28600" y="4648320"/>
            <a:ext cx="876312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年前发生在台湾的社会现象：台湾知识分子倡导一种新读书主义：“自己再累也要读书，工作再忙也要读书，收入再少也要买书，住处再挤也要藏书，交情再浅也要送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说说这是为什么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0" y="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知识改变生活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5543280" cy="3529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01028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洛阳纸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600640" y="4876920"/>
            <a:ext cx="29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公元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世纪晋朝  左思  《三都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11000" y="57913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没有印刷时，人类知识传播速度慢，范围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57200" y="1219320"/>
            <a:ext cx="809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初，一个美国人在一个名为“边缘”的网站提出问题，征求答案：“过去两千年最重要的发明是什么？”许多科学家、哲学家、企业家积极响应，加入这次热烈的讨论。一个英国生物学教授的回答得到很多人的赞同，他的答案是：印刷术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是否也赞同这个回答？你的理由是什么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○对于知识的继承和传播来说，印刷术的发明和应用有什么意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5715000" cy="303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36800" cy="3838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310840" y="342900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唐代雕版印刷：《金刚经》卷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56640" y="6095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古登堡（德国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7200" y="46483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印刷术的发明，尤其是印刷机的发明，书籍的出版更加快捷，知识的传播更加容易。广泛深刻地影响了人类的历史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80880" y="0"/>
            <a:ext cx="6324840" cy="5721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596320" y="609588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的诞生——人类通讯史掀开全新的篇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083000" y="228600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 贝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23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3048120" y="1600200"/>
            <a:ext cx="3276360" cy="24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5715000" y="3505320"/>
            <a:ext cx="3429000" cy="2536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191120" y="304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4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，世界第一台计算机问世，人类进入信息时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18760" y="44197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通讯工具的发展变化对人们生活的巨大影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356120" y="5867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科学技术的发展与人们生活的密切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8:2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2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