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5.gif" ContentType="image/gif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E71-2F0D-4640-B4B6-908FE3A7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2EBB-C04B-4FB6-83A2-D66A69CB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3A9-6BC1-4E5D-9309-779DAF56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FBD-0DA8-4F97-93DB-C58FFDAA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5A30-6E52-4660-A7D0-9EFC021B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7110-2AF3-4BC1-BE0F-087B550A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E7DD-F1CD-4A4E-9038-53BD8F3D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3C68-B019-450A-B191-C4A5AA6A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BC4C-52D4-4576-BD3D-D6249A41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FA58-32FC-4A2D-8C36-0C8D651E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647D-A3DD-4075-8257-C335DA3C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A6C-E9E4-4239-8A9A-C9AE9D06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67AD-65A7-492D-89AA-DAD15125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90AF-E63B-4466-9CB2-B2FD458A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F772-75DC-4B7A-A1ED-089356F1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4D43-0A04-4CCC-9AD6-B26836D0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F8CD-B4EC-4C80-BFD0-986284A7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71A-C3A0-4368-92A2-4876D630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ADE-AC5A-4E3B-A78E-F67BADB3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0B1E-1BBB-4F33-88A3-4A613A9E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386A-79B2-4EB6-9CC9-5C017762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339-FDC2-4856-B670-9FBF58B1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2569-13A3-4FB2-AEDE-138A5E3B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D27-0EBC-46A9-A700-0162BE58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9E1D-D2B3-4821-BAFB-552DC3282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2F06-6F06-4DF7-87CE-ADFC44059B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vc123.com/web/sucai/img4/586/389.gif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vc123.com/web/sucai/img4/586/371.gif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c123.com/web/img2008/14/09/0006.jp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vc123.com/web/sucai/img4/586/368.gif" TargetMode="External"/><Relationship Id="rId3" Type="http://schemas.openxmlformats.org/officeDocument/2006/relationships/image" Target="../media/image11.pn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491540_200312241911441794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2666880" y="3429000"/>
            <a:ext cx="37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黑体"/>
              </a:rPr>
              <a:t>海伦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  <a:ea typeface="黑体"/>
              </a:rPr>
              <a:t>.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黑体"/>
              </a:rPr>
              <a:t>凯勒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600200" y="990720"/>
            <a:ext cx="57913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再塑生命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762120" y="609480"/>
            <a:ext cx="3200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这几件事表现了作者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求知的热望，以及艰辛而愉快的生活经历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更表达了作者对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莎莉文老师无比的敬爱和感激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这种感情在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假如给我三天光明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中表达的更加明确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04920" y="2666880"/>
            <a:ext cx="815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838080" y="3505320"/>
            <a:ext cx="7467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838080" y="49528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8" name="Picture 7" descr="2003-08-29-3"/>
          <p:cNvPicPr/>
          <p:nvPr/>
        </p:nvPicPr>
        <p:blipFill>
          <a:blip r:embed="rId1"/>
          <a:stretch/>
        </p:blipFill>
        <p:spPr>
          <a:xfrm>
            <a:off x="4419720" y="304920"/>
            <a:ext cx="4375080" cy="62481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8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080 w 609480"/>
              <a:gd name="textAreaRight" fmla="*/ 590760 w 60948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99" y="1350"/>
                </a:lnTo>
                <a:lnTo>
                  <a:pt x="1350" y="135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99" y="20250"/>
                </a:lnTo>
                <a:lnTo>
                  <a:pt x="41799" y="135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799" y="2025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149" h="21600">
                <a:moveTo>
                  <a:pt x="21575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43149" h="21600">
                <a:moveTo>
                  <a:pt x="21575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43149" h="21600">
                <a:moveTo>
                  <a:pt x="18985" y="8210"/>
                </a:moveTo>
                <a:lnTo>
                  <a:pt x="22870" y="8210"/>
                </a:lnTo>
                <a:lnTo>
                  <a:pt x="22870" y="15245"/>
                </a:lnTo>
                <a:lnTo>
                  <a:pt x="24165" y="15245"/>
                </a:lnTo>
                <a:lnTo>
                  <a:pt x="24165" y="16173"/>
                </a:lnTo>
                <a:lnTo>
                  <a:pt x="18985" y="16173"/>
                </a:lnTo>
                <a:lnTo>
                  <a:pt x="18985" y="15245"/>
                </a:lnTo>
                <a:lnTo>
                  <a:pt x="20280" y="15245"/>
                </a:lnTo>
                <a:lnTo>
                  <a:pt x="20280" y="9120"/>
                </a:lnTo>
                <a:lnTo>
                  <a:pt x="18985" y="9120"/>
                </a:lnTo>
                <a:close/>
              </a:path>
            </a:pathLst>
          </a:custGeom>
          <a:solidFill>
            <a:srgbClr val="ffccff"/>
          </a:solidFill>
          <a:ln cap="rnd" w="324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Overnight Vigil (See Caption)"/>
          <p:cNvPicPr/>
          <p:nvPr/>
        </p:nvPicPr>
        <p:blipFill>
          <a:blip r:embed="rId2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hellen1"/>
          <p:cNvPicPr/>
          <p:nvPr/>
        </p:nvPicPr>
        <p:blipFill>
          <a:blip r:embed="rId3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2743200" y="457200"/>
            <a:ext cx="55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、关于“爱”的教育：莎莉文老师是怎样教我认识“爱”的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WordArt 5"/>
          <p:cNvSpPr txBox="1"/>
          <p:nvPr/>
        </p:nvSpPr>
        <p:spPr>
          <a:xfrm rot="20584200">
            <a:off x="533160" y="60948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808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问题探讨</a:t>
            </a:r>
            <a:endParaRPr b="0" lang="en-US" sz="1800" spc="1" strike="noStrike">
              <a:ln w="12600">
                <a:solidFill>
                  <a:srgbClr val="00808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28600" y="2286000"/>
            <a:ext cx="8305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爱是什么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爱在这里。（指着心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爱就是花的香味吗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是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爱是不是太阳？是太阳吗？爱是不是太阳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爱有点儿像太阳没出来以前天空中的云彩。你摸不到云彩，但你能感觉到雨水。你也知道，在经过一天酷热日晒之后，要是花和大地能得到雨水会是多么高兴呀！爱也是摸不着的，但你却能感到她带来的甜蜜。没有爱，你就不快活，也不想玩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5" name="Picture 11" descr="004473"/>
          <p:cNvPicPr/>
          <p:nvPr/>
        </p:nvPicPr>
        <p:blipFill>
          <a:blip r:embed="rId2"/>
          <a:stretch/>
        </p:blipFill>
        <p:spPr>
          <a:xfrm>
            <a:off x="6095880" y="1276200"/>
            <a:ext cx="2590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8"/>
          <p:cNvSpPr txBox="1"/>
          <p:nvPr/>
        </p:nvSpPr>
        <p:spPr>
          <a:xfrm rot="20584200">
            <a:off x="380520" y="68580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808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问题探讨</a:t>
            </a:r>
            <a:endParaRPr b="0" lang="en-US" sz="1800" spc="1" strike="noStrike">
              <a:ln w="12600">
                <a:solidFill>
                  <a:srgbClr val="00808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666880" y="7542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5462640" y="6094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海伦再塑生命成功的因素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 rot="21586200">
            <a:off x="2514600" y="1752480"/>
            <a:ext cx="320040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安妮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莎莉文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黑体"/>
              </a:rPr>
              <a:t>: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了解儿童心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讲究教育方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教学循序渐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善于启发引导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热爱教育对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 rot="21584400">
            <a:off x="6019920" y="1752480"/>
            <a:ext cx="266688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海伦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Arial"/>
              </a:rPr>
              <a:t>·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凯勒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勇敢、坚强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,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聪明、好学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有旺盛的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知欲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情感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富，悟性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1" name="Picture 30" descr="3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743200"/>
            <a:ext cx="2057400" cy="31240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31"/>
          <p:cNvSpPr/>
          <p:nvPr/>
        </p:nvSpPr>
        <p:spPr>
          <a:xfrm>
            <a:off x="8305920" y="6172200"/>
            <a:ext cx="380880" cy="457200"/>
          </a:xfrm>
          <a:custGeom>
            <a:avLst/>
            <a:gdLst>
              <a:gd name="textAreaLeft" fmla="*/ 23760 w 380880"/>
              <a:gd name="textAreaRight" fmla="*/ 357120 w 380880"/>
              <a:gd name="textAreaTop" fmla="*/ 23760 h 457200"/>
              <a:gd name="textAreaBottom" fmla="*/ 43344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50" y="24574"/>
                </a:lnTo>
                <a:lnTo>
                  <a:pt x="20250" y="135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350" y="24574"/>
                </a:lnTo>
                <a:lnTo>
                  <a:pt x="20250" y="2457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74"/>
                </a:lnTo>
                <a:close/>
              </a:path>
              <a:path fill="darken" w="21600" h="25924">
                <a:moveTo>
                  <a:pt x="10800" y="5918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5924">
                <a:moveTo>
                  <a:pt x="10800" y="6295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5924">
                <a:moveTo>
                  <a:pt x="8210" y="10372"/>
                </a:moveTo>
                <a:lnTo>
                  <a:pt x="12095" y="10372"/>
                </a:lnTo>
                <a:lnTo>
                  <a:pt x="12095" y="17407"/>
                </a:lnTo>
                <a:lnTo>
                  <a:pt x="13390" y="17407"/>
                </a:lnTo>
                <a:lnTo>
                  <a:pt x="13390" y="18335"/>
                </a:lnTo>
                <a:lnTo>
                  <a:pt x="8210" y="18335"/>
                </a:lnTo>
                <a:lnTo>
                  <a:pt x="8210" y="17407"/>
                </a:lnTo>
                <a:lnTo>
                  <a:pt x="9505" y="17407"/>
                </a:lnTo>
                <a:lnTo>
                  <a:pt x="9505" y="11282"/>
                </a:lnTo>
                <a:lnTo>
                  <a:pt x="8210" y="11282"/>
                </a:lnTo>
                <a:close/>
              </a:path>
            </a:pathLst>
          </a:custGeom>
          <a:solidFill>
            <a:srgbClr val="ccffcc"/>
          </a:solidFill>
          <a:ln cap="rnd" w="3240">
            <a:solidFill>
              <a:srgbClr val="cc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4408200" y="407880"/>
            <a:ext cx="34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请说说对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“再塑生命”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的理解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990720" y="1827360"/>
            <a:ext cx="457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意指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重新塑造生命、重新获得生命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”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这里指海伦的生命希望和热诚在安妮老师的教育下被唤醒，使她从寂静又黑暗的孤独世界回到了光明和快乐之中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5" name="Picture 4" descr="367"/>
          <p:cNvPicPr/>
          <p:nvPr/>
        </p:nvPicPr>
        <p:blipFill>
          <a:blip r:embed="rId1"/>
          <a:stretch/>
        </p:blipFill>
        <p:spPr>
          <a:xfrm>
            <a:off x="5257800" y="1676520"/>
            <a:ext cx="3886200" cy="4952880"/>
          </a:xfrm>
          <a:prstGeom prst="rect">
            <a:avLst/>
          </a:prstGeom>
          <a:ln w="0">
            <a:noFill/>
          </a:ln>
        </p:spPr>
      </p:pic>
      <p:sp>
        <p:nvSpPr>
          <p:cNvPr id="166" name="WordArt 5"/>
          <p:cNvSpPr txBox="1"/>
          <p:nvPr/>
        </p:nvSpPr>
        <p:spPr>
          <a:xfrm rot="20584200">
            <a:off x="380520" y="68580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808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问题探讨</a:t>
            </a:r>
            <a:endParaRPr b="0" lang="en-US" sz="1800" spc="1" strike="noStrike">
              <a:ln w="12600">
                <a:solidFill>
                  <a:srgbClr val="00808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533520"/>
              <a:gd name="textAreaBottom" fmla="*/ 50508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50" y="23853"/>
                </a:lnTo>
                <a:lnTo>
                  <a:pt x="20250" y="135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350" y="23853"/>
                </a:lnTo>
                <a:lnTo>
                  <a:pt x="20250" y="2385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3853"/>
                </a:lnTo>
                <a:close/>
              </a:path>
              <a:path fill="darken" w="21600" h="25203">
                <a:moveTo>
                  <a:pt x="10800" y="5601"/>
                </a:moveTo>
                <a:lnTo>
                  <a:pt x="13390" y="8226"/>
                </a:lnTo>
                <a:lnTo>
                  <a:pt x="13390" y="6476"/>
                </a:lnTo>
                <a:lnTo>
                  <a:pt x="15175" y="6476"/>
                </a:lnTo>
                <a:lnTo>
                  <a:pt x="15175" y="10011"/>
                </a:lnTo>
                <a:lnTo>
                  <a:pt x="17800" y="12601"/>
                </a:lnTo>
                <a:lnTo>
                  <a:pt x="16138" y="12601"/>
                </a:lnTo>
                <a:lnTo>
                  <a:pt x="16138" y="19829"/>
                </a:lnTo>
                <a:lnTo>
                  <a:pt x="5463" y="19829"/>
                </a:lnTo>
                <a:lnTo>
                  <a:pt x="5463" y="12601"/>
                </a:lnTo>
                <a:lnTo>
                  <a:pt x="3800" y="12601"/>
                </a:lnTo>
                <a:close/>
              </a:path>
              <a:path fill="darkenLess" w="21600" h="25203">
                <a:moveTo>
                  <a:pt x="13390" y="8226"/>
                </a:moveTo>
                <a:lnTo>
                  <a:pt x="13390" y="6476"/>
                </a:lnTo>
                <a:lnTo>
                  <a:pt x="15175" y="6476"/>
                </a:lnTo>
                <a:lnTo>
                  <a:pt x="15175" y="10011"/>
                </a:lnTo>
                <a:close/>
              </a:path>
              <a:path fill="darkenLess" w="21600" h="25203">
                <a:moveTo>
                  <a:pt x="9873" y="16119"/>
                </a:moveTo>
                <a:lnTo>
                  <a:pt x="11728" y="16119"/>
                </a:lnTo>
                <a:lnTo>
                  <a:pt x="11728" y="19829"/>
                </a:lnTo>
                <a:lnTo>
                  <a:pt x="16138" y="19829"/>
                </a:lnTo>
                <a:lnTo>
                  <a:pt x="16138" y="12601"/>
                </a:lnTo>
                <a:lnTo>
                  <a:pt x="5463" y="12601"/>
                </a:lnTo>
                <a:lnTo>
                  <a:pt x="5463" y="19829"/>
                </a:lnTo>
                <a:lnTo>
                  <a:pt x="9873" y="19829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cap="rnd" w="324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358920" y="0"/>
            <a:ext cx="878508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试列举古今中外那些付出艰辛努力而成功的残疾人的事迹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533520"/>
              <a:gd name="textAreaBottom" fmla="*/ 50508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50" y="23853"/>
                </a:lnTo>
                <a:lnTo>
                  <a:pt x="20250" y="135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350" y="23853"/>
                </a:lnTo>
                <a:lnTo>
                  <a:pt x="20250" y="2385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3853"/>
                </a:lnTo>
                <a:close/>
              </a:path>
              <a:path fill="darken" w="21600" h="25203">
                <a:moveTo>
                  <a:pt x="10800" y="5601"/>
                </a:moveTo>
                <a:lnTo>
                  <a:pt x="13390" y="8226"/>
                </a:lnTo>
                <a:lnTo>
                  <a:pt x="13390" y="6476"/>
                </a:lnTo>
                <a:lnTo>
                  <a:pt x="15175" y="6476"/>
                </a:lnTo>
                <a:lnTo>
                  <a:pt x="15175" y="10011"/>
                </a:lnTo>
                <a:lnTo>
                  <a:pt x="17800" y="12601"/>
                </a:lnTo>
                <a:lnTo>
                  <a:pt x="16138" y="12601"/>
                </a:lnTo>
                <a:lnTo>
                  <a:pt x="16138" y="19829"/>
                </a:lnTo>
                <a:lnTo>
                  <a:pt x="5463" y="19829"/>
                </a:lnTo>
                <a:lnTo>
                  <a:pt x="5463" y="12601"/>
                </a:lnTo>
                <a:lnTo>
                  <a:pt x="3800" y="12601"/>
                </a:lnTo>
                <a:close/>
              </a:path>
              <a:path fill="darkenLess" w="21600" h="25203">
                <a:moveTo>
                  <a:pt x="13390" y="8226"/>
                </a:moveTo>
                <a:lnTo>
                  <a:pt x="13390" y="6476"/>
                </a:lnTo>
                <a:lnTo>
                  <a:pt x="15175" y="6476"/>
                </a:lnTo>
                <a:lnTo>
                  <a:pt x="15175" y="10011"/>
                </a:lnTo>
                <a:close/>
              </a:path>
              <a:path fill="darkenLess" w="21600" h="25203">
                <a:moveTo>
                  <a:pt x="9873" y="16119"/>
                </a:moveTo>
                <a:lnTo>
                  <a:pt x="11728" y="16119"/>
                </a:lnTo>
                <a:lnTo>
                  <a:pt x="11728" y="19829"/>
                </a:lnTo>
                <a:lnTo>
                  <a:pt x="16138" y="19829"/>
                </a:lnTo>
                <a:lnTo>
                  <a:pt x="16138" y="12601"/>
                </a:lnTo>
                <a:lnTo>
                  <a:pt x="5463" y="12601"/>
                </a:lnTo>
                <a:lnTo>
                  <a:pt x="5463" y="19829"/>
                </a:lnTo>
                <a:lnTo>
                  <a:pt x="9873" y="19829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cap="rnd" w="324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619280" y="1214280"/>
            <a:ext cx="727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奥斯特洛夫斯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写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钢铁是怎样炼成的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贝多芬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谱写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命运交响曲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民间艺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阿炳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奏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二泉映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美国连任三届的总统、二次大战英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罗斯福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从小患小儿麻痹症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张海迪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自学成才；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孙膑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受膑刑，著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孙膑兵法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埃及第一任教育部长、大作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塔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侯赛因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是盲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-586800" y="1962000"/>
            <a:ext cx="20091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  <a:ea typeface="黑体"/>
              </a:rPr>
              <a:t>       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拓展延伸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8920" y="0"/>
            <a:ext cx="8785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533520"/>
              <a:gd name="textAreaBottom" fmla="*/ 50508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50" y="23853"/>
                </a:lnTo>
                <a:lnTo>
                  <a:pt x="20250" y="135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350" y="23853"/>
                </a:lnTo>
                <a:lnTo>
                  <a:pt x="20250" y="2385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350" y="1350"/>
                </a:lnTo>
                <a:lnTo>
                  <a:pt x="1350" y="23853"/>
                </a:lnTo>
                <a:close/>
              </a:path>
              <a:path fill="darken" w="21600" h="25203">
                <a:moveTo>
                  <a:pt x="10800" y="5601"/>
                </a:moveTo>
                <a:lnTo>
                  <a:pt x="13390" y="8226"/>
                </a:lnTo>
                <a:lnTo>
                  <a:pt x="13390" y="6476"/>
                </a:lnTo>
                <a:lnTo>
                  <a:pt x="15175" y="6476"/>
                </a:lnTo>
                <a:lnTo>
                  <a:pt x="15175" y="10011"/>
                </a:lnTo>
                <a:lnTo>
                  <a:pt x="17800" y="12601"/>
                </a:lnTo>
                <a:lnTo>
                  <a:pt x="16138" y="12601"/>
                </a:lnTo>
                <a:lnTo>
                  <a:pt x="16138" y="19829"/>
                </a:lnTo>
                <a:lnTo>
                  <a:pt x="5463" y="19829"/>
                </a:lnTo>
                <a:lnTo>
                  <a:pt x="5463" y="12601"/>
                </a:lnTo>
                <a:lnTo>
                  <a:pt x="3800" y="12601"/>
                </a:lnTo>
                <a:close/>
              </a:path>
              <a:path fill="darkenLess" w="21600" h="25203">
                <a:moveTo>
                  <a:pt x="13390" y="8226"/>
                </a:moveTo>
                <a:lnTo>
                  <a:pt x="13390" y="6476"/>
                </a:lnTo>
                <a:lnTo>
                  <a:pt x="15175" y="6476"/>
                </a:lnTo>
                <a:lnTo>
                  <a:pt x="15175" y="10011"/>
                </a:lnTo>
                <a:close/>
              </a:path>
              <a:path fill="darkenLess" w="21600" h="25203">
                <a:moveTo>
                  <a:pt x="9873" y="16119"/>
                </a:moveTo>
                <a:lnTo>
                  <a:pt x="11728" y="16119"/>
                </a:lnTo>
                <a:lnTo>
                  <a:pt x="11728" y="19829"/>
                </a:lnTo>
                <a:lnTo>
                  <a:pt x="16138" y="19829"/>
                </a:lnTo>
                <a:lnTo>
                  <a:pt x="16138" y="12601"/>
                </a:lnTo>
                <a:lnTo>
                  <a:pt x="5463" y="12601"/>
                </a:lnTo>
                <a:lnTo>
                  <a:pt x="5463" y="19829"/>
                </a:lnTo>
                <a:lnTo>
                  <a:pt x="9873" y="19829"/>
                </a:lnTo>
                <a:close/>
              </a:path>
            </a:pathLst>
          </a:custGeom>
          <a:solidFill>
            <a:srgbClr val="ccffff">
              <a:alpha val="50000"/>
            </a:srgbClr>
          </a:solidFill>
          <a:ln cap="rnd" w="324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619280" y="121428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960" y="692280"/>
            <a:ext cx="10947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拓展练习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332000" y="83664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请同学们以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爱是什么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为开头</a:t>
            </a:r>
            <a:r>
              <a:rPr b="1" lang="en-US" sz="48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33cc"/>
                </a:solidFill>
                <a:latin typeface="黑体"/>
                <a:ea typeface="黑体"/>
              </a:rPr>
              <a:t>写一段自己的感悟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1268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250920" y="3213000"/>
            <a:ext cx="4752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9" name="Picture 7" descr="3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590920"/>
            <a:ext cx="2971800" cy="342900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8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7800 w 685800"/>
              <a:gd name="textAreaRight" fmla="*/ 648000 w 68580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53" y="1350"/>
                </a:lnTo>
                <a:lnTo>
                  <a:pt x="1350" y="135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53" y="20250"/>
                </a:lnTo>
                <a:lnTo>
                  <a:pt x="22953" y="135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953" y="2025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303" h="21600">
                <a:moveTo>
                  <a:pt x="12152" y="3800"/>
                </a:moveTo>
                <a:lnTo>
                  <a:pt x="14742" y="6425"/>
                </a:lnTo>
                <a:lnTo>
                  <a:pt x="14742" y="4675"/>
                </a:lnTo>
                <a:lnTo>
                  <a:pt x="16527" y="4675"/>
                </a:lnTo>
                <a:lnTo>
                  <a:pt x="16527" y="8210"/>
                </a:lnTo>
                <a:lnTo>
                  <a:pt x="19152" y="10800"/>
                </a:lnTo>
                <a:lnTo>
                  <a:pt x="17489" y="10800"/>
                </a:lnTo>
                <a:lnTo>
                  <a:pt x="17489" y="18028"/>
                </a:lnTo>
                <a:lnTo>
                  <a:pt x="6814" y="18028"/>
                </a:lnTo>
                <a:lnTo>
                  <a:pt x="6814" y="10800"/>
                </a:lnTo>
                <a:lnTo>
                  <a:pt x="5152" y="10800"/>
                </a:lnTo>
                <a:close/>
              </a:path>
              <a:path fill="darkenLess" w="24303" h="21600">
                <a:moveTo>
                  <a:pt x="14742" y="6425"/>
                </a:moveTo>
                <a:lnTo>
                  <a:pt x="14742" y="4675"/>
                </a:lnTo>
                <a:lnTo>
                  <a:pt x="16527" y="4675"/>
                </a:lnTo>
                <a:lnTo>
                  <a:pt x="16527" y="8210"/>
                </a:lnTo>
                <a:close/>
              </a:path>
              <a:path fill="darkenLess" w="24303" h="21600">
                <a:moveTo>
                  <a:pt x="11224" y="14318"/>
                </a:moveTo>
                <a:lnTo>
                  <a:pt x="13079" y="14318"/>
                </a:lnTo>
                <a:lnTo>
                  <a:pt x="13079" y="18028"/>
                </a:lnTo>
                <a:lnTo>
                  <a:pt x="17489" y="18028"/>
                </a:lnTo>
                <a:lnTo>
                  <a:pt x="17489" y="10800"/>
                </a:lnTo>
                <a:lnTo>
                  <a:pt x="6814" y="10800"/>
                </a:lnTo>
                <a:lnTo>
                  <a:pt x="6814" y="18028"/>
                </a:lnTo>
                <a:lnTo>
                  <a:pt x="11224" y="18028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cap="rnd" w="324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WordArt 11"/>
          <p:cNvSpPr txBox="1"/>
          <p:nvPr/>
        </p:nvSpPr>
        <p:spPr>
          <a:xfrm>
            <a:off x="1258920" y="33336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584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教师寄语</a:t>
            </a:r>
            <a:endParaRPr b="0" lang="en-US" sz="1800" spc="1" strike="noStrike">
              <a:ln w="1584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468360" y="2276640"/>
            <a:ext cx="54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祝愿每位同学都能成为生活的强者</a:t>
            </a: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564000" y="0"/>
            <a:ext cx="532764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BK149"/>
          <p:cNvPicPr/>
          <p:nvPr/>
        </p:nvPicPr>
        <p:blipFill>
          <a:blip r:embed="rId3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BK149"/>
          <p:cNvPicPr/>
          <p:nvPr/>
        </p:nvPicPr>
        <p:blipFill>
          <a:blip r:embed="rId4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BK149"/>
          <p:cNvPicPr/>
          <p:nvPr/>
        </p:nvPicPr>
        <p:blipFill>
          <a:blip r:embed="rId5"/>
          <a:stretch/>
        </p:blipFill>
        <p:spPr>
          <a:xfrm>
            <a:off x="0" y="0"/>
            <a:ext cx="30492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BK149"/>
          <p:cNvPicPr/>
          <p:nvPr/>
        </p:nvPicPr>
        <p:blipFill>
          <a:blip r:embed="rId6"/>
          <a:stretch/>
        </p:blipFill>
        <p:spPr>
          <a:xfrm>
            <a:off x="8839080" y="0"/>
            <a:ext cx="3049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1403280" y="333360"/>
            <a:ext cx="863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黑体"/>
              </a:rPr>
              <a:t>海伦凯勒油画像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4419720" y="0"/>
            <a:ext cx="50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仿宋"/>
                <a:ea typeface="华文仿宋"/>
              </a:rPr>
              <a:t>海伦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仿宋"/>
              </a:rPr>
              <a:t>·</a:t>
            </a:r>
            <a:r>
              <a:rPr b="1" lang="zh-CN" sz="3200" spc="-1" strike="noStrike">
                <a:solidFill>
                  <a:srgbClr val="ff3300"/>
                </a:solidFill>
                <a:latin typeface="华文仿宋"/>
                <a:ea typeface="华文仿宋"/>
              </a:rPr>
              <a:t>凯勒</a:t>
            </a:r>
            <a:r>
              <a:rPr b="1" lang="en-US" sz="3200" spc="-1" strike="noStrike">
                <a:solidFill>
                  <a:srgbClr val="ff3300"/>
                </a:solidFill>
                <a:latin typeface="华文仿宋"/>
                <a:ea typeface="华文仿宋"/>
              </a:rPr>
              <a:t>(1880--1968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343400" y="533520"/>
            <a:ext cx="480060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美国著名女作家、教育家、社会活动家。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她生于亚拉巴马州，在波士顿柏金斯盲人学校莎莉文老师的协助下，学会了阅读、写作，还学会了说话，上了大学，并且成为著名的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教育家和社会活动家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主要著作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: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我生活的故事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愿我们充满信心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》《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从黑暗中出来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》《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我的后半生</a:t>
            </a:r>
            <a:r>
              <a:rPr b="1" lang="en-US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美国著名作家马克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吐温说，十九世纪出了两个杰出的人物：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一个是拿破仑；一个是海伦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·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凯勒</a:t>
            </a: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Picture 5" descr="4797"/>
          <p:cNvPicPr/>
          <p:nvPr/>
        </p:nvPicPr>
        <p:blipFill>
          <a:blip r:embed="rId1"/>
          <a:stretch/>
        </p:blipFill>
        <p:spPr>
          <a:xfrm>
            <a:off x="-53352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4140360" y="26028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她出生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9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个月，就丧失了视力和听力，而且变成哑巴。在莎莉文老师协助下，海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岁时，学会了说话，后来在剑桥女校求学。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90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年读大学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90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月，以优异成绩从大学毕业，并和莎莉文老师合作撰写自传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我的一生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此书一出，轰动文坛，她的故事不但感动和激励着千百万残疾人，也使无数的正常人为之震憾，使他们重新思考生命的意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2" name="Picture 5" descr="helen-keller"/>
          <p:cNvPicPr/>
          <p:nvPr/>
        </p:nvPicPr>
        <p:blipFill>
          <a:blip r:embed="rId2"/>
          <a:stretch/>
        </p:blipFill>
        <p:spPr>
          <a:xfrm>
            <a:off x="0" y="260280"/>
            <a:ext cx="42591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4343400" y="620640"/>
            <a:ext cx="48006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她参加各种社会活动，经常来回演讲，写了数本书。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927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年，她开始为美国盲人基金会募捐，致力于盲人事业，出版了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的宗教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一书。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93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年出版第二本自传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中流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她被人们称为美国女英雄。海伦说：“我要把别人眼睛所看见的光明当作我的光明，别人耳朵听见的音乐当成我的交响乐，别人嘴角的微笑当作我的幸福。”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Picture 4" descr="4797"/>
          <p:cNvPicPr/>
          <p:nvPr/>
        </p:nvPicPr>
        <p:blipFill>
          <a:blip r:embed="rId2"/>
          <a:stretch/>
        </p:blipFill>
        <p:spPr>
          <a:xfrm>
            <a:off x="-54144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067280" y="0"/>
            <a:ext cx="50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一个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个月就失聪失明，生活在无声无语无光的世界里，连爸爸妈妈都不认识的孩子，她坠入了一个黑暗而沉寂的世界，陷入了痛苦的深渊，几乎丧失了生活的能力和勇气。但她顽强地生活了下来，考进了著名大学，长大后又成为一名作家，用自己的生花妙笔，激励别人生存的勇气。这一奇迹的创造，当然与她自身的努力分不开，但在那段困难的日子里，走出心灵的障碍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新塑造生命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，却不能不归功于一位伟大的女性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她的老师莎利文女士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343400" y="533520"/>
            <a:ext cx="4800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7" name="Picture 4" descr="4797"/>
          <p:cNvPicPr/>
          <p:nvPr/>
        </p:nvPicPr>
        <p:blipFill>
          <a:blip r:embed="rId2"/>
          <a:stretch/>
        </p:blipFill>
        <p:spPr>
          <a:xfrm>
            <a:off x="-612720" y="0"/>
            <a:ext cx="4726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762120" y="1905120"/>
            <a:ext cx="7772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识记重点字词，掌握课文内容、思路及作者的思想感情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探讨海伦再塑生命成功的原因及其对我们的启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探讨课文题目的含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让心灵接受一次“爱”的教育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457200"/>
            <a:ext cx="3581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WordArt 7"/>
          <p:cNvSpPr txBox="1"/>
          <p:nvPr/>
        </p:nvSpPr>
        <p:spPr>
          <a:xfrm rot="21468000">
            <a:off x="762120" y="685800"/>
            <a:ext cx="274320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33cc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学习目标</a:t>
            </a:r>
            <a:endParaRPr b="0" lang="en-US" sz="1800" spc="1" strike="noStrike">
              <a:ln w="19080">
                <a:solidFill>
                  <a:srgbClr val="ff33cc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10" descr="00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3733920"/>
            <a:ext cx="2286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1268280"/>
            <a:ext cx="8136000" cy="496836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搓捻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          ）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衍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      ）   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徙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      ） 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觅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食（      ）  小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憩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       ） 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遨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游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( 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花团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簇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       ）  冥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遐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想（    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企盼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美不胜收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 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可名状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 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期期艾艾 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油然而生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 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风云突变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539640" y="620640"/>
            <a:ext cx="61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字音词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96712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692360" y="1341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uōniǎ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356000" y="1197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yǎ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7164360" y="1197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x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763640" y="17002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ì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284720" y="1700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qì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7093080" y="17733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  <a:ea typeface="黑体"/>
              </a:rPr>
              <a:t>á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o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2556000" y="220500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ù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6012000" y="220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xi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1476360" y="328464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盼望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646440" y="371628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美好的东西太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时接受不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看不过来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4626720" y="4119480"/>
            <a:ext cx="8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不能够用语言形容。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说出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2411280" y="4653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形容口吃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2195640" y="5157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形容思想感情自然而然地产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 Box 21"/>
          <p:cNvSpPr/>
          <p:nvPr/>
        </p:nvSpPr>
        <p:spPr>
          <a:xfrm>
            <a:off x="4932360" y="76500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2268360" y="558972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比喻变换动荡的局势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3646440" y="371628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美好的东西太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时接受不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看不过来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2411280" y="4653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形容口吃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2195640" y="5157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形容思想感情自然而然地产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2268360" y="558972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比喻变换动荡的局势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Text Box 33"/>
          <p:cNvSpPr/>
          <p:nvPr/>
        </p:nvSpPr>
        <p:spPr>
          <a:xfrm>
            <a:off x="3646440" y="3716280"/>
            <a:ext cx="39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美好的东西太多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时接受不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看不过来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411280" y="4653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形容口吃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2195640" y="5157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形容思想感情自然而然地产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37"/>
          <p:cNvSpPr/>
          <p:nvPr/>
        </p:nvSpPr>
        <p:spPr>
          <a:xfrm>
            <a:off x="2268360" y="558972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比喻变换动荡的局势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26"/>
          <p:cNvSpPr/>
          <p:nvPr/>
        </p:nvSpPr>
        <p:spPr>
          <a:xfrm>
            <a:off x="3124080" y="-762120"/>
            <a:ext cx="60184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、看看文章里主要写了哪几件事。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、这几件事表现了作者怎样的生活经历？表达了作者怎样的感情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Rectangle 1027"/>
          <p:cNvSpPr/>
          <p:nvPr/>
        </p:nvSpPr>
        <p:spPr>
          <a:xfrm>
            <a:off x="468360" y="2133720"/>
            <a:ext cx="5715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、写了三件事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）莎莉文老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认识具体事物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doll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water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cup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等）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）莎莉文老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教我走进大自然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（慈爱可亲、危险恐怖等）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）莎莉文老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教我认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这种抽象事物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0" name="Picture 1037" descr="36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2666880"/>
            <a:ext cx="2894040" cy="3565800"/>
          </a:xfrm>
          <a:prstGeom prst="rect">
            <a:avLst/>
          </a:prstGeom>
          <a:ln w="0">
            <a:noFill/>
          </a:ln>
        </p:spPr>
      </p:pic>
      <p:sp>
        <p:nvSpPr>
          <p:cNvPr id="141" name="WordArt 1038"/>
          <p:cNvSpPr txBox="1"/>
          <p:nvPr/>
        </p:nvSpPr>
        <p:spPr>
          <a:xfrm rot="20357400">
            <a:off x="380520" y="685440"/>
            <a:ext cx="217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2320">
                  <a:solidFill>
                    <a:srgbClr val="99cc00"/>
                  </a:solidFill>
                  <a:miter/>
                </a:ln>
                <a:solidFill>
                  <a:srgbClr val="993300"/>
                </a:solidFill>
                <a:latin typeface="宋体"/>
              </a:rPr>
              <a:t>感知内容</a:t>
            </a:r>
            <a:endParaRPr b="0" lang="en-US" sz="1800" spc="1" strike="noStrike">
              <a:ln w="22320">
                <a:solidFill>
                  <a:srgbClr val="99cc00"/>
                </a:solidFill>
                <a:miter/>
              </a:ln>
              <a:solidFill>
                <a:srgbClr val="993300"/>
              </a:solidFill>
              <a:latin typeface="宋体"/>
              <a:ea typeface="宋体"/>
            </a:endParaRPr>
          </a:p>
        </p:txBody>
      </p:sp>
      <p:sp>
        <p:nvSpPr>
          <p:cNvPr id="142" name="AutoShape 1039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3760 w 609480"/>
              <a:gd name="textAreaRight" fmla="*/ 585720 w 60948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202" y="1350"/>
                </a:lnTo>
                <a:lnTo>
                  <a:pt x="1350" y="135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202" y="20250"/>
                </a:lnTo>
                <a:lnTo>
                  <a:pt x="33202" y="135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202" y="2025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52" h="21600">
                <a:moveTo>
                  <a:pt x="17276" y="3800"/>
                </a:moveTo>
                <a:lnTo>
                  <a:pt x="19866" y="6425"/>
                </a:lnTo>
                <a:lnTo>
                  <a:pt x="19866" y="4675"/>
                </a:lnTo>
                <a:lnTo>
                  <a:pt x="21651" y="4675"/>
                </a:lnTo>
                <a:lnTo>
                  <a:pt x="21651" y="8210"/>
                </a:lnTo>
                <a:lnTo>
                  <a:pt x="24276" y="10800"/>
                </a:lnTo>
                <a:lnTo>
                  <a:pt x="22613" y="10800"/>
                </a:lnTo>
                <a:lnTo>
                  <a:pt x="22613" y="18028"/>
                </a:lnTo>
                <a:lnTo>
                  <a:pt x="11938" y="18028"/>
                </a:lnTo>
                <a:lnTo>
                  <a:pt x="11938" y="10800"/>
                </a:lnTo>
                <a:lnTo>
                  <a:pt x="10276" y="10800"/>
                </a:lnTo>
                <a:close/>
              </a:path>
              <a:path fill="darkenLess" w="34552" h="21600">
                <a:moveTo>
                  <a:pt x="19866" y="6425"/>
                </a:moveTo>
                <a:lnTo>
                  <a:pt x="19866" y="4675"/>
                </a:lnTo>
                <a:lnTo>
                  <a:pt x="21651" y="4675"/>
                </a:lnTo>
                <a:lnTo>
                  <a:pt x="21651" y="8210"/>
                </a:lnTo>
                <a:close/>
              </a:path>
              <a:path fill="darkenLess" w="34552" h="21600">
                <a:moveTo>
                  <a:pt x="16348" y="14318"/>
                </a:moveTo>
                <a:lnTo>
                  <a:pt x="18203" y="14318"/>
                </a:lnTo>
                <a:lnTo>
                  <a:pt x="18203" y="18028"/>
                </a:lnTo>
                <a:lnTo>
                  <a:pt x="22613" y="18028"/>
                </a:lnTo>
                <a:lnTo>
                  <a:pt x="22613" y="10800"/>
                </a:lnTo>
                <a:lnTo>
                  <a:pt x="11938" y="10800"/>
                </a:lnTo>
                <a:lnTo>
                  <a:pt x="11938" y="18028"/>
                </a:lnTo>
                <a:lnTo>
                  <a:pt x="16348" y="18028"/>
                </a:lnTo>
                <a:close/>
              </a:path>
            </a:pathLst>
          </a:custGeom>
          <a:solidFill>
            <a:srgbClr val="ccffff"/>
          </a:solidFill>
          <a:ln cap="rnd" w="324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8720" y="4510080"/>
            <a:ext cx="733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2:13:52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55:21Z</dcterms:modified>
  <cp:revision>1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