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383-FAA4-4BAF-9C29-79A3688A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008-8762-4D35-934B-2C087B6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FDF-8F6E-4EB4-BEA6-27532771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EDB-6D91-4627-9BC2-519C2253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6E1-1003-4517-BEF5-BC337D12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F56-EBC6-4B4A-A232-B71B14C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E7B-3A5D-48F9-A44C-1B6821B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772-9CD2-411A-A595-19FA436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7D7-F2E9-4175-8D0A-EB7D373C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606-0FE5-4153-9226-482C951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696-9619-4675-8A95-074917E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D83-371E-4CD0-9675-18AD5A3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BEE-0E22-43C4-ADE8-57E6BAF7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jpeg"/><Relationship Id="rId17" Type="http://schemas.openxmlformats.org/officeDocument/2006/relationships/hyperlink" Target="http://www.eeppt.com/moban/kejian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9360" y="12600"/>
            <a:ext cx="8100720" cy="6813360"/>
            <a:chOff x="9360" y="12600"/>
            <a:chExt cx="8100720" cy="6813360"/>
          </a:xfrm>
        </p:grpSpPr>
        <p:pic>
          <p:nvPicPr>
            <p:cNvPr id="42" name="Picture 2" descr="pic_11081"/>
            <p:cNvPicPr/>
            <p:nvPr/>
          </p:nvPicPr>
          <p:blipFill>
            <a:blip r:embed="rId1"/>
            <a:stretch/>
          </p:blipFill>
          <p:spPr>
            <a:xfrm>
              <a:off x="9360" y="12600"/>
              <a:ext cx="5228640" cy="68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248440" y="639000"/>
              <a:ext cx="2861640" cy="50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66ff"/>
                  </a:solidFill>
                  <a:latin typeface="Times New Roman"/>
                </a:rPr>
                <a:t>赠  汪  伦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5641920" y="3536640"/>
              <a:ext cx="1155240" cy="15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李    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PM_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038480" y="1447920"/>
            <a:ext cx="4572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：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（任选项两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有感情朗读、背诵古诗，并练习默写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把李白和汪伦的故事讲给家人听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课外学习一首朋友依依惜别的诗或文章，抽时间与同学交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28"/>
          <p:cNvGrpSpPr/>
          <p:nvPr/>
        </p:nvGrpSpPr>
        <p:grpSpPr>
          <a:xfrm>
            <a:off x="533520" y="380880"/>
            <a:ext cx="8229600" cy="1808280"/>
            <a:chOff x="533520" y="380880"/>
            <a:chExt cx="8229600" cy="1808280"/>
          </a:xfrm>
        </p:grpSpPr>
        <p:sp>
          <p:nvSpPr>
            <p:cNvPr id="47" name="Text Box 1026"/>
            <p:cNvSpPr/>
            <p:nvPr/>
          </p:nvSpPr>
          <p:spPr>
            <a:xfrm>
              <a:off x="533520" y="685800"/>
              <a:ext cx="822960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李白一生既喜欢做诗，也很喜欢喝酒和游历名川大山，汪伦非常仰慕他的才华，很想与他结为朋友。于是就写了一封信托人带给李白，上面写道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先生，您喜欢游览吗？这里有十里桃花；您喜欢喝酒吗？这里有万家酒店。“李白一看，呀！这么好的地方，我得去看看。可是到了那里，既不见十里桃花，也不见万家酒店，李白疑惑不解。汪伦解释说：”十里桃花是十里外有个桃花渡口，万家酒店是有个姓万的人开了一家酒店，并不是一万家酒店。“李白恍然大悟，他不但没有生气，反而被汪伦的幽默与风趣逗得哈哈大笑起来，两人一见如故。在以后的几天里，汪伦每天盛情款待李白，并带他游遍了当地的名山胜景，他们一起饮酒作诗，情趣相投，短短几天就结下了深厚的友谊。临别时，汪伦踏歌相送， 李白被他的真诚深深地感动了，即兴作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赠汪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首诗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WordArt 1027"/>
            <p:cNvSpPr txBox="1"/>
            <p:nvPr/>
          </p:nvSpPr>
          <p:spPr>
            <a:xfrm>
              <a:off x="762120" y="380880"/>
              <a:ext cx="38862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趣味故事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1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PM_01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905120" y="990720"/>
            <a:ext cx="541008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抢答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汪伦是一个的      、      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送给                 。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34340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556272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251460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396252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579132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6094440"/>
            <a:ext cx="734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说课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PM_040"/>
          <p:cNvPicPr/>
          <p:nvPr/>
        </p:nvPicPr>
        <p:blipFill>
          <a:blip r:embed="rId1"/>
          <a:stretch/>
        </p:blipFill>
        <p:spPr>
          <a:xfrm>
            <a:off x="-60948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752480" y="1066680"/>
            <a:ext cx="59436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483d3"/>
                </a:solidFill>
                <a:latin typeface="Times New Roman"/>
                <a:ea typeface="隶书"/>
              </a:rPr>
              <a:t>按要求学习古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自由朗读古诗，注意读准字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合注释，理解诗句的意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，并联起来说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提出不懂的问题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pic_11081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14400" y="1143000"/>
            <a:ext cx="358128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赠  汪  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白乘船将欲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闻岸上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14400" y="419112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桃花潭水深千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及汪伦送我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6668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3526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í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124080" y="76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609480"/>
            <a:ext cx="655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4107"/>
                </a:solidFill>
                <a:latin typeface="Times New Roman"/>
                <a:ea typeface="幼圆"/>
              </a:rPr>
              <a:t>四人小组讨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象汪伦送别李白时的心情，讨论一下如果你是汪伦，你会唱着什么歌去送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.avi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zw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590920" y="609480"/>
            <a:ext cx="655308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54107"/>
                </a:solidFill>
                <a:latin typeface="Times New Roman"/>
                <a:ea typeface="幼圆"/>
              </a:rPr>
              <a:t>拓展题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想还有哪些古诗是写朋友依依惜别的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04920" y="9360"/>
            <a:ext cx="883908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知识巩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音字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íng  (           )                       tà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ng (           )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踏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ā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赠汪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首（        ）诗，是（    ）代诗人（         ）专门写来送给（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释加横的字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汪伦送我情。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岸上踏歌声。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676520" y="190512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105520" y="18288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4:22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6:3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