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134-9700-43EE-A9D9-5DC3853B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CE8-54A5-4CA8-B23B-B0B8F14B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994-5253-4A7A-A1C2-D5F9E07A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1A2-E66C-456F-AF76-84462CEA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568-3EFE-4B22-8172-999AAA4F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929-B77D-4C87-A6FF-4724F702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177-63DE-42B4-9B01-32766174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421-6CD6-4CFA-BE83-76ACC30A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F0E-2F5A-4899-9550-762434C5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816-1D29-468D-A377-A08DC2C8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D72-6718-4A29-9FF0-E4B7E210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EFF-E36D-4A33-BFD0-59C7CBA9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WINDOWS\Desktop\aaa\bmp\框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FC00-F4F3-4C9B-9BD4-803E95F6FF2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F52E-C9F0-4C3F-9905-A710ABCA81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930240" y="339840"/>
            <a:ext cx="67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正弦定理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76"/>
              <p:cNvSpPr txBox="1"/>
              <p:nvPr/>
            </p:nvSpPr>
            <p:spPr>
              <a:xfrm>
                <a:off x="7308720" y="5270400"/>
                <a:ext cx="15256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25"/>
          <p:cNvSpPr/>
          <p:nvPr/>
        </p:nvSpPr>
        <p:spPr>
          <a:xfrm>
            <a:off x="514440" y="2571840"/>
            <a:ext cx="790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Rectangle 140"/>
          <p:cNvSpPr/>
          <p:nvPr/>
        </p:nvSpPr>
        <p:spPr>
          <a:xfrm>
            <a:off x="0" y="3292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4" name="Rectangle 173"/>
          <p:cNvSpPr/>
          <p:nvPr/>
        </p:nvSpPr>
        <p:spPr>
          <a:xfrm>
            <a:off x="380880" y="1346040"/>
            <a:ext cx="8267760" cy="26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一（传统证法）在任意斜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中：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△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边同除以            即得：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           =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752480" y="1663560"/>
                <a:ext cx="44672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495520" y="2519280"/>
                <a:ext cx="12193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705200" y="2544840"/>
                <a:ext cx="9432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019920" y="2448000"/>
                <a:ext cx="11714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658280" y="2535120"/>
                <a:ext cx="1056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0" name="Rectangle 174"/>
          <p:cNvSpPr/>
          <p:nvPr/>
        </p:nvSpPr>
        <p:spPr>
          <a:xfrm>
            <a:off x="361800" y="3635280"/>
            <a:ext cx="84394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向量证明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单位向量     垂直于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      与        、       、       的夹角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利用等式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         =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与       作内积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91" name="Group 188"/>
          <p:cNvGrpSpPr/>
          <p:nvPr/>
        </p:nvGrpSpPr>
        <p:grpSpPr>
          <a:xfrm>
            <a:off x="1344600" y="3649680"/>
            <a:ext cx="7064280" cy="1617120"/>
            <a:chOff x="1344600" y="3649680"/>
            <a:chExt cx="7064280" cy="16171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716960" y="3701880"/>
                  <a:ext cx="691920" cy="61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010200" y="3649680"/>
                  <a:ext cx="3333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170080" y="4136760"/>
                  <a:ext cx="658800" cy="57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335400" y="4159080"/>
                  <a:ext cx="691920" cy="61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1344600" y="4087440"/>
                  <a:ext cx="33012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C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529160" y="4159080"/>
                  <a:ext cx="627120" cy="61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6811920" y="4525560"/>
                  <a:ext cx="33012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820960" y="4654080"/>
                  <a:ext cx="6922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938400" y="4616280"/>
                  <a:ext cx="627120" cy="61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218200" y="4651200"/>
                  <a:ext cx="658800" cy="57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187"/>
          <p:cNvSpPr/>
          <p:nvPr/>
        </p:nvSpPr>
        <p:spPr>
          <a:xfrm>
            <a:off x="571680" y="53150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比值的意义：三角形外接圆的直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571680" y="514440"/>
            <a:ext cx="828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正弦定理适合于任何三角形。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可以证明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         =            =2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接圆半径）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每个等式可视为一个方程：知三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81280" y="1427040"/>
                <a:ext cx="94320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048280" y="146520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77120" y="1382760"/>
                <a:ext cx="1117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7" name="Rectangle 7"/>
          <p:cNvSpPr/>
          <p:nvPr/>
        </p:nvSpPr>
        <p:spPr>
          <a:xfrm>
            <a:off x="399960" y="3692520"/>
            <a:ext cx="83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已知在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714760" y="3673440"/>
                <a:ext cx="5981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9" name="Rectangle 9"/>
          <p:cNvSpPr/>
          <p:nvPr/>
        </p:nvSpPr>
        <p:spPr>
          <a:xfrm>
            <a:off x="419040" y="4416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038320" y="4308480"/>
                <a:ext cx="6486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1" name="Rectangle 11"/>
          <p:cNvSpPr/>
          <p:nvPr/>
        </p:nvSpPr>
        <p:spPr>
          <a:xfrm>
            <a:off x="552600" y="5121360"/>
            <a:ext cx="79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438200" y="4984920"/>
                <a:ext cx="6915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Text Box 12"/>
          <p:cNvSpPr/>
          <p:nvPr/>
        </p:nvSpPr>
        <p:spPr>
          <a:xfrm>
            <a:off x="838080" y="5772240"/>
            <a:ext cx="72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三角形时，注意大边对大角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19040" y="568440"/>
            <a:ext cx="826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弦定理可以用于解决已知两角和一边求另两边和一角的问题。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正弦定理也可用于解决已知两边及一边的对角，求其他边和角的问题。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正弦定理及应用于解决两类问题，注意多解情况。 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66760" y="3635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                                            三角形的情况：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22200" y="3692520"/>
                <a:ext cx="508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7" name="Picture 5" descr="..\..\..\扫描的图片\正弦定理1.BMP"/>
          <p:cNvPicPr/>
          <p:nvPr/>
        </p:nvPicPr>
        <p:blipFill>
          <a:blip r:embed="rId1"/>
          <a:stretch/>
        </p:blipFill>
        <p:spPr>
          <a:xfrm>
            <a:off x="2664000" y="4143240"/>
            <a:ext cx="6059160" cy="2372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"/>
          <p:cNvSpPr/>
          <p:nvPr/>
        </p:nvSpPr>
        <p:spPr>
          <a:xfrm>
            <a:off x="0" y="26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57200" y="43848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锐角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..\..\..\扫描的图片\正弦定理2.BMP"/>
          <p:cNvPicPr/>
          <p:nvPr/>
        </p:nvPicPr>
        <p:blipFill>
          <a:blip r:embed="rId1"/>
          <a:stretch/>
        </p:blipFill>
        <p:spPr>
          <a:xfrm>
            <a:off x="4073400" y="339840"/>
            <a:ext cx="4038840" cy="3211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399960" y="709560"/>
            <a:ext cx="407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直角或钝角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2" name="Picture 4" descr="..\..\..\扫描的图片\正弦定理1.BMP"/>
          <p:cNvPicPr/>
          <p:nvPr/>
        </p:nvPicPr>
        <p:blipFill>
          <a:blip r:embed="rId2"/>
          <a:stretch/>
        </p:blipFill>
        <p:spPr>
          <a:xfrm>
            <a:off x="301680" y="3097080"/>
            <a:ext cx="85438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28560" y="495360"/>
            <a:ext cx="78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舰在敌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西相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 nmi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处，发现敌舰正由岛沿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西的方向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nmile/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速度航行，问：我舰需要以多大速度，沿什么方向航行才能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追上敌舰？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76280" y="30528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追击速度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mile/h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76280" y="358128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：∵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由正弦定理：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∴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舰航行方向为北东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438960" y="3529080"/>
                <a:ext cx="18050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rPr>
                        <m:lit/>
                        <m:nor/>
                      </m:rPr>
                      <m:t xml:space="preserve">中，</m:t>
                    </m:r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求a和A</m:t>
                    </m:r>
                    <m:r>
                      <m:t xml:space="preserve">,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60440" y="4226040"/>
                <a:ext cx="33404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rPr>
                        <m:lit/>
                        <m:nor/>
                      </m:rPr>
                      <m:t xml:space="preserve">中，</m:t>
                    </m:r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求b和B</m:t>
                    </m:r>
                    <m:r>
                      <m:t xml:space="preserve">,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379520" y="5049720"/>
                <a:ext cx="2182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在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rPr>
                        <m:lit/>
                        <m:nor/>
                      </m:rPr>
                      <m:t xml:space="preserve">中，已知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和A</m:t>
                    </m:r>
                    <m:r>
                      <m:rPr>
                        <m:lit/>
                        <m:nor/>
                      </m:rPr>
                      <m:t xml:space="preserve">时解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896000" y="5052960"/>
                <a:ext cx="24858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33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1:41:48Z</dcterms:created>
  <dc:creator>An</dc:creator>
  <dc:description>ppt模板下载网站 http://www.eeppt.com</dc:description>
  <cp:keywords>ppt模板下载网站 http:/www.eeppt.com</cp:keywords>
  <dc:language>en-US</dc:language>
  <cp:lastModifiedBy/>
  <cp:lastPrinted>1999-12-07T13:11:14Z</cp:lastPrinted>
  <dcterms:modified xsi:type="dcterms:W3CDTF">2015-05-20T04:17:58Z</dcterms:modified>
  <cp:revision>2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