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17D-ABDF-46B6-B79D-26050AF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559-AEC1-4D40-B547-1F5C090E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010-594F-4600-80ED-84F83D2E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FAA-AE1D-4EA4-A1CB-DA77C953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596-56E8-47CB-BE39-2EC7489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849-B058-465B-9909-6EDBD8A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509-4F51-49E6-AB9A-E50B1C31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EC8-1F45-4515-AFC0-28EF02A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29A-3786-4675-AA58-F2E589C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559-32BA-4114-AE06-40C5D84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971-4AD9-4B26-AA87-095056C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D84-A905-476B-BC80-5738F66D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27C4-2879-49C5-B9AD-D0DAECF2F88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273,16,&#24187;&#28783;&#29255; 16" TargetMode="External"/><Relationship Id="rId3" Type="http://schemas.openxmlformats.org/officeDocument/2006/relationships/hyperlink" Target="273,16,&#24187;&#28783;&#29255; 16" TargetMode="External"/><Relationship Id="rId4" Type="http://schemas.openxmlformats.org/officeDocument/2006/relationships/hyperlink" Target="273,16,&#24187;&#28783;&#29255; 16" TargetMode="External"/><Relationship Id="rId5" Type="http://schemas.openxmlformats.org/officeDocument/2006/relationships/hyperlink" Target="274,17,&#24187;&#28783;&#29255; 17" TargetMode="External"/><Relationship Id="rId6" Type="http://schemas.openxmlformats.org/officeDocument/2006/relationships/hyperlink" Target="274,17,&#24187;&#28783;&#29255; 17" TargetMode="External"/><Relationship Id="rId7" Type="http://schemas.openxmlformats.org/officeDocument/2006/relationships/hyperlink" Target="274,17,&#24187;&#28783;&#29255; 17" TargetMode="External"/><Relationship Id="rId8" Type="http://schemas.openxmlformats.org/officeDocument/2006/relationships/hyperlink" Target="275,18,&#24187;&#28783;&#29255; 18" TargetMode="External"/><Relationship Id="rId9" Type="http://schemas.openxmlformats.org/officeDocument/2006/relationships/hyperlink" Target="275,18,&#24187;&#28783;&#29255; 18" TargetMode="External"/><Relationship Id="rId10" Type="http://schemas.openxmlformats.org/officeDocument/2006/relationships/hyperlink" Target="275,18,&#24187;&#28783;&#29255; 18" TargetMode="External"/><Relationship Id="rId11" Type="http://schemas.openxmlformats.org/officeDocument/2006/relationships/hyperlink" Target="276,19,&#24187;&#28783;&#29255; 19" TargetMode="External"/><Relationship Id="rId12" Type="http://schemas.openxmlformats.org/officeDocument/2006/relationships/hyperlink" Target="276,19,&#24187;&#28783;&#29255; 19" TargetMode="External"/><Relationship Id="rId13" Type="http://schemas.openxmlformats.org/officeDocument/2006/relationships/hyperlink" Target="276,19,&#24187;&#28783;&#29255; 19" TargetMode="External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25520" y="546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最小公倍数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5" name="Picture 4" descr="问号"/>
          <p:cNvPicPr/>
          <p:nvPr/>
        </p:nvPicPr>
        <p:blipFill>
          <a:blip r:embed="rId2"/>
          <a:stretch/>
        </p:blipFill>
        <p:spPr>
          <a:xfrm>
            <a:off x="1981080" y="205740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问号"/>
          <p:cNvPicPr/>
          <p:nvPr/>
        </p:nvPicPr>
        <p:blipFill>
          <a:blip r:embed="rId3"/>
          <a:stretch/>
        </p:blipFill>
        <p:spPr>
          <a:xfrm>
            <a:off x="1981080" y="2895480"/>
            <a:ext cx="731880" cy="43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问号"/>
          <p:cNvPicPr/>
          <p:nvPr/>
        </p:nvPicPr>
        <p:blipFill>
          <a:blip r:embed="rId4"/>
          <a:stretch/>
        </p:blipFill>
        <p:spPr>
          <a:xfrm>
            <a:off x="1981080" y="3733920"/>
            <a:ext cx="731880" cy="43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问号"/>
          <p:cNvPicPr/>
          <p:nvPr/>
        </p:nvPicPr>
        <p:blipFill>
          <a:blip r:embed="rId5"/>
          <a:stretch/>
        </p:blipFill>
        <p:spPr>
          <a:xfrm>
            <a:off x="1981080" y="464832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418560" y="1893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渔夫的故事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63560" y="2730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学习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63560" y="35496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探讨例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537720" y="4387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巩固小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156" name="Text Box 5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28342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160" name="Text Box 9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3" name="AutoShape 12"/>
          <p:cNvSpPr/>
          <p:nvPr/>
        </p:nvSpPr>
        <p:spPr>
          <a:xfrm>
            <a:off x="4191120" y="4419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2767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 公 倍 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11624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AutoShape 1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问号"/>
          <p:cNvPicPr/>
          <p:nvPr/>
        </p:nvPicPr>
        <p:blipFill>
          <a:blip r:embed="rId2"/>
          <a:stretch/>
        </p:blipFill>
        <p:spPr>
          <a:xfrm>
            <a:off x="868320" y="1012680"/>
            <a:ext cx="731880" cy="435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413440" y="2602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两个数有没有最大的公倍数？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14960" y="16318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因为每一个数的倍数的个数都是无限的，所以两个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公倍数的个数也是无限的．因此，两个数没有最大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0" name="Picture 5" descr="问号"/>
          <p:cNvPicPr/>
          <p:nvPr/>
        </p:nvPicPr>
        <p:blipFill>
          <a:blip r:embed="rId3"/>
          <a:stretch/>
        </p:blipFill>
        <p:spPr>
          <a:xfrm>
            <a:off x="914400" y="3200400"/>
            <a:ext cx="731880" cy="434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889280" y="318276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几个？最大的是几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30640" y="3886200"/>
            <a:ext cx="46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以内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公倍数有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4  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52320" y="4440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最大的是：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948120" y="501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果给定一个范围，最大公倍数是存在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AutoShape 10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04920" y="18252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解决问题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169236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两位好朋友每人隔不同的天数到图书馆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看书，小张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，小丁</a:t>
            </a:r>
            <a:r>
              <a:rPr b="1" lang="en-US" sz="3200" spc="-1" strike="noStrike">
                <a:solidFill>
                  <a:srgbClr val="ffffc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天去一次。一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星期一，他们两人在图书馆相遇，至少再过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</a:rPr>
              <a:t>少天他们又在图书馆相遇？相遇时是星期几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363040" y="37339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想：要求他们至少再经过多少天又相遇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就是求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c303a8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c303a8"/>
                </a:solidFill>
                <a:latin typeface="Times New Roman"/>
              </a:rPr>
              <a:t>的最小公倍数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08960" y="4846680"/>
            <a:ext cx="63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是互质数，它们的乘积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就是它们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公倍数，所以他们至少再过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天又在图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馆相遇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AutoShape 6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96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用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、宽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厘米的长方形纸片分别铺下面的两个正方形。可以正好铺满哪个正方形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105520" y="21337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72200" y="21337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105520" y="28526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172200" y="28526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5105520" y="358128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6172200" y="358128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05520" y="430992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172200" y="430992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990720" y="251460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2057400" y="251460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990720" y="3243240"/>
            <a:ext cx="107928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990720" y="3962520"/>
            <a:ext cx="107928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057400" y="3243240"/>
            <a:ext cx="1079640" cy="71928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2057400" y="3962520"/>
            <a:ext cx="1079640" cy="71892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990720" y="2514240"/>
            <a:ext cx="2669400" cy="2593800"/>
            <a:chOff x="990720" y="2514240"/>
            <a:chExt cx="2669400" cy="2593800"/>
          </a:xfrm>
        </p:grpSpPr>
        <p:sp>
          <p:nvSpPr>
            <p:cNvPr id="197" name="Rectangle 18"/>
            <p:cNvSpPr/>
            <p:nvPr/>
          </p:nvSpPr>
          <p:spPr>
            <a:xfrm>
              <a:off x="990720" y="2514600"/>
              <a:ext cx="2158920" cy="21589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Line 19"/>
            <p:cNvSpPr/>
            <p:nvPr/>
          </p:nvSpPr>
          <p:spPr>
            <a:xfrm>
              <a:off x="99072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Line 20"/>
            <p:cNvSpPr/>
            <p:nvPr/>
          </p:nvSpPr>
          <p:spPr>
            <a:xfrm>
              <a:off x="3124440" y="464832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>
              <a:off x="266724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Line 22"/>
            <p:cNvSpPr/>
            <p:nvPr/>
          </p:nvSpPr>
          <p:spPr>
            <a:xfrm flipH="1">
              <a:off x="990720" y="48769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600200" y="46483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3" name="Group 24"/>
            <p:cNvGrpSpPr/>
            <p:nvPr/>
          </p:nvGrpSpPr>
          <p:grpSpPr>
            <a:xfrm>
              <a:off x="3200400" y="2514240"/>
              <a:ext cx="459720" cy="2133720"/>
              <a:chOff x="3200400" y="2514240"/>
              <a:chExt cx="459720" cy="2133720"/>
            </a:xfrm>
          </p:grpSpPr>
          <p:sp>
            <p:nvSpPr>
              <p:cNvPr id="204" name="Line 25"/>
              <p:cNvSpPr/>
              <p:nvPr/>
            </p:nvSpPr>
            <p:spPr>
              <a:xfrm>
                <a:off x="3200400" y="46479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26"/>
              <p:cNvSpPr/>
              <p:nvPr/>
            </p:nvSpPr>
            <p:spPr>
              <a:xfrm>
                <a:off x="3200400" y="25142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27"/>
              <p:cNvSpPr/>
              <p:nvPr/>
            </p:nvSpPr>
            <p:spPr>
              <a:xfrm flipV="1">
                <a:off x="3429000" y="251424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28"/>
              <p:cNvSpPr/>
              <p:nvPr/>
            </p:nvSpPr>
            <p:spPr>
              <a:xfrm>
                <a:off x="3429000" y="4190760"/>
                <a:ext cx="0" cy="4572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Text Box 29"/>
              <p:cNvSpPr/>
              <p:nvPr/>
            </p:nvSpPr>
            <p:spPr>
              <a:xfrm rot="16200000">
                <a:off x="2706120" y="3084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30"/>
          <p:cNvGrpSpPr/>
          <p:nvPr/>
        </p:nvGrpSpPr>
        <p:grpSpPr>
          <a:xfrm>
            <a:off x="5105520" y="2133360"/>
            <a:ext cx="3355200" cy="3355560"/>
            <a:chOff x="5105520" y="2133360"/>
            <a:chExt cx="3355200" cy="3355560"/>
          </a:xfrm>
        </p:grpSpPr>
        <p:sp>
          <p:nvSpPr>
            <p:cNvPr id="210" name="Rectangle 31"/>
            <p:cNvSpPr/>
            <p:nvPr/>
          </p:nvSpPr>
          <p:spPr>
            <a:xfrm>
              <a:off x="5105520" y="2149560"/>
              <a:ext cx="2879640" cy="28796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510552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8001000" y="5029200"/>
              <a:ext cx="0" cy="457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7086600" y="5257800"/>
              <a:ext cx="9144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 flipH="1">
              <a:off x="5105520" y="5257800"/>
              <a:ext cx="8380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6096240" y="50292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16" name="Group 37"/>
            <p:cNvGrpSpPr/>
            <p:nvPr/>
          </p:nvGrpSpPr>
          <p:grpSpPr>
            <a:xfrm>
              <a:off x="8001000" y="2133360"/>
              <a:ext cx="459720" cy="2895480"/>
              <a:chOff x="8001000" y="2133360"/>
              <a:chExt cx="459720" cy="2895480"/>
            </a:xfrm>
          </p:grpSpPr>
          <p:sp>
            <p:nvSpPr>
              <p:cNvPr id="217" name="Line 38"/>
              <p:cNvSpPr/>
              <p:nvPr/>
            </p:nvSpPr>
            <p:spPr>
              <a:xfrm>
                <a:off x="8001000" y="502884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39"/>
              <p:cNvSpPr/>
              <p:nvPr/>
            </p:nvSpPr>
            <p:spPr>
              <a:xfrm>
                <a:off x="8001000" y="213336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40"/>
              <p:cNvSpPr/>
              <p:nvPr/>
            </p:nvSpPr>
            <p:spPr>
              <a:xfrm flipV="1">
                <a:off x="8229600" y="2133360"/>
                <a:ext cx="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41"/>
              <p:cNvSpPr/>
              <p:nvPr/>
            </p:nvSpPr>
            <p:spPr>
              <a:xfrm>
                <a:off x="8229600" y="4190760"/>
                <a:ext cx="0" cy="8380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Text Box 42"/>
              <p:cNvSpPr/>
              <p:nvPr/>
            </p:nvSpPr>
            <p:spPr>
              <a:xfrm rot="16200000">
                <a:off x="7507080" y="30844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8</a:t>
                </a:r>
                <a:r>
                  <a:rPr b="1" lang="zh-CN" sz="2400" spc="-1" strike="noStrike">
                    <a:solidFill>
                      <a:srgbClr val="ffffcc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Group 43"/>
          <p:cNvGrpSpPr/>
          <p:nvPr/>
        </p:nvGrpSpPr>
        <p:grpSpPr>
          <a:xfrm>
            <a:off x="533520" y="456840"/>
            <a:ext cx="1600200" cy="1892880"/>
            <a:chOff x="533520" y="456840"/>
            <a:chExt cx="1600200" cy="1892880"/>
          </a:xfrm>
        </p:grpSpPr>
        <p:sp>
          <p:nvSpPr>
            <p:cNvPr id="223" name="Rectangle 44"/>
            <p:cNvSpPr/>
            <p:nvPr/>
          </p:nvSpPr>
          <p:spPr>
            <a:xfrm>
              <a:off x="533520" y="1187640"/>
              <a:ext cx="1079640" cy="71784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685800" y="1981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 rot="16200000">
              <a:off x="1134720" y="995400"/>
              <a:ext cx="144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r>
                <a:rPr b="1" lang="zh-CN" sz="1800" spc="-1" strike="noStrike">
                  <a:solidFill>
                    <a:srgbClr val="ffffcc"/>
                  </a:solidFill>
                  <a:latin typeface="Times New Roman"/>
                </a:rPr>
                <a:t>厘米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" name="Text Box 47"/>
          <p:cNvSpPr/>
          <p:nvPr/>
        </p:nvSpPr>
        <p:spPr>
          <a:xfrm>
            <a:off x="990720" y="539280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2=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÷ 3=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7" name="Group 48"/>
          <p:cNvGrpSpPr/>
          <p:nvPr/>
        </p:nvGrpSpPr>
        <p:grpSpPr>
          <a:xfrm>
            <a:off x="5029200" y="5486400"/>
            <a:ext cx="2895480" cy="1556280"/>
            <a:chOff x="5029200" y="5486400"/>
            <a:chExt cx="2895480" cy="1556280"/>
          </a:xfrm>
        </p:grpSpPr>
        <p:sp>
          <p:nvSpPr>
            <p:cNvPr id="228" name="Text Box 49"/>
            <p:cNvSpPr/>
            <p:nvPr/>
          </p:nvSpPr>
          <p:spPr>
            <a:xfrm>
              <a:off x="5029200" y="5486400"/>
              <a:ext cx="2895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2=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8÷ 3=2         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Text Box 50"/>
            <p:cNvSpPr/>
            <p:nvPr/>
          </p:nvSpPr>
          <p:spPr>
            <a:xfrm>
              <a:off x="6248520" y="597384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52280" y="92880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2485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057400" y="944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909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6201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5627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87692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114800" y="944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352680" y="9446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6934320" y="944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8153280" y="8380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057400" y="2163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5909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352680" y="2163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11480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8769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5627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248520" y="2163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781680" y="205740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152280" y="3382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3733920" y="34592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2590920" y="944640"/>
            <a:ext cx="1600200" cy="1800720"/>
            <a:chOff x="2590920" y="944640"/>
            <a:chExt cx="1600200" cy="1800720"/>
          </a:xfrm>
        </p:grpSpPr>
        <p:sp>
          <p:nvSpPr>
            <p:cNvPr id="252" name="Text Box 24"/>
            <p:cNvSpPr/>
            <p:nvPr/>
          </p:nvSpPr>
          <p:spPr>
            <a:xfrm>
              <a:off x="335304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25909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4" name="Group 26"/>
          <p:cNvGrpSpPr/>
          <p:nvPr/>
        </p:nvGrpSpPr>
        <p:grpSpPr>
          <a:xfrm>
            <a:off x="5562720" y="944640"/>
            <a:ext cx="2895480" cy="1800720"/>
            <a:chOff x="5562720" y="944640"/>
            <a:chExt cx="2895480" cy="1800720"/>
          </a:xfrm>
        </p:grpSpPr>
        <p:sp>
          <p:nvSpPr>
            <p:cNvPr id="255" name="Text Box 27"/>
            <p:cNvSpPr/>
            <p:nvPr/>
          </p:nvSpPr>
          <p:spPr>
            <a:xfrm>
              <a:off x="76201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Text Box 28"/>
            <p:cNvSpPr/>
            <p:nvPr/>
          </p:nvSpPr>
          <p:spPr>
            <a:xfrm>
              <a:off x="556272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7" name="Group 29"/>
          <p:cNvGrpSpPr/>
          <p:nvPr/>
        </p:nvGrpSpPr>
        <p:grpSpPr>
          <a:xfrm>
            <a:off x="4114800" y="944640"/>
            <a:ext cx="2286000" cy="1800720"/>
            <a:chOff x="4114800" y="944640"/>
            <a:chExt cx="2286000" cy="1800720"/>
          </a:xfrm>
        </p:grpSpPr>
        <p:sp>
          <p:nvSpPr>
            <p:cNvPr id="258" name="Text Box 30"/>
            <p:cNvSpPr/>
            <p:nvPr/>
          </p:nvSpPr>
          <p:spPr>
            <a:xfrm>
              <a:off x="5562720" y="94464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Text Box 31"/>
            <p:cNvSpPr/>
            <p:nvPr/>
          </p:nvSpPr>
          <p:spPr>
            <a:xfrm>
              <a:off x="4114800" y="2163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" name="Text Box 32"/>
          <p:cNvSpPr/>
          <p:nvPr/>
        </p:nvSpPr>
        <p:spPr>
          <a:xfrm>
            <a:off x="302040" y="216360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1" name="Group 33"/>
          <p:cNvGrpSpPr/>
          <p:nvPr/>
        </p:nvGrpSpPr>
        <p:grpSpPr>
          <a:xfrm>
            <a:off x="3124080" y="3260880"/>
            <a:ext cx="3505320" cy="703800"/>
            <a:chOff x="3124080" y="3260880"/>
            <a:chExt cx="3505320" cy="703800"/>
          </a:xfrm>
        </p:grpSpPr>
        <p:sp>
          <p:nvSpPr>
            <p:cNvPr id="262" name="Text Box 34"/>
            <p:cNvSpPr/>
            <p:nvPr/>
          </p:nvSpPr>
          <p:spPr>
            <a:xfrm>
              <a:off x="3124080" y="33832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57800" y="32608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4" name="Text Box 36"/>
          <p:cNvSpPr/>
          <p:nvPr/>
        </p:nvSpPr>
        <p:spPr>
          <a:xfrm>
            <a:off x="152280" y="3962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3124080" y="3962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057400" y="1325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590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352680" y="132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1148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876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5627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2485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781680" y="1219320"/>
            <a:ext cx="8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52280" y="3611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公倍数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5909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556272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114800" y="132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302040" y="132552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倍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152280" y="4373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最小的公倍数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352680" y="4373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2" name="Group 17"/>
          <p:cNvGrpSpPr/>
          <p:nvPr/>
        </p:nvGrpSpPr>
        <p:grpSpPr>
          <a:xfrm>
            <a:off x="152280" y="2209680"/>
            <a:ext cx="8153280" cy="687600"/>
            <a:chOff x="152280" y="2209680"/>
            <a:chExt cx="8153280" cy="687600"/>
          </a:xfrm>
        </p:grpSpPr>
        <p:sp>
          <p:nvSpPr>
            <p:cNvPr id="283" name="Text Box 18"/>
            <p:cNvSpPr/>
            <p:nvPr/>
          </p:nvSpPr>
          <p:spPr>
            <a:xfrm>
              <a:off x="3200400" y="22096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Text Box 19"/>
            <p:cNvSpPr/>
            <p:nvPr/>
          </p:nvSpPr>
          <p:spPr>
            <a:xfrm>
              <a:off x="152280" y="231588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其中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也是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倍数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5" name="Group 20"/>
          <p:cNvGrpSpPr/>
          <p:nvPr/>
        </p:nvGrpSpPr>
        <p:grpSpPr>
          <a:xfrm>
            <a:off x="3352680" y="3505320"/>
            <a:ext cx="3505320" cy="687600"/>
            <a:chOff x="3352680" y="3505320"/>
            <a:chExt cx="3505320" cy="687600"/>
          </a:xfrm>
        </p:grpSpPr>
        <p:sp>
          <p:nvSpPr>
            <p:cNvPr id="286" name="Text Box 21"/>
            <p:cNvSpPr/>
            <p:nvPr/>
          </p:nvSpPr>
          <p:spPr>
            <a:xfrm>
              <a:off x="3962160" y="368784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Text Box 22"/>
            <p:cNvSpPr/>
            <p:nvPr/>
          </p:nvSpPr>
          <p:spPr>
            <a:xfrm>
              <a:off x="3352680" y="36115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18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3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、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4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5486400" y="350532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9" name="AutoShape 24"/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040 w 304920"/>
              <a:gd name="textAreaRight" fmla="*/ 290880 w 30492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50" y="1350"/>
                </a:lnTo>
                <a:lnTo>
                  <a:pt x="1350" y="135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50" y="20250"/>
                </a:lnTo>
                <a:lnTo>
                  <a:pt x="27450" y="135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0" y="2025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0" h="21600">
                <a:moveTo>
                  <a:pt x="7356" y="10800"/>
                </a:moveTo>
                <a:lnTo>
                  <a:pt x="21444" y="3756"/>
                </a:lnTo>
                <a:lnTo>
                  <a:pt x="21444" y="17844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u=4116810983,1442143383&amp;gp=22"/>
          <p:cNvPicPr/>
          <p:nvPr/>
        </p:nvPicPr>
        <p:blipFill>
          <a:blip r:embed="rId2"/>
          <a:stretch/>
        </p:blipFill>
        <p:spPr>
          <a:xfrm>
            <a:off x="2209680" y="304920"/>
            <a:ext cx="4191120" cy="31971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914400" y="4022640"/>
            <a:ext cx="7162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班长说：“我们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也可以分成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人一组，都正好分完。”请大家猜猜这些学生可能有几人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８９页完成做一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打开作业本完成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３５页的１、２、３、４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完成同步练习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42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中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之前完成加分，给老师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家作业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：预习书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90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页新课，完成做一做与练习十七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口算训练完成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64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（回作给组长批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631044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练习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老渔夫说：“我连续打三天要休息一天。”年轻的渔夫说：“我连续打五天要休息一天。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这位朋友在这一个月里，可以选哪些日子去看望他们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40320" y="19051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34400" y="1905120"/>
            <a:ext cx="58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940320" y="2514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54920" y="2514600"/>
            <a:ext cx="40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035000" y="320040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有的倍数有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207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49236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39880" y="3238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24332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5317920" y="190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286160" y="32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5456160" y="251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713268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5059440" y="3219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56847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818360" y="3909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其中最小的一个是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578040" y="394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347920" y="466884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几个数公有的倍数，叫做这几个数的公倍数，其中最小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个，叫做这几个数的最小公倍数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776920" y="4724280"/>
            <a:ext cx="91440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Rectangle 23"/>
          <p:cNvSpPr/>
          <p:nvPr/>
        </p:nvSpPr>
        <p:spPr>
          <a:xfrm>
            <a:off x="3962520" y="5410080"/>
            <a:ext cx="152388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AutoShape 2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890640" y="228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巩固练习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1752480"/>
            <a:ext cx="8734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公倍数有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的最小公倍数是：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819080" y="1676520"/>
            <a:ext cx="79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56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4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72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665800" y="2743200"/>
            <a:ext cx="55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cc"/>
                </a:solidFill>
                <a:latin typeface="黑体"/>
                <a:ea typeface="黑体"/>
              </a:rPr>
              <a:t>12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148200" y="3505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953960" y="3581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8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724280" y="4495680"/>
            <a:ext cx="70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黑体"/>
                <a:ea typeface="黑体"/>
              </a:rPr>
              <a:t>4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6402960" y="3581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AutoShape 10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很快找出下面的每组数的最小公倍数，并说说是怎样想的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54200" y="2513160"/>
            <a:ext cx="5857560" cy="30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2"/>
              </a:rPr>
              <a:t>3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3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4"/>
              </a:rPr>
              <a:t>7  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5"/>
              </a:rPr>
              <a:t>8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6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7"/>
              </a:rPr>
              <a:t>24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  <a:ea typeface="黑体"/>
              </a:rPr>
              <a:t>  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8"/>
              </a:rPr>
              <a:t>30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9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0"/>
              </a:rPr>
              <a:t>5            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1"/>
              </a:rPr>
              <a:t>10</a:t>
            </a:r>
            <a:r>
              <a:rPr b="0" lang="zh-CN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2"/>
              </a:rPr>
              <a:t>和</a:t>
            </a:r>
            <a:r>
              <a:rPr b="0" lang="en-US" sz="60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  <a:hlinkClick r:id="rId13"/>
              </a:rPr>
              <a:t>9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0"/>
            <a:ext cx="91440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2</a:t>
            </a: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宋体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04920" y="4114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如果两个数是互质数，那么它们的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40296"/>
                </a:solidFill>
                <a:uFillTx/>
                <a:latin typeface="Times New Roman"/>
              </a:rPr>
              <a:t>最小公倍数就这两个数的乘积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063440" y="0"/>
            <a:ext cx="6977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1e02"/>
                </a:solidFill>
                <a:latin typeface="隶书"/>
                <a:ea typeface="隶书"/>
              </a:rPr>
              <a:t>例</a:t>
            </a:r>
            <a:r>
              <a:rPr b="0" lang="en-US" sz="8800" spc="-1" strike="noStrike">
                <a:solidFill>
                  <a:srgbClr val="c41e02"/>
                </a:solidFill>
                <a:latin typeface="隶书"/>
                <a:ea typeface="隶书"/>
              </a:rPr>
              <a:t>3</a:t>
            </a:r>
            <a:r>
              <a:rPr b="1" lang="en-US" sz="96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用找倍数的方法，找出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的公倍数和它们的最小公倍数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482840" y="4300560"/>
            <a:ext cx="59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03a8"/>
                </a:solidFill>
                <a:latin typeface="Times New Roman"/>
              </a:rPr>
              <a:t>        </a:t>
            </a: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如果较大的数是较小的数的倍数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303a8"/>
                </a:solidFill>
                <a:uFillTx/>
                <a:latin typeface="Times New Roman"/>
              </a:rPr>
              <a:t>那么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0" y="1828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4"/>
          <p:cNvSpPr/>
          <p:nvPr/>
        </p:nvSpPr>
        <p:spPr>
          <a:xfrm>
            <a:off x="1193400" y="533520"/>
            <a:ext cx="14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0508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717120" y="1828800"/>
            <a:ext cx="7312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41b"/>
                </a:solidFill>
                <a:latin typeface="Times New Roman"/>
                <a:ea typeface="黑体"/>
              </a:rPr>
              <a:t> 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4" name="Picture 4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346040" y="533520"/>
            <a:ext cx="190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8 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2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AutoShape 6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758520" y="1490760"/>
            <a:ext cx="731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倍数关系，所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较大的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8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1422360" y="76212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3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这两个数是互质数，所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的最小公倍数就是它们的乘积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3" descr="NA01441_"/>
          <p:cNvPicPr/>
          <p:nvPr/>
        </p:nvPicPr>
        <p:blipFill>
          <a:blip r:embed="rId2"/>
          <a:stretch/>
        </p:blipFill>
        <p:spPr>
          <a:xfrm>
            <a:off x="7550280" y="5029200"/>
            <a:ext cx="954000" cy="1076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1193760" y="685800"/>
            <a:ext cx="17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和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9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5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533520" y="914400"/>
            <a:ext cx="8305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动脑筋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分钟发一次车。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73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和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</a:rPr>
              <a:t>96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路汽车同时出发后，再过多少时间会同时发车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581280" y="411480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629400" y="1981080"/>
            <a:ext cx="533520" cy="5335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505320" y="3048120"/>
            <a:ext cx="533160" cy="533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14400" y="3048120"/>
          <a:ext cx="7238880" cy="53316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71680"/>
                <a:gridCol w="463320"/>
                <a:gridCol w="515880"/>
                <a:gridCol w="517680"/>
                <a:gridCol w="515880"/>
                <a:gridCol w="519120"/>
                <a:gridCol w="515880"/>
              </a:tblGrid>
              <a:tr h="533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620120" y="2514600"/>
          <a:ext cx="533160" cy="53352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914400" y="3581280"/>
          <a:ext cx="533520" cy="53352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14400" y="4114800"/>
          <a:ext cx="3200400" cy="53352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914400" y="1981080"/>
          <a:ext cx="7238880" cy="53352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</a:tblGrid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宋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97"/>
          <p:cNvSpPr/>
          <p:nvPr/>
        </p:nvSpPr>
        <p:spPr>
          <a:xfrm>
            <a:off x="228600" y="744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红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，黄棋每次走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格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78" name="Text Box 5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17485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82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5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447920" y="2362320"/>
            <a:ext cx="2286000" cy="2057400"/>
            <a:chOff x="1447920" y="2362320"/>
            <a:chExt cx="2286000" cy="2057400"/>
          </a:xfrm>
        </p:grpSpPr>
        <p:sp>
          <p:nvSpPr>
            <p:cNvPr id="89" name="Text Box 5"/>
            <p:cNvSpPr/>
            <p:nvPr/>
          </p:nvSpPr>
          <p:spPr>
            <a:xfrm>
              <a:off x="20822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14479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7485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93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6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828800" y="2362320"/>
            <a:ext cx="2286000" cy="2057400"/>
            <a:chOff x="1828800" y="2362320"/>
            <a:chExt cx="2286000" cy="2057400"/>
          </a:xfrm>
        </p:grpSpPr>
        <p:sp>
          <p:nvSpPr>
            <p:cNvPr id="100" name="Text Box 5"/>
            <p:cNvSpPr/>
            <p:nvPr/>
          </p:nvSpPr>
          <p:spPr>
            <a:xfrm>
              <a:off x="24631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18288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212940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Group 8"/>
          <p:cNvGrpSpPr/>
          <p:nvPr/>
        </p:nvGrpSpPr>
        <p:grpSpPr>
          <a:xfrm>
            <a:off x="4345200" y="2324160"/>
            <a:ext cx="2923920" cy="2057400"/>
            <a:chOff x="4345200" y="2324160"/>
            <a:chExt cx="2923920" cy="2057400"/>
          </a:xfrm>
        </p:grpSpPr>
        <p:sp>
          <p:nvSpPr>
            <p:cNvPr id="104" name="Text Box 9"/>
            <p:cNvSpPr/>
            <p:nvPr/>
          </p:nvSpPr>
          <p:spPr>
            <a:xfrm>
              <a:off x="520632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457200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434520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981080" y="2362320"/>
            <a:ext cx="2286000" cy="2057400"/>
            <a:chOff x="1981080" y="2362320"/>
            <a:chExt cx="2286000" cy="2057400"/>
          </a:xfrm>
        </p:grpSpPr>
        <p:sp>
          <p:nvSpPr>
            <p:cNvPr id="111" name="Text Box 5"/>
            <p:cNvSpPr/>
            <p:nvPr/>
          </p:nvSpPr>
          <p:spPr>
            <a:xfrm>
              <a:off x="26154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9810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22816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4" name="Group 8"/>
          <p:cNvGrpSpPr/>
          <p:nvPr/>
        </p:nvGrpSpPr>
        <p:grpSpPr>
          <a:xfrm>
            <a:off x="4192920" y="2324160"/>
            <a:ext cx="2923920" cy="2057400"/>
            <a:chOff x="4192920" y="2324160"/>
            <a:chExt cx="2923920" cy="2057400"/>
          </a:xfrm>
        </p:grpSpPr>
        <p:sp>
          <p:nvSpPr>
            <p:cNvPr id="115" name="Text Box 9"/>
            <p:cNvSpPr/>
            <p:nvPr/>
          </p:nvSpPr>
          <p:spPr>
            <a:xfrm>
              <a:off x="505404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441972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419292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8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133720" y="2362320"/>
            <a:ext cx="2286000" cy="2057400"/>
            <a:chOff x="2133720" y="2362320"/>
            <a:chExt cx="2286000" cy="2057400"/>
          </a:xfrm>
        </p:grpSpPr>
        <p:sp>
          <p:nvSpPr>
            <p:cNvPr id="122" name="Text Box 5"/>
            <p:cNvSpPr/>
            <p:nvPr/>
          </p:nvSpPr>
          <p:spPr>
            <a:xfrm>
              <a:off x="276804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213372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243432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4040280" y="2324160"/>
            <a:ext cx="2923920" cy="2057400"/>
            <a:chOff x="4040280" y="2324160"/>
            <a:chExt cx="2923920" cy="2057400"/>
          </a:xfrm>
        </p:grpSpPr>
        <p:sp>
          <p:nvSpPr>
            <p:cNvPr id="126" name="Text Box 9"/>
            <p:cNvSpPr/>
            <p:nvPr/>
          </p:nvSpPr>
          <p:spPr>
            <a:xfrm>
              <a:off x="49014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42670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40402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530208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286000" y="2362320"/>
            <a:ext cx="2286000" cy="2057400"/>
            <a:chOff x="2286000" y="2362320"/>
            <a:chExt cx="2286000" cy="2057400"/>
          </a:xfrm>
        </p:grpSpPr>
        <p:sp>
          <p:nvSpPr>
            <p:cNvPr id="134" name="Text Box 5"/>
            <p:cNvSpPr/>
            <p:nvPr/>
          </p:nvSpPr>
          <p:spPr>
            <a:xfrm>
              <a:off x="292032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228600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258660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3811680" y="2324160"/>
            <a:ext cx="2923920" cy="2057400"/>
            <a:chOff x="3811680" y="2324160"/>
            <a:chExt cx="2923920" cy="2057400"/>
          </a:xfrm>
        </p:grpSpPr>
        <p:sp>
          <p:nvSpPr>
            <p:cNvPr id="138" name="Text Box 9"/>
            <p:cNvSpPr/>
            <p:nvPr/>
          </p:nvSpPr>
          <p:spPr>
            <a:xfrm>
              <a:off x="46728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0384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38116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24960" y="457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45720" y="777960"/>
            <a:ext cx="548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顺次写出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和</a:t>
            </a:r>
            <a:r>
              <a:rPr b="0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几个倍数，它们公有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倍数是哪几个？其中最小的是多少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2533680" y="2362320"/>
            <a:ext cx="2286000" cy="2057400"/>
            <a:chOff x="2533680" y="2362320"/>
            <a:chExt cx="2286000" cy="2057400"/>
          </a:xfrm>
        </p:grpSpPr>
        <p:sp>
          <p:nvSpPr>
            <p:cNvPr id="145" name="Text Box 5"/>
            <p:cNvSpPr/>
            <p:nvPr/>
          </p:nvSpPr>
          <p:spPr>
            <a:xfrm>
              <a:off x="3168000" y="23623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2533680" y="297180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2834280" y="3156120"/>
              <a:ext cx="17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8      1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buClr>
                  <a:srgbClr val="ffffcc"/>
                </a:buClr>
                <a:buFont typeface="Times New Roman"/>
                <a:buAutoNum type="arabicPlain" startAt="1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0     24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8"/>
          <p:cNvGrpSpPr/>
          <p:nvPr/>
        </p:nvGrpSpPr>
        <p:grpSpPr>
          <a:xfrm>
            <a:off x="3583080" y="2324160"/>
            <a:ext cx="2923920" cy="2057400"/>
            <a:chOff x="3583080" y="2324160"/>
            <a:chExt cx="2923920" cy="2057400"/>
          </a:xfrm>
        </p:grpSpPr>
        <p:sp>
          <p:nvSpPr>
            <p:cNvPr id="149" name="Text Box 9"/>
            <p:cNvSpPr/>
            <p:nvPr/>
          </p:nvSpPr>
          <p:spPr>
            <a:xfrm>
              <a:off x="4444200" y="232416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2400" spc="-1" strike="noStrike">
                  <a:solidFill>
                    <a:srgbClr val="ffffcc"/>
                  </a:solidFill>
                  <a:latin typeface="楷体_GB2312"/>
                  <a:ea typeface="楷体_GB2312"/>
                </a:rPr>
                <a:t>的倍数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Oval 10"/>
            <p:cNvSpPr/>
            <p:nvPr/>
          </p:nvSpPr>
          <p:spPr>
            <a:xfrm>
              <a:off x="3809880" y="2933640"/>
              <a:ext cx="2286000" cy="14479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3583080" y="316224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12      6      18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24      30      36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宋体"/>
                </a:rPr>
                <a:t>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2" name="AutoShape 12">
            <a:hlinkClick r:id="" action="ppaction://hlinkshowjump?jump=firstslide"/>
          </p:cNvPr>
          <p:cNvSpPr/>
          <p:nvPr/>
        </p:nvSpPr>
        <p:spPr>
          <a:xfrm>
            <a:off x="8229600" y="6324480"/>
            <a:ext cx="685800" cy="53352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411" y="1350"/>
                </a:lnTo>
                <a:lnTo>
                  <a:pt x="1350" y="135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411" y="20250"/>
                </a:lnTo>
                <a:lnTo>
                  <a:pt x="26411" y="135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11" y="2025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61" h="21600">
                <a:moveTo>
                  <a:pt x="13881" y="3800"/>
                </a:moveTo>
                <a:lnTo>
                  <a:pt x="16471" y="6425"/>
                </a:ln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lnTo>
                  <a:pt x="20881" y="10800"/>
                </a:lnTo>
                <a:lnTo>
                  <a:pt x="19218" y="10800"/>
                </a:lnTo>
                <a:lnTo>
                  <a:pt x="19218" y="18028"/>
                </a:lnTo>
                <a:lnTo>
                  <a:pt x="8543" y="18028"/>
                </a:lnTo>
                <a:lnTo>
                  <a:pt x="8543" y="10800"/>
                </a:lnTo>
                <a:lnTo>
                  <a:pt x="6881" y="10800"/>
                </a:lnTo>
                <a:close/>
              </a:path>
              <a:path fill="darkenLess" w="27761" h="21600">
                <a:moveTo>
                  <a:pt x="16471" y="6425"/>
                </a:moveTo>
                <a:lnTo>
                  <a:pt x="16471" y="4675"/>
                </a:lnTo>
                <a:lnTo>
                  <a:pt x="18256" y="4675"/>
                </a:lnTo>
                <a:lnTo>
                  <a:pt x="18256" y="8210"/>
                </a:lnTo>
                <a:close/>
              </a:path>
              <a:path fill="darkenLess" w="27761" h="21600">
                <a:moveTo>
                  <a:pt x="12953" y="14318"/>
                </a:moveTo>
                <a:lnTo>
                  <a:pt x="14808" y="14318"/>
                </a:lnTo>
                <a:lnTo>
                  <a:pt x="14808" y="18028"/>
                </a:lnTo>
                <a:lnTo>
                  <a:pt x="19218" y="18028"/>
                </a:lnTo>
                <a:lnTo>
                  <a:pt x="19218" y="10800"/>
                </a:lnTo>
                <a:lnTo>
                  <a:pt x="8543" y="10800"/>
                </a:lnTo>
                <a:lnTo>
                  <a:pt x="8543" y="18028"/>
                </a:lnTo>
                <a:lnTo>
                  <a:pt x="12953" y="18028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08:30:4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4:3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