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CEF-9A81-4DE9-BD29-13AB622D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6FB-9B68-48E7-B9B8-99ED32F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820-0434-4211-BAFC-F4EDF4A2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D57-814E-4037-92AA-77066611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AA2-E910-4919-8B00-86F588D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AD3-C2A6-45E6-9E5F-393A771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E06-02CD-4A2B-B7DD-D678534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523-BF26-4113-ACFB-70C3E14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5FE-95A3-4838-805B-0B7337A6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652-E85D-43DF-96F7-22E90E2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D5A-D917-4DA4-B485-25D148F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DBD-D01B-49BC-8C9B-BDCE319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3A62-BDAF-45C0-8434-3ADFFD84B062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jin.exe" TargetMode="External"/><Relationship Id="rId4" Type="http://schemas.openxmlformats.org/officeDocument/2006/relationships/image" Target="../media/image19.png"/><Relationship Id="rId5" Type="http://schemas.openxmlformats.org/officeDocument/2006/relationships/hyperlink" Target="ya.exe" TargetMode="External"/><Relationship Id="rId6" Type="http://schemas.openxmlformats.org/officeDocument/2006/relationships/image" Target="../media/image20.png"/><Relationship Id="rId7" Type="http://schemas.openxmlformats.org/officeDocument/2006/relationships/hyperlink" Target="chi.exe" TargetMode="External"/><Relationship Id="rId8" Type="http://schemas.openxmlformats.org/officeDocument/2006/relationships/image" Target="../media/image21.png"/><Relationship Id="rId9" Type="http://schemas.openxmlformats.org/officeDocument/2006/relationships/hyperlink" Target="mao.avi" TargetMode="External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715000" y="3135240"/>
            <a:ext cx="18288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ǐ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zi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尺　子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4" name="Picture 5" descr="2004320164912"/>
          <p:cNvPicPr/>
          <p:nvPr/>
        </p:nvPicPr>
        <p:blipFill>
          <a:blip r:embed="rId2"/>
          <a:stretch/>
        </p:blipFill>
        <p:spPr>
          <a:xfrm>
            <a:off x="1219320" y="1676520"/>
            <a:ext cx="230976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2004320164942"/>
          <p:cNvPicPr/>
          <p:nvPr/>
        </p:nvPicPr>
        <p:blipFill>
          <a:blip r:embed="rId3"/>
          <a:stretch/>
        </p:blipFill>
        <p:spPr>
          <a:xfrm>
            <a:off x="2232000" y="3429000"/>
            <a:ext cx="24922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410080" y="3146400"/>
            <a:ext cx="281952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zuò   yè   b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ě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作  业  本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1353960" y="1828800"/>
            <a:ext cx="3370320" cy="4191120"/>
            <a:chOff x="1353960" y="1828800"/>
            <a:chExt cx="3370320" cy="4191120"/>
          </a:xfrm>
        </p:grpSpPr>
        <p:pic>
          <p:nvPicPr>
            <p:cNvPr id="80" name="Picture 3" descr="作业本 copy"/>
            <p:cNvPicPr/>
            <p:nvPr/>
          </p:nvPicPr>
          <p:blipFill>
            <a:blip r:embed="rId2"/>
            <a:stretch/>
          </p:blipFill>
          <p:spPr>
            <a:xfrm>
              <a:off x="1353960" y="1828800"/>
              <a:ext cx="33703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"/>
            <p:cNvSpPr/>
            <p:nvPr/>
          </p:nvSpPr>
          <p:spPr>
            <a:xfrm rot="21347400">
              <a:off x="1870920" y="4114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作 业 本</a:t>
              </a:r>
              <a:endParaRPr b="0" lang="en-US" sz="2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pic>
        <p:nvPicPr>
          <p:cNvPr id="82" name="Picture 6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5105520" y="914400"/>
            <a:ext cx="3352680" cy="1676520"/>
          </a:xfrm>
          <a:prstGeom prst="cloudCallout">
            <a:avLst>
              <a:gd name="adj1" fmla="val -100472"/>
              <a:gd name="adj2" fmla="val 46212"/>
            </a:avLst>
          </a:prstGeom>
          <a:solidFill>
            <a:srgbClr val="ffcdcd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选商场里有哪些商品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0120" y="2522520"/>
            <a:ext cx="85118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Book Antiqua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l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de  d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d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　选　 商　　场　 里 的　东　西　真　多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086120" y="3962520"/>
            <a:ext cx="73288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zì   xu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  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c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l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de   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xi      z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ē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  du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　选　 商　　场　 里 的　东 西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/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真　多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767200" y="461808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东 西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7" name="Picture 13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80880" y="1913040"/>
            <a:ext cx="861084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m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huò j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sh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le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x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我 和 妈 妈 从　货　架　上　 选　了 一 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p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 k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e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yò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n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ě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k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食　品。 收　款　的 阿 姨 用　电　脑　 很　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ch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ū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le y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e q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算　出　了 要 付 的  钱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267080" y="-76320"/>
            <a:ext cx="3962520" cy="2514600"/>
          </a:xfrm>
          <a:prstGeom prst="cloudCallout">
            <a:avLst>
              <a:gd name="adj1" fmla="val -79245"/>
              <a:gd name="adj2" fmla="val 47981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在自选商场里购物与别的地方有什么不同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343400" y="0"/>
            <a:ext cx="4191120" cy="2432160"/>
          </a:xfrm>
          <a:prstGeom prst="cloudCallout">
            <a:avLst>
              <a:gd name="adj1" fmla="val -50000"/>
              <a:gd name="adj2" fmla="val 102152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在插图上指出货架、收款台、营业员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1" name="Picture 9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32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33"/>
          <p:cNvSpPr/>
          <p:nvPr/>
        </p:nvSpPr>
        <p:spPr>
          <a:xfrm>
            <a:off x="380880" y="1913040"/>
            <a:ext cx="861084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ò j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sh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le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我 和 妈 妈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从 货　架 上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选　了 一 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p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  k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e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yò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n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 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ě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k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食　品。收　 款　的 阿 姨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 电　脑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很 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ch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ū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le y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e q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算　出　了 要  付 的 钱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533520" y="1752480"/>
            <a:ext cx="853416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 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m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   d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在 自　选　 商　　场　　买　 东　西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f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bi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真　 方　 便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038480" y="4464000"/>
            <a:ext cx="4038840" cy="1860480"/>
          </a:xfrm>
          <a:prstGeom prst="cloudCallout">
            <a:avLst>
              <a:gd name="adj1" fmla="val -59629"/>
              <a:gd name="adj2" fmla="val -58106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你是从哪些词句中体会出购物方便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Picture 12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xyx"/>
          <p:cNvPicPr/>
          <p:nvPr/>
        </p:nvPicPr>
        <p:blipFill>
          <a:blip r:embed="rId2"/>
          <a:stretch/>
        </p:blipFill>
        <p:spPr>
          <a:xfrm>
            <a:off x="1295280" y="1127160"/>
            <a:ext cx="1978200" cy="5493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1523880" y="2057400"/>
            <a:ext cx="6095880" cy="3992400"/>
            <a:chOff x="1523880" y="2057400"/>
            <a:chExt cx="6095880" cy="3992400"/>
          </a:xfrm>
        </p:grpSpPr>
        <p:pic>
          <p:nvPicPr>
            <p:cNvPr id="99" name="Picture 1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23880" y="2057400"/>
              <a:ext cx="289548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4191120"/>
              <a:ext cx="2895480" cy="18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24280" y="2057400"/>
              <a:ext cx="28954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00600" y="4191120"/>
              <a:ext cx="281916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2333520" y="516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食盐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04" name="Group 16"/>
          <p:cNvGrpSpPr/>
          <p:nvPr/>
        </p:nvGrpSpPr>
        <p:grpSpPr>
          <a:xfrm>
            <a:off x="1066680" y="1905120"/>
            <a:ext cx="6781680" cy="3796920"/>
            <a:chOff x="1066680" y="1905120"/>
            <a:chExt cx="6781680" cy="3796920"/>
          </a:xfrm>
        </p:grpSpPr>
        <p:pic>
          <p:nvPicPr>
            <p:cNvPr id="105" name="Picture 9" descr="zsxw0625-8"/>
            <p:cNvPicPr/>
            <p:nvPr/>
          </p:nvPicPr>
          <p:blipFill>
            <a:blip r:embed="rId2"/>
            <a:stretch/>
          </p:blipFill>
          <p:spPr>
            <a:xfrm>
              <a:off x="1066680" y="1905120"/>
              <a:ext cx="3178080" cy="30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1981080" y="5181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（　　）　　　　　　 （　　）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pic>
          <p:nvPicPr>
            <p:cNvPr id="107" name="Picture 12" descr="水壶"/>
            <p:cNvPicPr/>
            <p:nvPr/>
          </p:nvPicPr>
          <p:blipFill>
            <a:blip r:embed="rId3"/>
            <a:stretch/>
          </p:blipFill>
          <p:spPr>
            <a:xfrm>
              <a:off x="4800600" y="1905120"/>
              <a:ext cx="304776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Rectangle 13"/>
          <p:cNvSpPr/>
          <p:nvPr/>
        </p:nvSpPr>
        <p:spPr>
          <a:xfrm>
            <a:off x="618120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水壶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9" name="Picture 17" descr="zyz"/>
          <p:cNvPicPr/>
          <p:nvPr/>
        </p:nvPicPr>
        <p:blipFill>
          <a:blip r:embed="rId4"/>
          <a:stretch/>
        </p:blipFill>
        <p:spPr>
          <a:xfrm>
            <a:off x="1295280" y="1093680"/>
            <a:ext cx="19321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1"/>
          <p:cNvSpPr/>
          <p:nvPr/>
        </p:nvSpPr>
        <p:spPr>
          <a:xfrm>
            <a:off x="1585800" y="2924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3192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巧克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95260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饼干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914400" y="2286000"/>
            <a:ext cx="7772400" cy="3375000"/>
            <a:chOff x="914400" y="2286000"/>
            <a:chExt cx="7772400" cy="3375000"/>
          </a:xfrm>
        </p:grpSpPr>
        <p:pic>
          <p:nvPicPr>
            <p:cNvPr id="114" name="Picture 2" descr="巧克力"/>
            <p:cNvPicPr/>
            <p:nvPr/>
          </p:nvPicPr>
          <p:blipFill>
            <a:blip r:embed="rId15"/>
            <a:stretch/>
          </p:blipFill>
          <p:spPr>
            <a:xfrm>
              <a:off x="914400" y="22860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8"/>
            <p:cNvSpPr/>
            <p:nvPr/>
          </p:nvSpPr>
          <p:spPr>
            <a:xfrm>
              <a:off x="1686600" y="5140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（　　　）　　　　　　 （　　）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pic>
          <p:nvPicPr>
            <p:cNvPr id="116" name="Picture 10" descr="饼干"/>
            <p:cNvPicPr/>
            <p:nvPr/>
          </p:nvPicPr>
          <p:blipFill>
            <a:blip r:embed="rId16"/>
            <a:stretch/>
          </p:blipFill>
          <p:spPr>
            <a:xfrm>
              <a:off x="4444920" y="2287440"/>
              <a:ext cx="4241880" cy="262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2" descr="zyz"/>
          <p:cNvPicPr/>
          <p:nvPr/>
        </p:nvPicPr>
        <p:blipFill>
          <a:blip r:embed="rId17"/>
          <a:stretch/>
        </p:blipFill>
        <p:spPr>
          <a:xfrm>
            <a:off x="1295280" y="1093680"/>
            <a:ext cx="1932120" cy="582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3419640" y="83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66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7988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065"/>
          <p:cNvSpPr/>
          <p:nvPr/>
        </p:nvSpPr>
        <p:spPr>
          <a:xfrm>
            <a:off x="5410080" y="1447920"/>
            <a:ext cx="3505320" cy="2895480"/>
          </a:xfrm>
          <a:prstGeom prst="cloudCallout">
            <a:avLst>
              <a:gd name="adj1" fmla="val -52763"/>
              <a:gd name="adj2" fmla="val 71490"/>
            </a:avLst>
          </a:prstGeom>
          <a:solidFill>
            <a:srgbClr val="ffffff"/>
          </a:solidFill>
          <a:ln cap="rnd" w="284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去过自选商场吗？你看见了、买了哪些商品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3" name="Picture 2067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面包"/>
          <p:cNvPicPr/>
          <p:nvPr/>
        </p:nvPicPr>
        <p:blipFill>
          <a:blip r:embed="rId2"/>
          <a:stretch/>
        </p:blipFill>
        <p:spPr>
          <a:xfrm>
            <a:off x="623880" y="1893960"/>
            <a:ext cx="5167440" cy="366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5867280" y="3043080"/>
            <a:ext cx="2743200" cy="1301400"/>
            <a:chOff x="5867280" y="3043080"/>
            <a:chExt cx="2743200" cy="1301400"/>
          </a:xfrm>
        </p:grpSpPr>
        <p:sp>
          <p:nvSpPr>
            <p:cNvPr id="47" name="Rectangle 9"/>
            <p:cNvSpPr/>
            <p:nvPr/>
          </p:nvSpPr>
          <p:spPr>
            <a:xfrm>
              <a:off x="5867280" y="3043080"/>
              <a:ext cx="27432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mi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  <a:ea typeface="楷体_GB2312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n    b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</a:rPr>
                <a:t>ā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o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48" name="Text Box 30"/>
            <p:cNvSpPr/>
            <p:nvPr/>
          </p:nvSpPr>
          <p:spPr>
            <a:xfrm>
              <a:off x="6117480" y="3482640"/>
              <a:ext cx="182664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面    包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xsnn"/>
          <p:cNvPicPr/>
          <p:nvPr/>
        </p:nvPicPr>
        <p:blipFill>
          <a:blip r:embed="rId2"/>
          <a:stretch/>
        </p:blipFill>
        <p:spPr>
          <a:xfrm>
            <a:off x="2057400" y="1647720"/>
            <a:ext cx="5334120" cy="3316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"/>
          <p:cNvGrpSpPr/>
          <p:nvPr/>
        </p:nvGrpSpPr>
        <p:grpSpPr>
          <a:xfrm>
            <a:off x="3581280" y="4994280"/>
            <a:ext cx="2057400" cy="1255680"/>
            <a:chOff x="3581280" y="4994280"/>
            <a:chExt cx="2057400" cy="1255680"/>
          </a:xfrm>
        </p:grpSpPr>
        <p:sp>
          <p:nvSpPr>
            <p:cNvPr id="52" name="Rectangle 2"/>
            <p:cNvSpPr/>
            <p:nvPr/>
          </p:nvSpPr>
          <p:spPr>
            <a:xfrm>
              <a:off x="3581280" y="4994280"/>
              <a:ext cx="20574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niú   n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</a:rPr>
                <a:t>ǎ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i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837600" y="5388120"/>
              <a:ext cx="127800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牛  奶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ruwei-chendianguo"/>
          <p:cNvPicPr/>
          <p:nvPr/>
        </p:nvPicPr>
        <p:blipFill>
          <a:blip r:embed="rId2"/>
          <a:stretch/>
        </p:blipFill>
        <p:spPr>
          <a:xfrm>
            <a:off x="1314360" y="175248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9"/>
          <p:cNvGrpSpPr/>
          <p:nvPr/>
        </p:nvGrpSpPr>
        <p:grpSpPr>
          <a:xfrm>
            <a:off x="5029200" y="3016080"/>
            <a:ext cx="3809880" cy="1328400"/>
            <a:chOff x="5029200" y="3016080"/>
            <a:chExt cx="3809880" cy="1328400"/>
          </a:xfrm>
        </p:grpSpPr>
        <p:sp>
          <p:nvSpPr>
            <p:cNvPr id="57" name="Rectangle 2"/>
            <p:cNvSpPr/>
            <p:nvPr/>
          </p:nvSpPr>
          <p:spPr>
            <a:xfrm>
              <a:off x="5029200" y="3016080"/>
              <a:ext cx="38098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hu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ǒ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   tu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ǐ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ch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  <a:ea typeface="楷体_GB2312"/>
                </a:rPr>
                <a:t>á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ng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 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5387760" y="370188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火   腿   肠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172200" y="3403440"/>
            <a:ext cx="205740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牙   膏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0" name="Picture 6" descr="t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295280" y="1924200"/>
            <a:ext cx="4572000" cy="379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867280" y="3070080"/>
            <a:ext cx="22100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o   j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毛  巾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3" name="Picture 7" descr="5170980"/>
          <p:cNvPicPr/>
          <p:nvPr/>
        </p:nvPicPr>
        <p:blipFill>
          <a:blip r:embed="rId2"/>
          <a:stretch/>
        </p:blipFill>
        <p:spPr>
          <a:xfrm>
            <a:off x="1295280" y="2133720"/>
            <a:ext cx="4191120" cy="345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638680" y="2819520"/>
            <a:ext cx="29718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ǐ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y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 f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ě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洗　衣　 粉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6" name="Picture 5" descr="20"/>
          <p:cNvPicPr/>
          <p:nvPr/>
        </p:nvPicPr>
        <p:blipFill>
          <a:blip r:embed="rId2"/>
          <a:stretch/>
        </p:blipFill>
        <p:spPr>
          <a:xfrm>
            <a:off x="2109960" y="2076480"/>
            <a:ext cx="2462040" cy="417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product_1042622925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26"/>
          <p:cNvSpPr/>
          <p:nvPr/>
        </p:nvSpPr>
        <p:spPr>
          <a:xfrm>
            <a:off x="5638680" y="2886120"/>
            <a:ext cx="29718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qi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　   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ǐ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铅　  笔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0" name="Picture 1029" descr="产品图片"/>
          <p:cNvPicPr/>
          <p:nvPr/>
        </p:nvPicPr>
        <p:blipFill>
          <a:blip r:embed="rId2"/>
          <a:stretch/>
        </p:blipFill>
        <p:spPr>
          <a:xfrm>
            <a:off x="457200" y="1676520"/>
            <a:ext cx="4800600" cy="24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1" descr="产品图片"/>
          <p:cNvPicPr/>
          <p:nvPr/>
        </p:nvPicPr>
        <p:blipFill>
          <a:blip r:embed="rId3"/>
          <a:stretch/>
        </p:blipFill>
        <p:spPr>
          <a:xfrm>
            <a:off x="1447920" y="37339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32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1:15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