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27E-B1D9-491C-995B-14C32493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CE2-D0A3-4C66-8BBE-F2B2164E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03E-FEA5-440E-8A08-54D6430C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723-01F1-45C0-9A48-CB550909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C43-936C-4A77-BFB1-3FB8142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AEF-B653-4253-99B3-A74D7EB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76F-6942-4397-B1BD-D6746D4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63B-43C0-425F-B8A3-97C53F5F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B9A-C9F1-4203-9AC9-0DF5E11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12F-383A-4640-8AFB-4D14C68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C72-B85E-4DFB-B578-540743D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47B-0CF1-425A-B5ED-19526898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9C5-5B24-45CB-9859-AE0BC605A5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67F-F920-40E0-BBF9-62D165A847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57120" y="57168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职业生涯规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857760" y="2357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规划精彩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打造锦绣前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2214720" y="2858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毕业后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57160" y="15717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深造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争取在国内本专业排名前列的高校深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072120" y="314316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3571920" y="4114800"/>
            <a:ext cx="2743200" cy="2457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928800" y="307188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工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进入企业单位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785960" y="157176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2060"/>
                </a:solidFill>
                <a:latin typeface="Calibri"/>
                <a:ea typeface="Calibri"/>
              </a:rPr>
              <a:t>Thank you</a:t>
            </a:r>
            <a:r>
              <a:rPr b="1" i="1" lang="zh-CN" sz="8000" spc="-1" strike="noStrike">
                <a:solidFill>
                  <a:srgbClr val="002060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500800" y="32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643720" cy="6143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1428840" y="1928880"/>
            <a:ext cx="721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姓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家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学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专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班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座右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6643800" y="19288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9"/>
          <p:cNvSpPr/>
          <p:nvPr/>
        </p:nvSpPr>
        <p:spPr>
          <a:xfrm flipH="1">
            <a:off x="5000040" y="1785960"/>
            <a:ext cx="129996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9"/>
          <p:cNvSpPr/>
          <p:nvPr/>
        </p:nvSpPr>
        <p:spPr>
          <a:xfrm flipH="1">
            <a:off x="7143840" y="2928960"/>
            <a:ext cx="128592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9"/>
          <p:cNvSpPr/>
          <p:nvPr/>
        </p:nvSpPr>
        <p:spPr>
          <a:xfrm flipH="1">
            <a:off x="7286760" y="4143240"/>
            <a:ext cx="164304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9"/>
          <p:cNvSpPr/>
          <p:nvPr/>
        </p:nvSpPr>
        <p:spPr>
          <a:xfrm flipH="1">
            <a:off x="6715080" y="5572080"/>
            <a:ext cx="164304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625000" y="2499120"/>
            <a:ext cx="18000" cy="64368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3"/>
          <p:cNvSpPr/>
          <p:nvPr/>
        </p:nvSpPr>
        <p:spPr>
          <a:xfrm flipH="1">
            <a:off x="6381360" y="3499560"/>
            <a:ext cx="642240" cy="2858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H="1" flipV="1">
            <a:off x="6287040" y="4500000"/>
            <a:ext cx="786240" cy="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 flipH="1" flipV="1">
            <a:off x="5713920" y="5357520"/>
            <a:ext cx="714960" cy="3578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9"/>
          <p:cNvSpPr/>
          <p:nvPr/>
        </p:nvSpPr>
        <p:spPr>
          <a:xfrm flipH="1">
            <a:off x="1713960" y="257184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92d050">
              <a:alpha val="87000"/>
            </a:srgbClr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9"/>
          <p:cNvSpPr/>
          <p:nvPr/>
        </p:nvSpPr>
        <p:spPr>
          <a:xfrm flipH="1">
            <a:off x="1571040" y="371484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92d050">
              <a:alpha val="8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9"/>
          <p:cNvSpPr/>
          <p:nvPr/>
        </p:nvSpPr>
        <p:spPr>
          <a:xfrm flipH="1">
            <a:off x="1500120" y="4857840"/>
            <a:ext cx="1300320" cy="587160"/>
          </a:xfrm>
          <a:prstGeom prst="roundRect">
            <a:avLst>
              <a:gd name="adj" fmla="val 50000"/>
            </a:avLst>
          </a:prstGeom>
          <a:solidFill>
            <a:srgbClr val="92d050">
              <a:alpha val="8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 flipH="1">
            <a:off x="2428200" y="5786280"/>
            <a:ext cx="1299960" cy="587520"/>
          </a:xfrm>
          <a:prstGeom prst="roundRect">
            <a:avLst>
              <a:gd name="adj" fmla="val 50000"/>
            </a:avLst>
          </a:prstGeom>
          <a:solidFill>
            <a:srgbClr val="92d050">
              <a:alpha val="8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3213720" y="3000960"/>
            <a:ext cx="571680" cy="28476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V="1">
            <a:off x="3928320" y="5501160"/>
            <a:ext cx="571680" cy="42768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3142800" y="5000040"/>
            <a:ext cx="642600" cy="14220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2928960" y="4071960"/>
            <a:ext cx="642960" cy="21420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1994040" y="2643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自我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57"/>
          <p:cNvSpPr txBox="1"/>
          <p:nvPr/>
        </p:nvSpPr>
        <p:spPr>
          <a:xfrm rot="5400000">
            <a:off x="3749760" y="3821760"/>
            <a:ext cx="1214640" cy="857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分析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67" name="WordArt 56"/>
          <p:cNvSpPr txBox="1"/>
          <p:nvPr/>
        </p:nvSpPr>
        <p:spPr>
          <a:xfrm>
            <a:off x="2857680" y="285840"/>
            <a:ext cx="49291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职业规划目录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  <p:sp>
        <p:nvSpPr>
          <p:cNvPr id="68" name="WordArt 58"/>
          <p:cNvSpPr txBox="1"/>
          <p:nvPr/>
        </p:nvSpPr>
        <p:spPr>
          <a:xfrm rot="5400000">
            <a:off x="4914720" y="3871800"/>
            <a:ext cx="12193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规划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922760" y="3857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家庭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1779840" y="5000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学校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2500200" y="5929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就业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5280120" y="19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短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7428600" y="3071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长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7534440" y="4286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大学四年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7046280" y="5715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毕业后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3714840" y="642960"/>
            <a:ext cx="1839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25"/>
          <p:cNvSpPr txBox="1"/>
          <p:nvPr/>
        </p:nvSpPr>
        <p:spPr>
          <a:xfrm>
            <a:off x="3357720" y="50004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性格分析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214200" y="4287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家庭环境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1500120" y="19288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济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10"/>
          <p:cNvSpPr/>
          <p:nvPr/>
        </p:nvSpPr>
        <p:spPr>
          <a:xfrm>
            <a:off x="571680" y="4429080"/>
            <a:ext cx="857160" cy="48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428840" y="32860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家人期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937880" y="4500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家庭文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右箭头 13"/>
          <p:cNvSpPr/>
          <p:nvPr/>
        </p:nvSpPr>
        <p:spPr>
          <a:xfrm>
            <a:off x="571680" y="3286080"/>
            <a:ext cx="857160" cy="484200"/>
          </a:xfrm>
          <a:prstGeom prst="rightArrow">
            <a:avLst>
              <a:gd name="adj1" fmla="val 50000"/>
              <a:gd name="adj2" fmla="val 83514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右箭头 14"/>
          <p:cNvSpPr/>
          <p:nvPr/>
        </p:nvSpPr>
        <p:spPr>
          <a:xfrm>
            <a:off x="571680" y="2000160"/>
            <a:ext cx="857160" cy="48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28760" y="171468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学校简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28760" y="35719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专业简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214720" y="2858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学校环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" descr=""/>
          <p:cNvPicPr/>
          <p:nvPr/>
        </p:nvPicPr>
        <p:blipFill>
          <a:blip r:embed="rId2"/>
          <a:stretch/>
        </p:blipFill>
        <p:spPr>
          <a:xfrm>
            <a:off x="1643040" y="1428840"/>
            <a:ext cx="6072120" cy="357192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2214720" y="2858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就业环境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3769560" y="5357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近几年高校毕业生就业状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383160"/>
            <a:ext cx="71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826920" y="620640"/>
            <a:ext cx="43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短期目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长期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8"/>
          <p:cNvSpPr txBox="1"/>
          <p:nvPr/>
        </p:nvSpPr>
        <p:spPr>
          <a:xfrm>
            <a:off x="2000160" y="214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noFill/>
                <a:latin typeface="黑体"/>
              </a:rPr>
              <a:t>大学四年计划</a:t>
            </a:r>
            <a:endParaRPr b="1" lang="en-US" sz="1800" spc="-1" strike="noStrike">
              <a:ln w="0">
                <a:noFill/>
              </a:ln>
              <a:noFill/>
              <a:latin typeface="黑体"/>
              <a:ea typeface="黑体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547640" y="141300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1:58:0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8:25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