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6DF-9869-4A69-B19B-1D3DD3BC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C070-8D3E-427B-A860-56C1DD54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B783-29FB-423B-8D38-E00D3CD2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4B2-B64B-41A1-BFE6-7E8F4E5B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1C9-E167-4842-AEE5-CE033536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48C-76CB-4F65-8C91-1D1A71B9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846-52EC-4483-9F95-D765E6DE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6A7-CCAB-4D4C-964C-E9E5BECB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50F-F68C-4452-8B66-03BEAC53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EEC-DE1B-4C70-92C0-ACC0B9E5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B99-0F0B-4618-9A07-B5797A7D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83E-D778-4569-8E6D-0C82651A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D639-4673-49E7-A8C5-0B2217003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2"/>
          <a:srcRect l="0" t="0" r="0" b="4984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32"/>
          <p:cNvSpPr/>
          <p:nvPr/>
        </p:nvSpPr>
        <p:spPr>
          <a:xfrm>
            <a:off x="956160" y="828720"/>
            <a:ext cx="109476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只有一个地球</a:t>
            </a:r>
            <a:endParaRPr b="0" lang="en-US" sz="60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3" name="Text Box 1033"/>
          <p:cNvSpPr/>
          <p:nvPr/>
        </p:nvSpPr>
        <p:spPr>
          <a:xfrm>
            <a:off x="2771640" y="43344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师大版  五年级  语文  上册  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家园的呼唤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00020913"/>
          <p:cNvPicPr/>
          <p:nvPr/>
        </p:nvPicPr>
        <p:blipFill>
          <a:blip r:embed="rId2"/>
          <a:stretch/>
        </p:blipFill>
        <p:spPr>
          <a:xfrm>
            <a:off x="2411280" y="1773360"/>
            <a:ext cx="443088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小组合作，完成下列表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2060640"/>
          <a:ext cx="8135640" cy="4114800"/>
        </p:xfrm>
        <a:graphic>
          <a:graphicData uri="http://schemas.openxmlformats.org/drawingml/2006/table">
            <a:tbl>
              <a:tblPr/>
              <a:tblGrid>
                <a:gridCol w="1553760"/>
                <a:gridCol w="1555920"/>
                <a:gridCol w="1554120"/>
                <a:gridCol w="347184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矿产资源</a:t>
                      </a: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资源</a:t>
                      </a: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森林资源　　　　　　</a:t>
                      </a: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气资源　　生物资源</a:t>
                      </a: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　</a:t>
                      </a: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99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32"/>
          <p:cNvSpPr/>
          <p:nvPr/>
        </p:nvSpPr>
        <p:spPr>
          <a:xfrm>
            <a:off x="2355840" y="233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2174760" y="305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3" name="Line 50"/>
          <p:cNvSpPr/>
          <p:nvPr/>
        </p:nvSpPr>
        <p:spPr>
          <a:xfrm>
            <a:off x="702000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614320" y="1125360"/>
            <a:ext cx="473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　　地球是无私的，它向人类慷慨地提供矿产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资源．但是，如果不加节制地开采，必将加速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地球上矿产资源的枯竭．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65" name="Picture 6" descr="TL_001"/>
          <p:cNvPicPr/>
          <p:nvPr/>
        </p:nvPicPr>
        <p:blipFill>
          <a:blip r:embed="rId2"/>
          <a:stretch/>
        </p:blipFill>
        <p:spPr>
          <a:xfrm>
            <a:off x="0" y="3141720"/>
            <a:ext cx="309600" cy="36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TL_001"/>
          <p:cNvPicPr/>
          <p:nvPr/>
        </p:nvPicPr>
        <p:blipFill>
          <a:blip r:embed="rId3"/>
          <a:stretch/>
        </p:blipFill>
        <p:spPr>
          <a:xfrm>
            <a:off x="0" y="5157720"/>
            <a:ext cx="279360" cy="372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TL_001"/>
          <p:cNvPicPr/>
          <p:nvPr/>
        </p:nvPicPr>
        <p:blipFill>
          <a:blip r:embed="rId4"/>
          <a:stretch/>
        </p:blipFill>
        <p:spPr>
          <a:xfrm>
            <a:off x="0" y="1341360"/>
            <a:ext cx="3319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827440" y="1860480"/>
            <a:ext cx="444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　人类生活需要的水资源、森林资源、生物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资源、大气资源，本来是可以不断再生，长期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给人类作贡献的．但是，因为人们随意毁坏自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然资源，不顾后果地滥用化学品，不但使他们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不能再生，还造成一系列生态灾难，给人类带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来了严重的灾难．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69" name="Picture 7" descr="TL_001"/>
          <p:cNvPicPr/>
          <p:nvPr/>
        </p:nvPicPr>
        <p:blipFill>
          <a:blip r:embed="rId2"/>
          <a:stretch/>
        </p:blipFill>
        <p:spPr>
          <a:xfrm>
            <a:off x="0" y="3141720"/>
            <a:ext cx="309600" cy="360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TL_001"/>
          <p:cNvPicPr/>
          <p:nvPr/>
        </p:nvPicPr>
        <p:blipFill>
          <a:blip r:embed="rId3"/>
          <a:stretch/>
        </p:blipFill>
        <p:spPr>
          <a:xfrm>
            <a:off x="611280" y="5157720"/>
            <a:ext cx="279360" cy="37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TL_001"/>
          <p:cNvPicPr/>
          <p:nvPr/>
        </p:nvPicPr>
        <p:blipFill>
          <a:blip r:embed="rId4"/>
          <a:stretch/>
        </p:blipFill>
        <p:spPr>
          <a:xfrm>
            <a:off x="0" y="1341360"/>
            <a:ext cx="3319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1187280" y="378468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　　　不错，科学家们提出了许多设想，例如，在火星或者月球上建造移民基地．但是，这些设想即使能实现，又有多少人能够去居住呢？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73" name="Picture 7" descr="TL_001"/>
          <p:cNvPicPr/>
          <p:nvPr/>
        </p:nvPicPr>
        <p:blipFill>
          <a:blip r:embed="rId2"/>
          <a:stretch/>
        </p:blipFill>
        <p:spPr>
          <a:xfrm>
            <a:off x="0" y="3141720"/>
            <a:ext cx="309600" cy="36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TL_001"/>
          <p:cNvPicPr/>
          <p:nvPr/>
        </p:nvPicPr>
        <p:blipFill>
          <a:blip r:embed="rId3"/>
          <a:stretch/>
        </p:blipFill>
        <p:spPr>
          <a:xfrm>
            <a:off x="611280" y="5157720"/>
            <a:ext cx="279360" cy="37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TL_001"/>
          <p:cNvPicPr/>
          <p:nvPr/>
        </p:nvPicPr>
        <p:blipFill>
          <a:blip r:embed="rId4"/>
          <a:stretch/>
        </p:blipFill>
        <p:spPr>
          <a:xfrm>
            <a:off x="0" y="1341360"/>
            <a:ext cx="3319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611280" y="1557360"/>
            <a:ext cx="81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语文实践：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我们这个地球太可爱了，同时又太容易破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碎了。同学们，我们只有一个地球，你们能根据对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课文的理解写保护地球的宣传语吗？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55640" y="2205000"/>
            <a:ext cx="82152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以地球的名义给居住在地球上的人们写一封信。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以一名少先队员的身份给地球妈妈写一封信。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3492360" y="2637000"/>
            <a:ext cx="3292560" cy="18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黑体"/>
              </a:rPr>
              <a:t>再见！</a:t>
            </a:r>
            <a:endParaRPr b="1" lang="en-US" sz="24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9933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2195640" y="1901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4284720" y="765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据有幸飞上太空的宇航员介绍，他们在天际遨游时遥望地球，映入眼帘的是一个晶莹透亮的球体，上面蓝色和白色的纹痕相互交错，周围裹着一层薄薄的水蓝色“纱衣”。地球，这位人类的母亲，这个生命的摇篮，是那样的美丽壮观和蔼可亲。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46" name="Picture 3" descr="地球"/>
          <p:cNvPicPr/>
          <p:nvPr/>
        </p:nvPicPr>
        <p:blipFill>
          <a:blip r:embed="rId2"/>
          <a:stretch/>
        </p:blipFill>
        <p:spPr>
          <a:xfrm>
            <a:off x="971640" y="3573360"/>
            <a:ext cx="2808360" cy="2654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61183b2dd5291427349bf733"/>
          <p:cNvPicPr/>
          <p:nvPr/>
        </p:nvPicPr>
        <p:blipFill>
          <a:blip r:embed="rId3"/>
          <a:stretch/>
        </p:blipFill>
        <p:spPr>
          <a:xfrm>
            <a:off x="1042920" y="765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4360" y="1268280"/>
            <a:ext cx="82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但是，地球又是一个半径只有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300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多公里的星球，在群星璀璨的宇宙中，就像一叶扁舟。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49" name="Picture 3" descr="fc5e5f34ef43185d251f14f9"/>
          <p:cNvPicPr/>
          <p:nvPr/>
        </p:nvPicPr>
        <p:blipFill>
          <a:blip r:embed="rId2"/>
          <a:stretch/>
        </p:blipFill>
        <p:spPr>
          <a:xfrm>
            <a:off x="2050920" y="2852640"/>
            <a:ext cx="5113440" cy="3328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6381720"/>
            <a:ext cx="741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说课ppt模板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6"/>
          <p:cNvSpPr/>
          <p:nvPr/>
        </p:nvSpPr>
        <p:spPr>
          <a:xfrm>
            <a:off x="971640" y="126828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同茫茫宇宙相比，地球是渺小的。它只有这么大，不会再长大。地球表面的面积是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.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亿平方公里，而人类生活的陆地大约只占其中的五分之一。这样，人类活动的范围就很小很小了。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pic>
        <p:nvPicPr>
          <p:cNvPr id="52" name="Picture 1027" descr="太阳系"/>
          <p:cNvPicPr/>
          <p:nvPr/>
        </p:nvPicPr>
        <p:blipFill>
          <a:blip r:embed="rId2"/>
          <a:stretch/>
        </p:blipFill>
        <p:spPr>
          <a:xfrm>
            <a:off x="2700360" y="3141720"/>
            <a:ext cx="345744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tms11"/>
          <p:cNvPicPr/>
          <p:nvPr/>
        </p:nvPicPr>
        <p:blipFill>
          <a:blip r:embed="rId2"/>
          <a:srcRect l="0" t="0" r="0" b="11159"/>
          <a:stretch/>
        </p:blipFill>
        <p:spPr>
          <a:xfrm>
            <a:off x="1835280" y="1628640"/>
            <a:ext cx="586728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26" descr="长春蔓"/>
          <p:cNvPicPr/>
          <p:nvPr/>
        </p:nvPicPr>
        <p:blipFill>
          <a:blip r:embed="rId2"/>
          <a:stretch/>
        </p:blipFill>
        <p:spPr>
          <a:xfrm>
            <a:off x="2050920" y="134136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草原 7"/>
          <p:cNvPicPr/>
          <p:nvPr/>
        </p:nvPicPr>
        <p:blipFill>
          <a:blip r:embed="rId2"/>
          <a:stretch/>
        </p:blipFill>
        <p:spPr>
          <a:xfrm>
            <a:off x="2124000" y="1628640"/>
            <a:ext cx="593244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草原 9"/>
          <p:cNvPicPr/>
          <p:nvPr/>
        </p:nvPicPr>
        <p:blipFill>
          <a:blip r:embed="rId2"/>
          <a:stretch/>
        </p:blipFill>
        <p:spPr>
          <a:xfrm>
            <a:off x="2124000" y="1484280"/>
            <a:ext cx="51436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d57e9994df253c0dd31b705f"/>
          <p:cNvPicPr/>
          <p:nvPr/>
        </p:nvPicPr>
        <p:blipFill>
          <a:blip r:embed="rId2"/>
          <a:stretch/>
        </p:blipFill>
        <p:spPr>
          <a:xfrm>
            <a:off x="1763640" y="1484280"/>
            <a:ext cx="58262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3:28:2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57:20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