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7564-18DB-42EE-B554-F80BC4277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2780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35A9-E9C0-4572-9AD2-C686F02A0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601A-2666-4F9A-BB5B-839AB5B80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7BF5-0D2A-4A15-919A-5175C2A09D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0054-5C29-4AC8-A164-2A631CB004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A0FF-8203-418E-9179-BDFCBD722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59B7-C621-49EF-BA70-E9FD2D56D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F558-E27B-4A5E-8945-A14870C53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21384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122B-42AE-474C-AFE6-7791D31F0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2E17-564A-4A4F-B3BD-798BE545A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B440-EF02-49E8-B1DE-2EB83EF67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4243-3F93-4585-9F3E-71C866753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DF1D654A-9FD8-42CE-9F00-18B1930E58D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FC837BB-5102-43DD-A1A6-515CC046F34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bianhuleida"/>
          <p:cNvPicPr/>
          <p:nvPr/>
        </p:nvPicPr>
        <p:blipFill>
          <a:blip r:embed="rId1"/>
          <a:stretch/>
        </p:blipFill>
        <p:spPr>
          <a:xfrm>
            <a:off x="-61920" y="0"/>
            <a:ext cx="9205920" cy="693720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3" descr=""/>
          <p:cNvPicPr/>
          <p:nvPr/>
        </p:nvPicPr>
        <p:blipFill>
          <a:blip r:embed="rId2"/>
          <a:stretch/>
        </p:blipFill>
        <p:spPr>
          <a:xfrm>
            <a:off x="969840" y="3468600"/>
            <a:ext cx="7704360" cy="14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FE0433A-BAF5-4A39-AF37-E711A8CF377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33520" y="911160"/>
            <a:ext cx="8229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第</a:t>
            </a:r>
            <a:r>
              <a:rPr b="0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然段。思考：这一自然段写的是什么内容？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蝙蝠高超的飞行本领，引起了科学家的思考。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CDF3631-2A2D-4628-A48D-92769338C4E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257800" y="83808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　　  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从哪儿看出蝙蝠的飞行本领高超？划出有关句子，说说你的理解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图片1"/>
          <p:cNvPicPr/>
          <p:nvPr/>
        </p:nvPicPr>
        <p:blipFill>
          <a:blip r:embed="rId1"/>
          <a:srcRect l="1064" t="1227" r="3297" b="4395"/>
          <a:stretch/>
        </p:blipFill>
        <p:spPr>
          <a:xfrm>
            <a:off x="304920" y="457200"/>
            <a:ext cx="4419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3412EE9-A2F2-4974-9892-D5E03082A1E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80880" y="727200"/>
            <a:ext cx="845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夜间飞行能捕捉极小的飞虫，从来不跟什么东西相撞，即使一根极细的电线，也能灵巧地避开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3B68210-E8DC-4FC4-BBC6-728FC878EF1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80880" y="365040"/>
            <a:ext cx="8317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  </a:t>
            </a:r>
            <a:r>
              <a:rPr b="0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默读课文：想想课文哪几个自然段写科学家探索蝙蝠夜间飞行的奥秘？    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第</a:t>
            </a:r>
            <a:r>
              <a:rPr b="0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-6</a:t>
            </a: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然段写了这个内容。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1CF3F65-343B-4EAA-B353-6595D15FDB8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1042920" y="1484280"/>
            <a:ext cx="727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00"/>
                </a:solidFill>
                <a:latin typeface="Arial"/>
                <a:ea typeface="楷体_GB2312"/>
              </a:rPr>
              <a:t>　　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这些引起了科学家怎样的思考？为了弄清楚，科学家们做了几次实验？每次实验的目的是什么？用了什么方法？结果怎样？（填写下列表格）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33520" y="630252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371535"/>
                </a:solidFill>
                <a:uFillTx/>
                <a:latin typeface="Arial"/>
                <a:hlinkClick r:id="rId1"/>
              </a:rPr>
              <a:t>说课ppt模板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0A565AA-23CA-4F7F-BD97-70A16C63A7B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82560" y="80820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四自然段，完成第一次试验记录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93560" y="1773360"/>
          <a:ext cx="8299440" cy="4583160"/>
        </p:xfrm>
        <a:graphic>
          <a:graphicData uri="http://schemas.openxmlformats.org/drawingml/2006/table">
            <a:tbl>
              <a:tblPr/>
              <a:tblGrid>
                <a:gridCol w="614520"/>
                <a:gridCol w="691920"/>
                <a:gridCol w="876240"/>
                <a:gridCol w="806760"/>
                <a:gridCol w="5310000"/>
              </a:tblGrid>
              <a:tr h="110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 验 条 件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    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22"/>
          <p:cNvSpPr/>
          <p:nvPr/>
        </p:nvSpPr>
        <p:spPr>
          <a:xfrm>
            <a:off x="2655720" y="184932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1933560" y="415440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眼睛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3570120" y="3627360"/>
            <a:ext cx="4959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飞了几个钟头，铃铛一个也没响，那么多的绳子，它一根也没碰着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AA4D07C-6D4C-4C6B-981F-542C3DD6BEB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五自然段，完成第二次试验记录表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0720" y="1628640"/>
          <a:ext cx="8153280" cy="4654440"/>
        </p:xfrm>
        <a:graphic>
          <a:graphicData uri="http://schemas.openxmlformats.org/drawingml/2006/table">
            <a:tbl>
              <a:tblPr/>
              <a:tblGrid>
                <a:gridCol w="604800"/>
                <a:gridCol w="677880"/>
                <a:gridCol w="755640"/>
                <a:gridCol w="1434960"/>
                <a:gridCol w="4680000"/>
              </a:tblGrid>
              <a:tr h="1123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 验 条 件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二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塞住蝙蝠的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     果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22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2070000" y="409896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耳朵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4159080" y="3330720"/>
            <a:ext cx="44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就像没头苍蝇似的到处乱撞，挂在绳子上的铃铛响个不停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FCE68F9-325E-4F39-AD71-3CE2F55D11B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39640" y="765000"/>
            <a:ext cx="74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然段，完成第三次试验记录表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76200" y="1569960"/>
          <a:ext cx="8228160" cy="46846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  <a:gridCol w="762120"/>
                <a:gridCol w="1447920"/>
                <a:gridCol w="4722840"/>
              </a:tblGrid>
              <a:tr h="1131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 验 条 件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三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封住蝙蝠的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    果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22"/>
          <p:cNvSpPr/>
          <p:nvPr/>
        </p:nvSpPr>
        <p:spPr>
          <a:xfrm>
            <a:off x="2771640" y="1646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2052720" y="402444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嘴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4114800" y="3200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D90AF41-9CEC-4D84-8B0C-82B7357CE86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51000" y="711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三次试验的结论怎样？继续完成表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0840" y="1484280"/>
          <a:ext cx="8327880" cy="4830840"/>
        </p:xfrm>
        <a:graphic>
          <a:graphicData uri="http://schemas.openxmlformats.org/drawingml/2006/table">
            <a:tbl>
              <a:tblPr/>
              <a:tblGrid>
                <a:gridCol w="465120"/>
                <a:gridCol w="579600"/>
                <a:gridCol w="406080"/>
                <a:gridCol w="601920"/>
                <a:gridCol w="1474560"/>
                <a:gridCol w="4800600"/>
              </a:tblGrid>
              <a:tr h="868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i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条件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7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一次试验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   </a:t>
                      </a:r>
                      <a:r>
                        <a:rPr b="1" i="1" lang="zh-CN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眼睛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i="1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蝙蝠飞了几个钟头，铃铛一个也没响，那么多的绳子，它一根也没碰着。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二次试验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塞住蝙蝠的   </a:t>
                      </a:r>
                      <a:r>
                        <a:rPr b="1" i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耳朵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  </a:t>
                      </a:r>
                      <a:r>
                        <a:rPr b="1" i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蝙蝠就像没头苍蝇似的到处乱撞，挂在绳子上的铃铛响个不停。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三次试验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封住蝙蝠的    </a:t>
                      </a:r>
                      <a:r>
                        <a:rPr b="1" i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嘴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  </a:t>
                      </a:r>
                      <a:r>
                        <a:rPr b="1" i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蝙蝠就像没头苍蝇似的到处乱撞，挂在绳子上的铃铛响个不停。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结论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Text Box 34"/>
          <p:cNvSpPr/>
          <p:nvPr/>
        </p:nvSpPr>
        <p:spPr>
          <a:xfrm>
            <a:off x="2627280" y="1413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3160800" y="3921120"/>
            <a:ext cx="72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6"/>
          <p:cNvSpPr/>
          <p:nvPr/>
        </p:nvSpPr>
        <p:spPr>
          <a:xfrm>
            <a:off x="4545000" y="3560760"/>
            <a:ext cx="41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7"/>
          <p:cNvSpPr/>
          <p:nvPr/>
        </p:nvSpPr>
        <p:spPr>
          <a:xfrm>
            <a:off x="3174840" y="4830840"/>
            <a:ext cx="72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8"/>
          <p:cNvSpPr/>
          <p:nvPr/>
        </p:nvSpPr>
        <p:spPr>
          <a:xfrm>
            <a:off x="4630680" y="465948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9"/>
          <p:cNvSpPr/>
          <p:nvPr/>
        </p:nvSpPr>
        <p:spPr>
          <a:xfrm>
            <a:off x="1589040" y="5448240"/>
            <a:ext cx="705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次不同的试验证明，蝙蝠夜里飞行，靠的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是眼睛，它是用嘴和耳朵配合起来探路的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E4AD743-FB4C-4889-93AF-959341799AA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539640" y="2060640"/>
            <a:ext cx="806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蝙蝠夜里飞行靠的是嘴和耳朵配合，那么蝙蝠的口耳到底是怎样配合的呢？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读读第６自然段。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3"/>
          <p:cNvSpPr txBox="1"/>
          <p:nvPr/>
        </p:nvSpPr>
        <p:spPr>
          <a:xfrm>
            <a:off x="971640" y="2205000"/>
            <a:ext cx="609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？</a:t>
            </a:r>
            <a:endParaRPr b="0" i="1" lang="en-US" sz="4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1647720" y="2001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21E529C-F069-4BA6-83BF-F635DF04F00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图片1"/>
          <p:cNvPicPr/>
          <p:nvPr/>
        </p:nvPicPr>
        <p:blipFill>
          <a:blip r:embed="rId1"/>
          <a:stretch/>
        </p:blipFill>
        <p:spPr>
          <a:xfrm>
            <a:off x="179280" y="380880"/>
            <a:ext cx="4621320" cy="6216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609480" y="76212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蝙蝠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800600" y="901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蝙蝠是哺乳动物，头部和躯干像老鼠，有黑褐色细毛，四肢和尾部有皮质的膜，夜间在空中飞翔，吃蚊、蛾等昆虫。视力很弱，靠本身发出的超声波引导飞行。休息时用爪倒挂在屋檐下或树下，冬季在隐藏的地方冬眠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0D60A37-5064-4AE2-9733-2E4F080BB18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250920" y="211932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蝙蝠夜里飞行，靠的不是眼睛，它是用嘴和耳朵来探路的。”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cc00"/>
                </a:solidFill>
                <a:latin typeface="Arial"/>
                <a:ea typeface="楷体_GB2312"/>
              </a:rPr>
              <a:t>　　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这个结论和书上的有什么不同？哪一个更科学？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6FD7B67-CCC4-4DE6-9F31-0CC657EAC8D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50920" y="1484280"/>
            <a:ext cx="856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cc00"/>
                </a:solidFill>
                <a:latin typeface="Arial"/>
                <a:ea typeface="楷体_GB2312"/>
              </a:rPr>
              <a:t>　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　丢掉“配合”是不科学的，因为第二次和第三次两次实验，分别塞住耳朵，封住嘴，也就是说单独将耳朵或嘴露在外面，但蝙蝠都失去了暗中探路的本领，这说明探路时靠的是这两种器官同时发挥作用，所以课文上用上“</a:t>
            </a: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楷体_GB2312"/>
              </a:rPr>
              <a:t>配合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”是科学的。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50A7050-55BF-4912-B34E-54C8DA770EA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9640" y="6922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理解词语：证明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116000" y="13971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证明：用可靠的事实来表明结论的真实性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597040" y="19810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84183"/>
                </a:solidFill>
                <a:latin typeface="Times New Roman"/>
                <a:ea typeface="楷体_GB2312"/>
              </a:rPr>
              <a:t>联系上下文找句子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924360" y="33577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539640" y="2708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蝙蝠的眼睛蒙上，让它在屋子里飞。蝙蝠飞了几个钟头，铃铛一个也没响，那么多的绳子，它一根也没碰着。把蝙蝠的耳朵塞上，把蝙蝠的嘴封住，让它在屋子里飞。蝙蝠就像没头苍蝇似的到处乱撞，挂在绳子上的铃铛响个不停。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682560" y="5229360"/>
            <a:ext cx="576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根据三次试验的内容，分别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证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词说一句话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2743200" y="1905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EE4C75E-F04A-45AE-B723-29C1B4CD619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1280" y="1557360"/>
            <a:ext cx="2881080" cy="395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CPL_031"/>
          <p:cNvPicPr/>
          <p:nvPr/>
        </p:nvPicPr>
        <p:blipFill>
          <a:blip r:embed="rId1"/>
          <a:stretch/>
        </p:blipFill>
        <p:spPr>
          <a:xfrm>
            <a:off x="611280" y="1806480"/>
            <a:ext cx="2857320" cy="11908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2340000" y="4724280"/>
            <a:ext cx="1008000" cy="72072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1692360" y="2924280"/>
            <a:ext cx="863640" cy="230040"/>
          </a:xfrm>
          <a:custGeom>
            <a:avLst/>
            <a:gdLst/>
            <a:ahLst/>
            <a:rect l="l" t="t" r="r" b="b"/>
            <a:pathLst>
              <a:path w="544" h="145">
                <a:moveTo>
                  <a:pt x="0" y="46"/>
                </a:moveTo>
                <a:cubicBezTo>
                  <a:pt x="90" y="95"/>
                  <a:pt x="181" y="145"/>
                  <a:pt x="272" y="137"/>
                </a:cubicBezTo>
                <a:cubicBezTo>
                  <a:pt x="363" y="129"/>
                  <a:pt x="499" y="23"/>
                  <a:pt x="544" y="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9"/>
          <p:cNvSpPr/>
          <p:nvPr/>
        </p:nvSpPr>
        <p:spPr>
          <a:xfrm>
            <a:off x="1403280" y="3068640"/>
            <a:ext cx="1440000" cy="372960"/>
          </a:xfrm>
          <a:custGeom>
            <a:avLst/>
            <a:gdLst/>
            <a:ahLst/>
            <a:rect l="l" t="t" r="r" b="b"/>
            <a:pathLst>
              <a:path w="907" h="235">
                <a:moveTo>
                  <a:pt x="0" y="46"/>
                </a:moveTo>
                <a:cubicBezTo>
                  <a:pt x="128" y="140"/>
                  <a:pt x="257" y="235"/>
                  <a:pt x="408" y="227"/>
                </a:cubicBezTo>
                <a:cubicBezTo>
                  <a:pt x="559" y="219"/>
                  <a:pt x="733" y="109"/>
                  <a:pt x="907" y="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1116000" y="3284640"/>
            <a:ext cx="2016000" cy="517320"/>
          </a:xfrm>
          <a:custGeom>
            <a:avLst/>
            <a:gdLst/>
            <a:ahLst/>
            <a:rect l="l" t="t" r="r" b="b"/>
            <a:pathLst>
              <a:path w="1270" h="326">
                <a:moveTo>
                  <a:pt x="0" y="46"/>
                </a:moveTo>
                <a:cubicBezTo>
                  <a:pt x="143" y="186"/>
                  <a:pt x="287" y="326"/>
                  <a:pt x="499" y="318"/>
                </a:cubicBezTo>
                <a:cubicBezTo>
                  <a:pt x="711" y="310"/>
                  <a:pt x="990" y="155"/>
                  <a:pt x="1270" y="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900000" y="3645000"/>
            <a:ext cx="2376720" cy="731880"/>
          </a:xfrm>
          <a:custGeom>
            <a:avLst/>
            <a:gdLst/>
            <a:ahLst/>
            <a:rect l="l" t="t" r="r" b="b"/>
            <a:pathLst>
              <a:path w="1497" h="461">
                <a:moveTo>
                  <a:pt x="0" y="45"/>
                </a:moveTo>
                <a:cubicBezTo>
                  <a:pt x="193" y="253"/>
                  <a:pt x="386" y="461"/>
                  <a:pt x="635" y="454"/>
                </a:cubicBezTo>
                <a:cubicBezTo>
                  <a:pt x="884" y="447"/>
                  <a:pt x="1353" y="76"/>
                  <a:pt x="1497" y="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2"/>
          <p:cNvSpPr/>
          <p:nvPr/>
        </p:nvSpPr>
        <p:spPr>
          <a:xfrm>
            <a:off x="826920" y="4076640"/>
            <a:ext cx="2592720" cy="912960"/>
          </a:xfrm>
          <a:custGeom>
            <a:avLst/>
            <a:gdLst/>
            <a:ahLst/>
            <a:rect l="l" t="t" r="r" b="b"/>
            <a:pathLst>
              <a:path w="1633" h="575">
                <a:moveTo>
                  <a:pt x="0" y="182"/>
                </a:moveTo>
                <a:cubicBezTo>
                  <a:pt x="272" y="378"/>
                  <a:pt x="545" y="575"/>
                  <a:pt x="817" y="545"/>
                </a:cubicBezTo>
                <a:cubicBezTo>
                  <a:pt x="1089" y="515"/>
                  <a:pt x="1497" y="91"/>
                  <a:pt x="1633" y="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2268360" y="4508640"/>
            <a:ext cx="358920" cy="288720"/>
          </a:xfrm>
          <a:custGeom>
            <a:avLst/>
            <a:gdLst/>
            <a:ahLst/>
            <a:rect l="l" t="t" r="r" b="b"/>
            <a:pathLst>
              <a:path w="226" h="182">
                <a:moveTo>
                  <a:pt x="0" y="182"/>
                </a:moveTo>
                <a:cubicBezTo>
                  <a:pt x="4" y="151"/>
                  <a:pt x="8" y="121"/>
                  <a:pt x="45" y="91"/>
                </a:cubicBezTo>
                <a:cubicBezTo>
                  <a:pt x="82" y="61"/>
                  <a:pt x="196" y="15"/>
                  <a:pt x="226" y="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1908000" y="4005360"/>
            <a:ext cx="863640" cy="718920"/>
          </a:xfrm>
          <a:custGeom>
            <a:avLst/>
            <a:gdLst/>
            <a:ahLst/>
            <a:rect l="l" t="t" r="r" b="b"/>
            <a:pathLst>
              <a:path w="544" h="453">
                <a:moveTo>
                  <a:pt x="0" y="453"/>
                </a:moveTo>
                <a:cubicBezTo>
                  <a:pt x="22" y="355"/>
                  <a:pt x="45" y="257"/>
                  <a:pt x="136" y="181"/>
                </a:cubicBezTo>
                <a:cubicBezTo>
                  <a:pt x="227" y="105"/>
                  <a:pt x="385" y="52"/>
                  <a:pt x="544" y="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5"/>
          <p:cNvSpPr/>
          <p:nvPr/>
        </p:nvSpPr>
        <p:spPr>
          <a:xfrm>
            <a:off x="1476360" y="3429000"/>
            <a:ext cx="1440000" cy="1079640"/>
          </a:xfrm>
          <a:custGeom>
            <a:avLst/>
            <a:gdLst/>
            <a:ahLst/>
            <a:rect l="l" t="t" r="r" b="b"/>
            <a:pathLst>
              <a:path w="907" h="680">
                <a:moveTo>
                  <a:pt x="0" y="680"/>
                </a:moveTo>
                <a:cubicBezTo>
                  <a:pt x="37" y="532"/>
                  <a:pt x="75" y="385"/>
                  <a:pt x="226" y="272"/>
                </a:cubicBezTo>
                <a:cubicBezTo>
                  <a:pt x="377" y="159"/>
                  <a:pt x="642" y="79"/>
                  <a:pt x="907" y="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6"/>
          <p:cNvSpPr/>
          <p:nvPr/>
        </p:nvSpPr>
        <p:spPr>
          <a:xfrm>
            <a:off x="971640" y="2924280"/>
            <a:ext cx="2087640" cy="1296720"/>
          </a:xfrm>
          <a:custGeom>
            <a:avLst/>
            <a:gdLst/>
            <a:ahLst/>
            <a:rect l="l" t="t" r="r" b="b"/>
            <a:pathLst>
              <a:path w="1315" h="817">
                <a:moveTo>
                  <a:pt x="0" y="817"/>
                </a:moveTo>
                <a:cubicBezTo>
                  <a:pt x="140" y="590"/>
                  <a:pt x="280" y="363"/>
                  <a:pt x="499" y="227"/>
                </a:cubicBezTo>
                <a:cubicBezTo>
                  <a:pt x="718" y="91"/>
                  <a:pt x="1016" y="45"/>
                  <a:pt x="1315" y="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7"/>
          <p:cNvSpPr/>
          <p:nvPr/>
        </p:nvSpPr>
        <p:spPr>
          <a:xfrm>
            <a:off x="684360" y="2276640"/>
            <a:ext cx="2374920" cy="1368360"/>
          </a:xfrm>
          <a:custGeom>
            <a:avLst/>
            <a:gdLst/>
            <a:ahLst/>
            <a:rect l="l" t="t" r="r" b="b"/>
            <a:pathLst>
              <a:path w="1496" h="862">
                <a:moveTo>
                  <a:pt x="0" y="862"/>
                </a:moveTo>
                <a:cubicBezTo>
                  <a:pt x="147" y="594"/>
                  <a:pt x="295" y="326"/>
                  <a:pt x="544" y="182"/>
                </a:cubicBezTo>
                <a:cubicBezTo>
                  <a:pt x="793" y="38"/>
                  <a:pt x="1144" y="19"/>
                  <a:pt x="1496" y="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268360" y="497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84183"/>
                </a:solidFill>
                <a:latin typeface="Times New Roman"/>
                <a:ea typeface="宋体"/>
              </a:rPr>
              <a:t>障碍物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611280" y="47628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课文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节，动手画画示意图，说说蝙蝠用嘴和耳朵配合起来探路的经过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684360" y="1844640"/>
            <a:ext cx="2519280" cy="936720"/>
          </a:xfrm>
          <a:custGeom>
            <a:avLst/>
            <a:gdLst/>
            <a:ahLst/>
            <a:rect l="l" t="t" r="r" b="b"/>
            <a:pathLst>
              <a:path w="1587" h="590">
                <a:moveTo>
                  <a:pt x="0" y="590"/>
                </a:moveTo>
                <a:cubicBezTo>
                  <a:pt x="207" y="386"/>
                  <a:pt x="415" y="182"/>
                  <a:pt x="680" y="91"/>
                </a:cubicBezTo>
                <a:cubicBezTo>
                  <a:pt x="945" y="0"/>
                  <a:pt x="1443" y="53"/>
                  <a:pt x="1587" y="45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3886200" y="1676520"/>
            <a:ext cx="52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一边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边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种声音叫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人的耳朵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蝙蝠的耳朵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样向前推进，遇到障碍物就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传到蝙蝠的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，蝙蝠就立刻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2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3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4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5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6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7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08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9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1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8370B64-0C8B-454C-8A46-739FCC51E56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52280" y="1219320"/>
            <a:ext cx="8915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蝙蝠一边飞，一边从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(  )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里发出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(       )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，遇到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就反射回来，传到的它（     ）里，蝙蝠就立刻（               ）。   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077320" y="1336680"/>
            <a:ext cx="75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嘴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666880" y="2098800"/>
            <a:ext cx="227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超声波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33520" y="286056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障碍物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0" y="3699000"/>
            <a:ext cx="16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耳朵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600200" y="446076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改变飞行的方向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66EB1D3-E0A7-4BD8-A6F3-BE8B824B8CF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t20060313234452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738C165-53BD-4298-A299-B03022D271A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20060313234504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4A025B4-0CC6-44FF-B96E-16C62E1FEF6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-239400" y="1066680"/>
            <a:ext cx="1277640" cy="200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蝙  蝠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-220320" y="4149720"/>
            <a:ext cx="127764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雷  达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752480" y="838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嘴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447920" y="22860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黑体"/>
              </a:rPr>
              <a:t>耳朵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619280" y="39337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天线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332000" y="5300640"/>
            <a:ext cx="221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imes New Roman"/>
                <a:ea typeface="黑体"/>
              </a:rPr>
              <a:t>荧光屏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7411320" y="685800"/>
            <a:ext cx="1399320" cy="228600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84183"/>
                </a:solidFill>
                <a:latin typeface="黑体"/>
                <a:ea typeface="黑体"/>
              </a:rPr>
              <a:t>障 碍 物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7439760" y="4114800"/>
            <a:ext cx="1399320" cy="2362320"/>
          </a:xfrm>
          <a:prstGeom prst="rect">
            <a:avLst/>
          </a:prstGeom>
          <a:noFill/>
          <a:ln w="12600">
            <a:solidFill>
              <a:srgbClr val="8841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84183"/>
                </a:solidFill>
                <a:latin typeface="黑体"/>
                <a:ea typeface="黑体"/>
              </a:rPr>
              <a:t>障 碍 物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rc 10"/>
          <p:cNvSpPr/>
          <p:nvPr/>
        </p:nvSpPr>
        <p:spPr>
          <a:xfrm>
            <a:off x="2819520" y="609480"/>
            <a:ext cx="761760" cy="1436760"/>
          </a:xfrm>
          <a:custGeom>
            <a:avLst/>
            <a:gdLst/>
            <a:ahLst/>
            <a:rect l="l" t="t" r="r" b="b"/>
            <a:pathLst>
              <a:path fill="none" w="21600" h="41863">
                <a:moveTo>
                  <a:pt x="5507" y="0"/>
                </a:moveTo>
                <a:cubicBezTo>
                  <a:pt x="14991" y="2501"/>
                  <a:pt x="21600" y="11077"/>
                  <a:pt x="21600" y="20886"/>
                </a:cubicBezTo>
                <a:cubicBezTo>
                  <a:pt x="21600" y="30831"/>
                  <a:pt x="14809" y="39491"/>
                  <a:pt x="5150" y="41862"/>
                </a:cubicBezTo>
              </a:path>
              <a:path stroke="0" w="21600" h="41863">
                <a:moveTo>
                  <a:pt x="5507" y="0"/>
                </a:moveTo>
                <a:cubicBezTo>
                  <a:pt x="14991" y="2501"/>
                  <a:pt x="21600" y="11077"/>
                  <a:pt x="21600" y="20886"/>
                </a:cubicBezTo>
                <a:cubicBezTo>
                  <a:pt x="21600" y="30831"/>
                  <a:pt x="14809" y="39491"/>
                  <a:pt x="5150" y="41862"/>
                </a:cubicBezTo>
                <a:lnTo>
                  <a:pt x="0" y="20886"/>
                </a:lnTo>
                <a:lnTo>
                  <a:pt x="5507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rc 11"/>
          <p:cNvSpPr/>
          <p:nvPr/>
        </p:nvSpPr>
        <p:spPr>
          <a:xfrm>
            <a:off x="3733920" y="609480"/>
            <a:ext cx="1066680" cy="1524240"/>
          </a:xfrm>
          <a:custGeom>
            <a:avLst/>
            <a:gdLst/>
            <a:ahLst/>
            <a:rect l="l" t="t" r="r" b="b"/>
            <a:pathLst>
              <a:path fill="none" w="21600" h="40433">
                <a:moveTo>
                  <a:pt x="7519" y="-1"/>
                </a:moveTo>
                <a:cubicBezTo>
                  <a:pt x="15983" y="3143"/>
                  <a:pt x="21600" y="11219"/>
                  <a:pt x="21600" y="20249"/>
                </a:cubicBezTo>
                <a:cubicBezTo>
                  <a:pt x="21600" y="29211"/>
                  <a:pt x="16065" y="37242"/>
                  <a:pt x="7691" y="40433"/>
                </a:cubicBezTo>
              </a:path>
              <a:path stroke="0" w="21600" h="40433">
                <a:moveTo>
                  <a:pt x="7519" y="-1"/>
                </a:moveTo>
                <a:cubicBezTo>
                  <a:pt x="15983" y="3143"/>
                  <a:pt x="21600" y="11219"/>
                  <a:pt x="21600" y="20249"/>
                </a:cubicBezTo>
                <a:cubicBezTo>
                  <a:pt x="21600" y="29211"/>
                  <a:pt x="16065" y="37242"/>
                  <a:pt x="7691" y="40433"/>
                </a:cubicBezTo>
                <a:lnTo>
                  <a:pt x="0" y="20249"/>
                </a:lnTo>
                <a:lnTo>
                  <a:pt x="7519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rc 12"/>
          <p:cNvSpPr/>
          <p:nvPr/>
        </p:nvSpPr>
        <p:spPr>
          <a:xfrm>
            <a:off x="5181480" y="457200"/>
            <a:ext cx="990720" cy="1782720"/>
          </a:xfrm>
          <a:custGeom>
            <a:avLst/>
            <a:gdLst/>
            <a:ahLst/>
            <a:rect l="l" t="t" r="r" b="b"/>
            <a:pathLst>
              <a:path fill="none" w="21600" h="42143">
                <a:moveTo>
                  <a:pt x="4898" y="-1"/>
                </a:moveTo>
                <a:cubicBezTo>
                  <a:pt x="14678" y="2276"/>
                  <a:pt x="21600" y="10994"/>
                  <a:pt x="21600" y="21037"/>
                </a:cubicBezTo>
                <a:cubicBezTo>
                  <a:pt x="21600" y="31196"/>
                  <a:pt x="14520" y="39982"/>
                  <a:pt x="4593" y="42142"/>
                </a:cubicBezTo>
              </a:path>
              <a:path stroke="0" w="21600" h="42143">
                <a:moveTo>
                  <a:pt x="4898" y="-1"/>
                </a:moveTo>
                <a:cubicBezTo>
                  <a:pt x="14678" y="2276"/>
                  <a:pt x="21600" y="10994"/>
                  <a:pt x="21600" y="21037"/>
                </a:cubicBezTo>
                <a:cubicBezTo>
                  <a:pt x="21600" y="31196"/>
                  <a:pt x="14520" y="39982"/>
                  <a:pt x="4593" y="42142"/>
                </a:cubicBezTo>
                <a:lnTo>
                  <a:pt x="0" y="21037"/>
                </a:lnTo>
                <a:lnTo>
                  <a:pt x="4898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rc 13"/>
          <p:cNvSpPr/>
          <p:nvPr/>
        </p:nvSpPr>
        <p:spPr>
          <a:xfrm>
            <a:off x="6324480" y="380880"/>
            <a:ext cx="1067040" cy="1987560"/>
          </a:xfrm>
          <a:custGeom>
            <a:avLst/>
            <a:gdLst/>
            <a:ahLst/>
            <a:rect l="l" t="t" r="r" b="b"/>
            <a:pathLst>
              <a:path fill="none" w="21600" h="42324">
                <a:moveTo>
                  <a:pt x="4980" y="0"/>
                </a:moveTo>
                <a:cubicBezTo>
                  <a:pt x="14721" y="2308"/>
                  <a:pt x="21600" y="11007"/>
                  <a:pt x="21600" y="21018"/>
                </a:cubicBezTo>
                <a:cubicBezTo>
                  <a:pt x="21600" y="31576"/>
                  <a:pt x="13966" y="40587"/>
                  <a:pt x="3551" y="42323"/>
                </a:cubicBezTo>
              </a:path>
              <a:path stroke="0" w="21600" h="42324">
                <a:moveTo>
                  <a:pt x="4980" y="0"/>
                </a:moveTo>
                <a:cubicBezTo>
                  <a:pt x="14721" y="2308"/>
                  <a:pt x="21600" y="11007"/>
                  <a:pt x="21600" y="21018"/>
                </a:cubicBezTo>
                <a:cubicBezTo>
                  <a:pt x="21600" y="31576"/>
                  <a:pt x="13966" y="40587"/>
                  <a:pt x="3551" y="42323"/>
                </a:cubicBezTo>
                <a:lnTo>
                  <a:pt x="0" y="21018"/>
                </a:lnTo>
                <a:lnTo>
                  <a:pt x="498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rc 14"/>
          <p:cNvSpPr/>
          <p:nvPr/>
        </p:nvSpPr>
        <p:spPr>
          <a:xfrm>
            <a:off x="2819520" y="3809880"/>
            <a:ext cx="761760" cy="1436760"/>
          </a:xfrm>
          <a:custGeom>
            <a:avLst/>
            <a:gdLst/>
            <a:ahLst/>
            <a:rect l="l" t="t" r="r" b="b"/>
            <a:pathLst>
              <a:path fill="none" w="21600" h="41863">
                <a:moveTo>
                  <a:pt x="5507" y="0"/>
                </a:moveTo>
                <a:cubicBezTo>
                  <a:pt x="14991" y="2501"/>
                  <a:pt x="21600" y="11077"/>
                  <a:pt x="21600" y="20886"/>
                </a:cubicBezTo>
                <a:cubicBezTo>
                  <a:pt x="21600" y="30831"/>
                  <a:pt x="14809" y="39491"/>
                  <a:pt x="5150" y="41862"/>
                </a:cubicBezTo>
              </a:path>
              <a:path stroke="0" w="21600" h="41863">
                <a:moveTo>
                  <a:pt x="5507" y="0"/>
                </a:moveTo>
                <a:cubicBezTo>
                  <a:pt x="14991" y="2501"/>
                  <a:pt x="21600" y="11077"/>
                  <a:pt x="21600" y="20886"/>
                </a:cubicBezTo>
                <a:cubicBezTo>
                  <a:pt x="21600" y="30831"/>
                  <a:pt x="14809" y="39491"/>
                  <a:pt x="5150" y="41862"/>
                </a:cubicBezTo>
                <a:lnTo>
                  <a:pt x="0" y="20886"/>
                </a:lnTo>
                <a:lnTo>
                  <a:pt x="5507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rc 15"/>
          <p:cNvSpPr/>
          <p:nvPr/>
        </p:nvSpPr>
        <p:spPr>
          <a:xfrm>
            <a:off x="3733920" y="3657600"/>
            <a:ext cx="1066680" cy="1523880"/>
          </a:xfrm>
          <a:custGeom>
            <a:avLst/>
            <a:gdLst/>
            <a:ahLst/>
            <a:rect l="l" t="t" r="r" b="b"/>
            <a:pathLst>
              <a:path fill="none" w="21600" h="40433">
                <a:moveTo>
                  <a:pt x="7519" y="-1"/>
                </a:moveTo>
                <a:cubicBezTo>
                  <a:pt x="15983" y="3143"/>
                  <a:pt x="21600" y="11219"/>
                  <a:pt x="21600" y="20249"/>
                </a:cubicBezTo>
                <a:cubicBezTo>
                  <a:pt x="21600" y="29211"/>
                  <a:pt x="16065" y="37242"/>
                  <a:pt x="7691" y="40433"/>
                </a:cubicBezTo>
              </a:path>
              <a:path stroke="0" w="21600" h="40433">
                <a:moveTo>
                  <a:pt x="7519" y="-1"/>
                </a:moveTo>
                <a:cubicBezTo>
                  <a:pt x="15983" y="3143"/>
                  <a:pt x="21600" y="11219"/>
                  <a:pt x="21600" y="20249"/>
                </a:cubicBezTo>
                <a:cubicBezTo>
                  <a:pt x="21600" y="29211"/>
                  <a:pt x="16065" y="37242"/>
                  <a:pt x="7691" y="40433"/>
                </a:cubicBezTo>
                <a:lnTo>
                  <a:pt x="0" y="20249"/>
                </a:lnTo>
                <a:lnTo>
                  <a:pt x="7519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rc 16"/>
          <p:cNvSpPr/>
          <p:nvPr/>
        </p:nvSpPr>
        <p:spPr>
          <a:xfrm>
            <a:off x="5029200" y="3429000"/>
            <a:ext cx="990720" cy="1782720"/>
          </a:xfrm>
          <a:custGeom>
            <a:avLst/>
            <a:gdLst/>
            <a:ahLst/>
            <a:rect l="l" t="t" r="r" b="b"/>
            <a:pathLst>
              <a:path fill="none" w="21600" h="42143">
                <a:moveTo>
                  <a:pt x="4898" y="-1"/>
                </a:moveTo>
                <a:cubicBezTo>
                  <a:pt x="14678" y="2276"/>
                  <a:pt x="21600" y="10994"/>
                  <a:pt x="21600" y="21037"/>
                </a:cubicBezTo>
                <a:cubicBezTo>
                  <a:pt x="21600" y="31196"/>
                  <a:pt x="14520" y="39982"/>
                  <a:pt x="4593" y="42142"/>
                </a:cubicBezTo>
              </a:path>
              <a:path stroke="0" w="21600" h="42143">
                <a:moveTo>
                  <a:pt x="4898" y="-1"/>
                </a:moveTo>
                <a:cubicBezTo>
                  <a:pt x="14678" y="2276"/>
                  <a:pt x="21600" y="10994"/>
                  <a:pt x="21600" y="21037"/>
                </a:cubicBezTo>
                <a:cubicBezTo>
                  <a:pt x="21600" y="31196"/>
                  <a:pt x="14520" y="39982"/>
                  <a:pt x="4593" y="42142"/>
                </a:cubicBezTo>
                <a:lnTo>
                  <a:pt x="0" y="21037"/>
                </a:lnTo>
                <a:lnTo>
                  <a:pt x="4898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17"/>
          <p:cNvSpPr/>
          <p:nvPr/>
        </p:nvSpPr>
        <p:spPr>
          <a:xfrm>
            <a:off x="6324480" y="3352680"/>
            <a:ext cx="1067040" cy="1987560"/>
          </a:xfrm>
          <a:custGeom>
            <a:avLst/>
            <a:gdLst/>
            <a:ahLst/>
            <a:rect l="l" t="t" r="r" b="b"/>
            <a:pathLst>
              <a:path fill="none" w="21600" h="42324">
                <a:moveTo>
                  <a:pt x="4980" y="0"/>
                </a:moveTo>
                <a:cubicBezTo>
                  <a:pt x="14721" y="2308"/>
                  <a:pt x="21600" y="11007"/>
                  <a:pt x="21600" y="21018"/>
                </a:cubicBezTo>
                <a:cubicBezTo>
                  <a:pt x="21600" y="31576"/>
                  <a:pt x="13966" y="40587"/>
                  <a:pt x="3551" y="42323"/>
                </a:cubicBezTo>
              </a:path>
              <a:path stroke="0" w="21600" h="42324">
                <a:moveTo>
                  <a:pt x="4980" y="0"/>
                </a:moveTo>
                <a:cubicBezTo>
                  <a:pt x="14721" y="2308"/>
                  <a:pt x="21600" y="11007"/>
                  <a:pt x="21600" y="21018"/>
                </a:cubicBezTo>
                <a:cubicBezTo>
                  <a:pt x="21600" y="31576"/>
                  <a:pt x="13966" y="40587"/>
                  <a:pt x="3551" y="42323"/>
                </a:cubicBezTo>
                <a:lnTo>
                  <a:pt x="0" y="21018"/>
                </a:lnTo>
                <a:lnTo>
                  <a:pt x="498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rc 18"/>
          <p:cNvSpPr/>
          <p:nvPr/>
        </p:nvSpPr>
        <p:spPr>
          <a:xfrm flipH="1">
            <a:off x="6705720" y="4876920"/>
            <a:ext cx="761760" cy="1454040"/>
          </a:xfrm>
          <a:custGeom>
            <a:avLst/>
            <a:gdLst/>
            <a:ahLst/>
            <a:rect l="l" t="t" r="r" b="b"/>
            <a:pathLst>
              <a:path fill="none" w="21600" h="42352">
                <a:moveTo>
                  <a:pt x="4409" y="-1"/>
                </a:moveTo>
                <a:cubicBezTo>
                  <a:pt x="14423" y="2087"/>
                  <a:pt x="21600" y="10914"/>
                  <a:pt x="21600" y="21145"/>
                </a:cubicBezTo>
                <a:cubicBezTo>
                  <a:pt x="21600" y="31491"/>
                  <a:pt x="14262" y="40385"/>
                  <a:pt x="4103" y="42351"/>
                </a:cubicBezTo>
              </a:path>
              <a:path stroke="0" w="21600" h="42352">
                <a:moveTo>
                  <a:pt x="4409" y="-1"/>
                </a:moveTo>
                <a:cubicBezTo>
                  <a:pt x="14423" y="2087"/>
                  <a:pt x="21600" y="10914"/>
                  <a:pt x="21600" y="21145"/>
                </a:cubicBezTo>
                <a:cubicBezTo>
                  <a:pt x="21600" y="31491"/>
                  <a:pt x="14262" y="40385"/>
                  <a:pt x="4103" y="42351"/>
                </a:cubicBezTo>
                <a:lnTo>
                  <a:pt x="0" y="21145"/>
                </a:lnTo>
                <a:lnTo>
                  <a:pt x="4409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19"/>
          <p:cNvSpPr/>
          <p:nvPr/>
        </p:nvSpPr>
        <p:spPr>
          <a:xfrm flipH="1">
            <a:off x="6780960" y="1676520"/>
            <a:ext cx="762120" cy="1455480"/>
          </a:xfrm>
          <a:custGeom>
            <a:avLst/>
            <a:gdLst/>
            <a:ahLst/>
            <a:rect l="l" t="t" r="r" b="b"/>
            <a:pathLst>
              <a:path fill="none" w="21600" h="42419">
                <a:moveTo>
                  <a:pt x="5013" y="-1"/>
                </a:moveTo>
                <a:cubicBezTo>
                  <a:pt x="14738" y="2320"/>
                  <a:pt x="21600" y="11011"/>
                  <a:pt x="21600" y="21010"/>
                </a:cubicBezTo>
                <a:cubicBezTo>
                  <a:pt x="21600" y="31832"/>
                  <a:pt x="13590" y="40984"/>
                  <a:pt x="2864" y="42419"/>
                </a:cubicBezTo>
              </a:path>
              <a:path stroke="0" w="21600" h="42419">
                <a:moveTo>
                  <a:pt x="5013" y="-1"/>
                </a:moveTo>
                <a:cubicBezTo>
                  <a:pt x="14738" y="2320"/>
                  <a:pt x="21600" y="11011"/>
                  <a:pt x="21600" y="21010"/>
                </a:cubicBezTo>
                <a:cubicBezTo>
                  <a:pt x="21600" y="31832"/>
                  <a:pt x="13590" y="40984"/>
                  <a:pt x="2864" y="42419"/>
                </a:cubicBezTo>
                <a:lnTo>
                  <a:pt x="0" y="21010"/>
                </a:lnTo>
                <a:lnTo>
                  <a:pt x="5013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rc 20"/>
          <p:cNvSpPr/>
          <p:nvPr/>
        </p:nvSpPr>
        <p:spPr>
          <a:xfrm flipH="1">
            <a:off x="5257080" y="4800600"/>
            <a:ext cx="1143000" cy="1523880"/>
          </a:xfrm>
          <a:custGeom>
            <a:avLst/>
            <a:gdLst/>
            <a:ahLst/>
            <a:rect l="l" t="t" r="r" b="b"/>
            <a:pathLst>
              <a:path fill="none" w="21600" h="40433">
                <a:moveTo>
                  <a:pt x="7519" y="-1"/>
                </a:moveTo>
                <a:cubicBezTo>
                  <a:pt x="15983" y="3143"/>
                  <a:pt x="21600" y="11219"/>
                  <a:pt x="21600" y="20249"/>
                </a:cubicBezTo>
                <a:cubicBezTo>
                  <a:pt x="21600" y="29211"/>
                  <a:pt x="16065" y="37242"/>
                  <a:pt x="7691" y="40433"/>
                </a:cubicBezTo>
              </a:path>
              <a:path stroke="0" w="21600" h="40433">
                <a:moveTo>
                  <a:pt x="7519" y="-1"/>
                </a:moveTo>
                <a:cubicBezTo>
                  <a:pt x="15983" y="3143"/>
                  <a:pt x="21600" y="11219"/>
                  <a:pt x="21600" y="20249"/>
                </a:cubicBezTo>
                <a:cubicBezTo>
                  <a:pt x="21600" y="29211"/>
                  <a:pt x="16065" y="37242"/>
                  <a:pt x="7691" y="40433"/>
                </a:cubicBezTo>
                <a:lnTo>
                  <a:pt x="0" y="20249"/>
                </a:lnTo>
                <a:lnTo>
                  <a:pt x="7519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rc 21"/>
          <p:cNvSpPr/>
          <p:nvPr/>
        </p:nvSpPr>
        <p:spPr>
          <a:xfrm flipH="1">
            <a:off x="5333400" y="1676520"/>
            <a:ext cx="1143000" cy="1523880"/>
          </a:xfrm>
          <a:custGeom>
            <a:avLst/>
            <a:gdLst/>
            <a:ahLst/>
            <a:rect l="l" t="t" r="r" b="b"/>
            <a:pathLst>
              <a:path fill="none" w="21600" h="40433">
                <a:moveTo>
                  <a:pt x="7519" y="-1"/>
                </a:moveTo>
                <a:cubicBezTo>
                  <a:pt x="15983" y="3143"/>
                  <a:pt x="21600" y="11219"/>
                  <a:pt x="21600" y="20249"/>
                </a:cubicBezTo>
                <a:cubicBezTo>
                  <a:pt x="21600" y="29211"/>
                  <a:pt x="16065" y="37242"/>
                  <a:pt x="7691" y="40433"/>
                </a:cubicBezTo>
              </a:path>
              <a:path stroke="0" w="21600" h="40433">
                <a:moveTo>
                  <a:pt x="7519" y="-1"/>
                </a:moveTo>
                <a:cubicBezTo>
                  <a:pt x="15983" y="3143"/>
                  <a:pt x="21600" y="11219"/>
                  <a:pt x="21600" y="20249"/>
                </a:cubicBezTo>
                <a:cubicBezTo>
                  <a:pt x="21600" y="29211"/>
                  <a:pt x="16065" y="37242"/>
                  <a:pt x="7691" y="40433"/>
                </a:cubicBezTo>
                <a:lnTo>
                  <a:pt x="0" y="20249"/>
                </a:lnTo>
                <a:lnTo>
                  <a:pt x="7519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c 22"/>
          <p:cNvSpPr/>
          <p:nvPr/>
        </p:nvSpPr>
        <p:spPr>
          <a:xfrm flipH="1">
            <a:off x="4037760" y="4648320"/>
            <a:ext cx="1143000" cy="1782720"/>
          </a:xfrm>
          <a:custGeom>
            <a:avLst/>
            <a:gdLst/>
            <a:ahLst/>
            <a:rect l="l" t="t" r="r" b="b"/>
            <a:pathLst>
              <a:path fill="none" w="21600" h="42143">
                <a:moveTo>
                  <a:pt x="4898" y="-1"/>
                </a:moveTo>
                <a:cubicBezTo>
                  <a:pt x="14678" y="2276"/>
                  <a:pt x="21600" y="10994"/>
                  <a:pt x="21600" y="21037"/>
                </a:cubicBezTo>
                <a:cubicBezTo>
                  <a:pt x="21600" y="31196"/>
                  <a:pt x="14520" y="39982"/>
                  <a:pt x="4593" y="42142"/>
                </a:cubicBezTo>
              </a:path>
              <a:path stroke="0" w="21600" h="42143">
                <a:moveTo>
                  <a:pt x="4898" y="-1"/>
                </a:moveTo>
                <a:cubicBezTo>
                  <a:pt x="14678" y="2276"/>
                  <a:pt x="21600" y="10994"/>
                  <a:pt x="21600" y="21037"/>
                </a:cubicBezTo>
                <a:cubicBezTo>
                  <a:pt x="21600" y="31196"/>
                  <a:pt x="14520" y="39982"/>
                  <a:pt x="4593" y="42142"/>
                </a:cubicBezTo>
                <a:lnTo>
                  <a:pt x="0" y="21037"/>
                </a:lnTo>
                <a:lnTo>
                  <a:pt x="4898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23"/>
          <p:cNvSpPr/>
          <p:nvPr/>
        </p:nvSpPr>
        <p:spPr>
          <a:xfrm flipH="1">
            <a:off x="4114080" y="1447920"/>
            <a:ext cx="1143000" cy="1782720"/>
          </a:xfrm>
          <a:custGeom>
            <a:avLst/>
            <a:gdLst/>
            <a:ahLst/>
            <a:rect l="l" t="t" r="r" b="b"/>
            <a:pathLst>
              <a:path fill="none" w="21600" h="42143">
                <a:moveTo>
                  <a:pt x="4898" y="-1"/>
                </a:moveTo>
                <a:cubicBezTo>
                  <a:pt x="14678" y="2276"/>
                  <a:pt x="21600" y="10994"/>
                  <a:pt x="21600" y="21037"/>
                </a:cubicBezTo>
                <a:cubicBezTo>
                  <a:pt x="21600" y="31196"/>
                  <a:pt x="14520" y="39982"/>
                  <a:pt x="4593" y="42142"/>
                </a:cubicBezTo>
              </a:path>
              <a:path stroke="0" w="21600" h="42143">
                <a:moveTo>
                  <a:pt x="4898" y="-1"/>
                </a:moveTo>
                <a:cubicBezTo>
                  <a:pt x="14678" y="2276"/>
                  <a:pt x="21600" y="10994"/>
                  <a:pt x="21600" y="21037"/>
                </a:cubicBezTo>
                <a:cubicBezTo>
                  <a:pt x="21600" y="31196"/>
                  <a:pt x="14520" y="39982"/>
                  <a:pt x="4593" y="42142"/>
                </a:cubicBezTo>
                <a:lnTo>
                  <a:pt x="0" y="21037"/>
                </a:lnTo>
                <a:lnTo>
                  <a:pt x="4898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24"/>
          <p:cNvSpPr/>
          <p:nvPr/>
        </p:nvSpPr>
        <p:spPr>
          <a:xfrm flipH="1">
            <a:off x="2894760" y="4648320"/>
            <a:ext cx="1295640" cy="1987560"/>
          </a:xfrm>
          <a:custGeom>
            <a:avLst/>
            <a:gdLst/>
            <a:ahLst/>
            <a:rect l="l" t="t" r="r" b="b"/>
            <a:pathLst>
              <a:path fill="none" w="21600" h="42324">
                <a:moveTo>
                  <a:pt x="4980" y="0"/>
                </a:moveTo>
                <a:cubicBezTo>
                  <a:pt x="14721" y="2308"/>
                  <a:pt x="21600" y="11007"/>
                  <a:pt x="21600" y="21018"/>
                </a:cubicBezTo>
                <a:cubicBezTo>
                  <a:pt x="21600" y="31576"/>
                  <a:pt x="13966" y="40587"/>
                  <a:pt x="3551" y="42323"/>
                </a:cubicBezTo>
              </a:path>
              <a:path stroke="0" w="21600" h="42324">
                <a:moveTo>
                  <a:pt x="4980" y="0"/>
                </a:moveTo>
                <a:cubicBezTo>
                  <a:pt x="14721" y="2308"/>
                  <a:pt x="21600" y="11007"/>
                  <a:pt x="21600" y="21018"/>
                </a:cubicBezTo>
                <a:cubicBezTo>
                  <a:pt x="21600" y="31576"/>
                  <a:pt x="13966" y="40587"/>
                  <a:pt x="3551" y="42323"/>
                </a:cubicBezTo>
                <a:lnTo>
                  <a:pt x="0" y="21018"/>
                </a:lnTo>
                <a:lnTo>
                  <a:pt x="498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5"/>
          <p:cNvSpPr/>
          <p:nvPr/>
        </p:nvSpPr>
        <p:spPr>
          <a:xfrm flipH="1">
            <a:off x="2894760" y="1523880"/>
            <a:ext cx="1295640" cy="1987560"/>
          </a:xfrm>
          <a:custGeom>
            <a:avLst/>
            <a:gdLst/>
            <a:ahLst/>
            <a:rect l="l" t="t" r="r" b="b"/>
            <a:pathLst>
              <a:path fill="none" w="21600" h="42324">
                <a:moveTo>
                  <a:pt x="4980" y="0"/>
                </a:moveTo>
                <a:cubicBezTo>
                  <a:pt x="14721" y="2308"/>
                  <a:pt x="21600" y="11007"/>
                  <a:pt x="21600" y="21018"/>
                </a:cubicBezTo>
                <a:cubicBezTo>
                  <a:pt x="21600" y="31576"/>
                  <a:pt x="13966" y="40587"/>
                  <a:pt x="3551" y="42323"/>
                </a:cubicBezTo>
              </a:path>
              <a:path stroke="0" w="21600" h="42324">
                <a:moveTo>
                  <a:pt x="4980" y="0"/>
                </a:moveTo>
                <a:cubicBezTo>
                  <a:pt x="14721" y="2308"/>
                  <a:pt x="21600" y="11007"/>
                  <a:pt x="21600" y="21018"/>
                </a:cubicBezTo>
                <a:cubicBezTo>
                  <a:pt x="21600" y="31576"/>
                  <a:pt x="13966" y="40587"/>
                  <a:pt x="3551" y="42323"/>
                </a:cubicBezTo>
                <a:lnTo>
                  <a:pt x="0" y="21018"/>
                </a:lnTo>
                <a:lnTo>
                  <a:pt x="498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3203640" y="134136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 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超         声          波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2987640" y="465300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 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无      线      电      波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rc 28"/>
          <p:cNvSpPr/>
          <p:nvPr/>
        </p:nvSpPr>
        <p:spPr>
          <a:xfrm flipH="1">
            <a:off x="1115280" y="1341360"/>
            <a:ext cx="623880" cy="2951280"/>
          </a:xfrm>
          <a:custGeom>
            <a:avLst/>
            <a:gdLst/>
            <a:ahLst/>
            <a:rect l="l" t="t" r="r" b="b"/>
            <a:pathLst>
              <a:path fill="none" w="23360" h="43200">
                <a:moveTo>
                  <a:pt x="1759" y="0"/>
                </a:moveTo>
                <a:cubicBezTo>
                  <a:pt x="13689" y="0"/>
                  <a:pt x="23360" y="9670"/>
                  <a:pt x="23360" y="21600"/>
                </a:cubicBezTo>
                <a:cubicBezTo>
                  <a:pt x="23360" y="33529"/>
                  <a:pt x="13689" y="43200"/>
                  <a:pt x="1760" y="43200"/>
                </a:cubicBezTo>
                <a:cubicBezTo>
                  <a:pt x="1172" y="43200"/>
                  <a:pt x="585" y="43176"/>
                  <a:pt x="-1" y="43128"/>
                </a:cubicBezTo>
              </a:path>
              <a:path stroke="0" w="23360" h="43200">
                <a:moveTo>
                  <a:pt x="1759" y="0"/>
                </a:moveTo>
                <a:cubicBezTo>
                  <a:pt x="13689" y="0"/>
                  <a:pt x="23360" y="9670"/>
                  <a:pt x="23360" y="21600"/>
                </a:cubicBezTo>
                <a:cubicBezTo>
                  <a:pt x="23360" y="33529"/>
                  <a:pt x="13689" y="43200"/>
                  <a:pt x="1760" y="43200"/>
                </a:cubicBezTo>
                <a:cubicBezTo>
                  <a:pt x="1172" y="43200"/>
                  <a:pt x="585" y="43176"/>
                  <a:pt x="-1" y="43128"/>
                </a:cubicBezTo>
                <a:lnTo>
                  <a:pt x="1760" y="21600"/>
                </a:lnTo>
                <a:lnTo>
                  <a:pt x="175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rc 29"/>
          <p:cNvSpPr/>
          <p:nvPr/>
        </p:nvSpPr>
        <p:spPr>
          <a:xfrm>
            <a:off x="2627280" y="2565360"/>
            <a:ext cx="360360" cy="2808360"/>
          </a:xfrm>
          <a:custGeom>
            <a:avLst/>
            <a:gdLst/>
            <a:ahLst/>
            <a:rect l="l" t="t" r="r" b="b"/>
            <a:pathLst>
              <a:path fill="none" w="26454" h="43200">
                <a:moveTo>
                  <a:pt x="0" y="552"/>
                </a:moveTo>
                <a:cubicBezTo>
                  <a:pt x="1591" y="185"/>
                  <a:pt x="3220" y="-1"/>
                  <a:pt x="4854" y="0"/>
                </a:cubicBezTo>
                <a:cubicBezTo>
                  <a:pt x="16783" y="0"/>
                  <a:pt x="26454" y="9670"/>
                  <a:pt x="26454" y="21600"/>
                </a:cubicBezTo>
                <a:cubicBezTo>
                  <a:pt x="26454" y="33529"/>
                  <a:pt x="16783" y="43200"/>
                  <a:pt x="4854" y="43200"/>
                </a:cubicBezTo>
                <a:cubicBezTo>
                  <a:pt x="4266" y="43200"/>
                  <a:pt x="3679" y="43176"/>
                  <a:pt x="3093" y="43128"/>
                </a:cubicBezTo>
              </a:path>
              <a:path stroke="0" w="26454" h="43200">
                <a:moveTo>
                  <a:pt x="0" y="552"/>
                </a:moveTo>
                <a:cubicBezTo>
                  <a:pt x="1591" y="185"/>
                  <a:pt x="3220" y="-1"/>
                  <a:pt x="4854" y="0"/>
                </a:cubicBezTo>
                <a:cubicBezTo>
                  <a:pt x="16783" y="0"/>
                  <a:pt x="26454" y="9670"/>
                  <a:pt x="26454" y="21600"/>
                </a:cubicBezTo>
                <a:cubicBezTo>
                  <a:pt x="26454" y="33529"/>
                  <a:pt x="16783" y="43200"/>
                  <a:pt x="4854" y="43200"/>
                </a:cubicBezTo>
                <a:cubicBezTo>
                  <a:pt x="4266" y="43200"/>
                  <a:pt x="3679" y="43176"/>
                  <a:pt x="3093" y="43128"/>
                </a:cubicBezTo>
                <a:lnTo>
                  <a:pt x="4854" y="21600"/>
                </a:lnTo>
                <a:lnTo>
                  <a:pt x="0" y="552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rc 30"/>
          <p:cNvSpPr/>
          <p:nvPr/>
        </p:nvSpPr>
        <p:spPr>
          <a:xfrm flipH="1">
            <a:off x="5434920" y="1916280"/>
            <a:ext cx="112680" cy="2952720"/>
          </a:xfrm>
          <a:custGeom>
            <a:avLst/>
            <a:gdLst/>
            <a:ahLst/>
            <a:rect l="l" t="t" r="r" b="b"/>
            <a:pathLst>
              <a:path fill="none" w="21600" h="2295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050"/>
                  <a:pt x="21585" y="22500"/>
                  <a:pt x="21557" y="22949"/>
                </a:cubicBezTo>
              </a:path>
              <a:path stroke="0" w="21600" h="2295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050"/>
                  <a:pt x="21585" y="22500"/>
                  <a:pt x="21557" y="2294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F7AD7CB-3E95-4E76-BE3B-FFE6CE1E641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539640" y="692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七小节，完成下列填空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924360" y="33577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11280" y="162864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             (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达的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)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当于蝙蝠的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             (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8"/>
          <p:cNvGrpSpPr/>
          <p:nvPr/>
        </p:nvGrpSpPr>
        <p:grpSpPr>
          <a:xfrm>
            <a:off x="1763640" y="2491920"/>
            <a:ext cx="506520" cy="1197000"/>
            <a:chOff x="1763640" y="2491920"/>
            <a:chExt cx="506520" cy="1197000"/>
          </a:xfrm>
        </p:grpSpPr>
        <p:sp>
          <p:nvSpPr>
            <p:cNvPr id="195" name="Line 9"/>
            <p:cNvSpPr/>
            <p:nvPr/>
          </p:nvSpPr>
          <p:spPr>
            <a:xfrm flipV="1">
              <a:off x="1763640" y="2491920"/>
              <a:ext cx="50652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0"/>
            <p:cNvSpPr/>
            <p:nvPr/>
          </p:nvSpPr>
          <p:spPr>
            <a:xfrm>
              <a:off x="1763640" y="313272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1763640" y="3132720"/>
              <a:ext cx="50652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2"/>
          <p:cNvGrpSpPr/>
          <p:nvPr/>
        </p:nvGrpSpPr>
        <p:grpSpPr>
          <a:xfrm>
            <a:off x="6372360" y="2491920"/>
            <a:ext cx="506160" cy="1197000"/>
            <a:chOff x="6372360" y="2491920"/>
            <a:chExt cx="506160" cy="1197000"/>
          </a:xfrm>
        </p:grpSpPr>
        <p:sp>
          <p:nvSpPr>
            <p:cNvPr id="199" name="Line 13"/>
            <p:cNvSpPr/>
            <p:nvPr/>
          </p:nvSpPr>
          <p:spPr>
            <a:xfrm flipV="1">
              <a:off x="6372360" y="2491920"/>
              <a:ext cx="50616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4"/>
            <p:cNvSpPr/>
            <p:nvPr/>
          </p:nvSpPr>
          <p:spPr>
            <a:xfrm>
              <a:off x="6372360" y="3132720"/>
              <a:ext cx="5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6372360" y="3132720"/>
              <a:ext cx="50616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6"/>
          <p:cNvGrpSpPr/>
          <p:nvPr/>
        </p:nvGrpSpPr>
        <p:grpSpPr>
          <a:xfrm>
            <a:off x="3686040" y="2492280"/>
            <a:ext cx="505080" cy="1152000"/>
            <a:chOff x="3686040" y="2492280"/>
            <a:chExt cx="505080" cy="1152000"/>
          </a:xfrm>
        </p:grpSpPr>
        <p:sp>
          <p:nvSpPr>
            <p:cNvPr id="203" name="Line 17"/>
            <p:cNvSpPr/>
            <p:nvPr/>
          </p:nvSpPr>
          <p:spPr>
            <a:xfrm>
              <a:off x="3686040" y="2492280"/>
              <a:ext cx="50508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3686040" y="31122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 flipV="1">
              <a:off x="3686040" y="3111840"/>
              <a:ext cx="505080" cy="53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0"/>
          <p:cNvSpPr/>
          <p:nvPr/>
        </p:nvSpPr>
        <p:spPr>
          <a:xfrm>
            <a:off x="2411280" y="1989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线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236000" y="198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嘴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2209680" y="28954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无线电波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6877080" y="290988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超声波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2268360" y="3716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荧光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702000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耳朵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611280" y="472428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说蝙蝠和雷达之间的科学联系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2AF101F-BE98-4F74-8C62-787D73E745B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539640" y="476280"/>
            <a:ext cx="777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结：科学家从蝙蝠探路的试验和研究得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启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发明了雷达，这就是蝙蝠与雷达的联系，所以课题要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连接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914400" y="26668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启示：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627280" y="254016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启发指示，使有所领悟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611280" y="3414600"/>
            <a:ext cx="77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84183"/>
                </a:solidFill>
                <a:latin typeface="Times New Roman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884183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84183"/>
                </a:solidFill>
                <a:latin typeface="Times New Roman"/>
                <a:ea typeface="楷体_GB2312"/>
              </a:rPr>
              <a:t>、查字典比较</a:t>
            </a:r>
            <a:r>
              <a:rPr b="1" lang="zh-CN" sz="2400" spc="-1" strike="noStrike">
                <a:solidFill>
                  <a:srgbClr val="884183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884183"/>
                </a:solidFill>
                <a:latin typeface="Times New Roman"/>
                <a:ea typeface="楷体_GB2312"/>
              </a:rPr>
              <a:t>试验</a:t>
            </a:r>
            <a:r>
              <a:rPr b="1" lang="zh-CN" sz="2400" spc="-1" strike="noStrike">
                <a:solidFill>
                  <a:srgbClr val="884183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884183"/>
                </a:solidFill>
                <a:latin typeface="Times New Roman"/>
                <a:ea typeface="楷体_GB2312"/>
              </a:rPr>
              <a:t>和</a:t>
            </a:r>
            <a:r>
              <a:rPr b="1" lang="zh-CN" sz="2400" spc="-1" strike="noStrike">
                <a:solidFill>
                  <a:srgbClr val="884183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884183"/>
                </a:solidFill>
                <a:latin typeface="Times New Roman"/>
                <a:ea typeface="楷体_GB2312"/>
              </a:rPr>
              <a:t>实验</a:t>
            </a:r>
            <a:r>
              <a:rPr b="1" lang="zh-CN" sz="2400" spc="-1" strike="noStrike">
                <a:solidFill>
                  <a:srgbClr val="884183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884183"/>
                </a:solidFill>
                <a:latin typeface="Times New Roman"/>
                <a:ea typeface="楷体_GB2312"/>
              </a:rPr>
              <a:t>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609480" y="4114800"/>
            <a:ext cx="820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84183"/>
                </a:solidFill>
                <a:latin typeface="Times New Roman"/>
                <a:ea typeface="楷体_GB2312"/>
              </a:rPr>
              <a:t>试验：为了查看某事的结果或某物的性能而从事某种活动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684360" y="4941720"/>
            <a:ext cx="8154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84183"/>
                </a:solidFill>
                <a:latin typeface="Times New Roman"/>
                <a:ea typeface="楷体_GB2312"/>
              </a:rPr>
              <a:t>实验：</a:t>
            </a:r>
            <a:r>
              <a:rPr b="1" lang="zh-CN" sz="2800" spc="-1" strike="noStrike">
                <a:solidFill>
                  <a:srgbClr val="884183"/>
                </a:solidFill>
                <a:latin typeface="Times New Roman"/>
                <a:ea typeface="楷体_GB2312"/>
              </a:rPr>
              <a:t>为了检验某种科学理论或假设而进行某种操作或从事某种活动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2461680" y="48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检验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2424240" y="40244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查看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DDAA7BD8-045C-4FB9-93A7-3D1ADF76009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102120" y="1295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雷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876920" y="10666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雷达是利用极短的无线电波进行探测的装置。可用来测定目标的方向、距离、大小等，在使用上不受气候条件的影响，它广泛应用于军事、天文、气象、航海、航空等方面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bianhuleida"/>
          <p:cNvPicPr/>
          <p:nvPr/>
        </p:nvPicPr>
        <p:blipFill>
          <a:blip r:embed="rId1"/>
          <a:stretch/>
        </p:blipFill>
        <p:spPr>
          <a:xfrm>
            <a:off x="304920" y="251136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57400" y="635796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371535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4E2D774-BE74-44E0-A1A5-3AC2FFE3891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back"/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684360" y="836640"/>
            <a:ext cx="7921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词填空：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验    实验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学家经过反复（    ），终于揭开了蝙蝠能在夜间飞行的秘密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识课上，老师为我们做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烧纸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），看得我们目瞪口呆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4284720" y="29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试验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971640" y="4854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实验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22A4945-C062-427E-969F-F4F792AC197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123984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344320" y="103500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宋体"/>
              </a:rPr>
              <a:t>课外延伸，拓展思维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250920" y="258912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雷达是仿照蝙蝠制造出来的，科学家还从哪些生物身上得到启示，制造了哪些现代化的设备？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E4A445A-D224-4A60-9AA1-99F1A940900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755640" y="32544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还知道哪些东西也是受到动物特点的启发而发明的？向同学作介绍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dolphin04_1024x768"/>
          <p:cNvPicPr/>
          <p:nvPr/>
        </p:nvPicPr>
        <p:blipFill>
          <a:blip r:embed="rId1"/>
          <a:stretch/>
        </p:blipFill>
        <p:spPr>
          <a:xfrm>
            <a:off x="826920" y="1839960"/>
            <a:ext cx="2297160" cy="18064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0" name="Picture 8" descr="007"/>
          <p:cNvPicPr/>
          <p:nvPr/>
        </p:nvPicPr>
        <p:blipFill>
          <a:blip r:embed="rId2"/>
          <a:stretch/>
        </p:blipFill>
        <p:spPr>
          <a:xfrm>
            <a:off x="685800" y="3809880"/>
            <a:ext cx="2309760" cy="18147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1" name="Picture 9" descr="9711f32966327e946042cebaffa22592_m"/>
          <p:cNvPicPr/>
          <p:nvPr/>
        </p:nvPicPr>
        <p:blipFill>
          <a:blip r:embed="rId3"/>
          <a:stretch/>
        </p:blipFill>
        <p:spPr>
          <a:xfrm>
            <a:off x="3348000" y="1851120"/>
            <a:ext cx="2367000" cy="17762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2" name="Picture 10" descr="04366-10"/>
          <p:cNvPicPr/>
          <p:nvPr/>
        </p:nvPicPr>
        <p:blipFill>
          <a:blip r:embed="rId4"/>
          <a:stretch/>
        </p:blipFill>
        <p:spPr>
          <a:xfrm>
            <a:off x="3348000" y="3836880"/>
            <a:ext cx="2519280" cy="18273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3" name="Picture 11" descr="20060830201009323"/>
          <p:cNvPicPr/>
          <p:nvPr/>
        </p:nvPicPr>
        <p:blipFill>
          <a:blip r:embed="rId5"/>
          <a:stretch/>
        </p:blipFill>
        <p:spPr>
          <a:xfrm>
            <a:off x="6019920" y="1762200"/>
            <a:ext cx="2819160" cy="18795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4" name="Picture 12" descr="11465480347750578"/>
          <p:cNvPicPr/>
          <p:nvPr/>
        </p:nvPicPr>
        <p:blipFill>
          <a:blip r:embed="rId6"/>
          <a:stretch/>
        </p:blipFill>
        <p:spPr>
          <a:xfrm>
            <a:off x="6172200" y="3784680"/>
            <a:ext cx="25146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05702CE-7D2B-4CF4-9DE9-51695A81C9E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61880" y="674640"/>
            <a:ext cx="818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儿会游泳：发明了潜水艇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在天空飞翔：制造了各种飞行器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蜜蜂造巢窝：各种正六边形的蜂巢结构板材。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壳：能够把受到的压力均匀地分散到蛋壳的各个部分。建筑师根据这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薄壳结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特点，设计出许多既轻便又省料的建筑物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袋鼠：会跳跃的越野汽车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贝壳：外壳坚固的坦克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90ADE13-F58F-4186-AE92-26EF0BFA94D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12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272880" y="5118120"/>
            <a:ext cx="88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幼圆"/>
              </a:rPr>
              <a:t>　　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流线型：前圆后尖，表面光滑，略像水滴的形状。具有这种形状的物体在流体中运动时所受阻力最小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267320" y="593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cc"/>
                </a:solidFill>
                <a:latin typeface="Arial"/>
                <a:ea typeface="黑体"/>
              </a:rPr>
              <a:t>鲸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D85B7F5-CB46-4311-B539-CC41B12DAE5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826920" y="98100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 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五彩的蝴蝶锦色粲然，尤其是萤光翼凤蝶，其后翅在阳光下时而金黄，时而翠绿，有时还由紫变蓝。科学家通过对蝴蝶色彩的研究，为军事防御带来了极大的益处。在二战期间，苏联昆虫学家施万维奇根据当时人们对伪装缺乏认识的情况，提出利用蝴蝶的色彩在花丛中不易被发现的道理，在军事设施上覆盖蝴蝶花纹般的伪装。因此，尽管德军费尽心机，但苏联的军事基地仍安然无恙。根据同样的原理，后来人们还生产出了迷彩服，大大减少了战斗中的伤亡。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5CF5BFF-2F13-4CD6-9E25-743DCDFB7D4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179280" y="2376360"/>
            <a:ext cx="89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ff"/>
                </a:solidFill>
                <a:latin typeface="黑体"/>
                <a:ea typeface="黑体"/>
              </a:rPr>
              <a:t>　　</a:t>
            </a:r>
            <a:r>
              <a:rPr b="0" lang="zh-CN" sz="4400" spc="-1" strike="noStrike">
                <a:solidFill>
                  <a:srgbClr val="00ccff"/>
                </a:solidFill>
                <a:latin typeface="Arial"/>
                <a:ea typeface="黑体"/>
              </a:rPr>
              <a:t>“</a:t>
            </a:r>
            <a:r>
              <a:rPr b="0" lang="zh-CN" sz="4400" spc="-1" strike="noStrike">
                <a:solidFill>
                  <a:srgbClr val="0099cc"/>
                </a:solidFill>
                <a:latin typeface="黑体"/>
                <a:ea typeface="黑体"/>
              </a:rPr>
              <a:t>生物真是人类的好老师</a:t>
            </a:r>
            <a:r>
              <a:rPr b="0" lang="zh-CN" sz="4400" spc="-1" strike="noStrike">
                <a:solidFill>
                  <a:srgbClr val="0099cc"/>
                </a:solidFill>
                <a:latin typeface="Arial"/>
                <a:ea typeface="黑体"/>
              </a:rPr>
              <a:t>”</a:t>
            </a:r>
            <a:r>
              <a:rPr b="0" lang="zh-CN" sz="4400" spc="-1" strike="noStrike">
                <a:solidFill>
                  <a:srgbClr val="0099cc"/>
                </a:solidFill>
                <a:latin typeface="黑体"/>
                <a:ea typeface="黑体"/>
              </a:rPr>
              <a:t>：人类从大自然中得到启示，有所发明创造的事例还有很多，比如前面的课文──</a:t>
            </a:r>
            <a:r>
              <a:rPr b="0" lang="en-US" sz="4400" spc="-1" strike="noStrike">
                <a:solidFill>
                  <a:srgbClr val="0099cc"/>
                </a:solidFill>
                <a:latin typeface="黑体"/>
                <a:ea typeface="黑体"/>
              </a:rPr>
              <a:t>《</a:t>
            </a:r>
            <a:r>
              <a:rPr b="0" lang="zh-CN" sz="4400" spc="-1" strike="noStrike">
                <a:solidFill>
                  <a:srgbClr val="0099cc"/>
                </a:solidFill>
                <a:latin typeface="黑体"/>
                <a:ea typeface="黑体"/>
              </a:rPr>
              <a:t>蝙蝠和雷达</a:t>
            </a:r>
            <a:r>
              <a:rPr b="0" lang="en-US" sz="4400" spc="-1" strike="noStrike">
                <a:solidFill>
                  <a:srgbClr val="0099cc"/>
                </a:solidFill>
                <a:latin typeface="黑体"/>
                <a:ea typeface="黑体"/>
              </a:rPr>
              <a:t>》</a:t>
            </a:r>
            <a:r>
              <a:rPr b="0" lang="zh-CN" sz="4400" spc="-1" strike="noStrike">
                <a:solidFill>
                  <a:srgbClr val="0099cc"/>
                </a:solidFill>
                <a:latin typeface="黑体"/>
                <a:ea typeface="黑体"/>
              </a:rPr>
              <a:t>等，大家还了解哪些事例？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09680" y="6345360"/>
            <a:ext cx="69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课件下载</a:t>
            </a:r>
            <a:r>
              <a:rPr b="0" i="1" lang="en-US" sz="1800" spc="-1" strike="noStrike" u="sng">
                <a:solidFill>
                  <a:srgbClr val="371535"/>
                </a:solidFill>
                <a:uFillTx/>
                <a:latin typeface="Arial"/>
                <a:hlinkClick r:id="rId1"/>
              </a:rPr>
              <a:t>http://www.eeppt.com/moban/kejian/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33DEDD0-88F6-4955-93A3-6BA93EEC7FA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1206"/>
          <p:cNvPicPr/>
          <p:nvPr/>
        </p:nvPicPr>
        <p:blipFill>
          <a:blip r:embed="rId1"/>
          <a:stretch/>
        </p:blipFill>
        <p:spPr>
          <a:xfrm>
            <a:off x="0" y="0"/>
            <a:ext cx="390384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3"/>
          <p:cNvSpPr/>
          <p:nvPr/>
        </p:nvSpPr>
        <p:spPr>
          <a:xfrm>
            <a:off x="3902040" y="3054600"/>
            <a:ext cx="524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　  长颈鹿与抗荷飞行服　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　超音速歼击机突然加速爬升的时候，由于惯性的作用，飞行员身体中的大量血液会从心脏流向双脚，使脑子产生缺血现象。如何解决这个问题？科学家从长颈鹿的身体构造得到启发。长颈鹿的脖子很长，脑子与心脏的距离大约是</a:t>
            </a:r>
            <a:r>
              <a:rPr b="0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米，要使血液能输送到头上，血压相对要高，大约是人体的两倍。但当长颈鹿低头喝水时，血液却没有一股脑地涌向头部。原来是裹在长颈鹿身体表面的一层厚皮起了作用。长颈鹿低头时，厚皮紧紧地箍住了血管，限制了血压，使其不能因血压突然升高而发生意外。依照长颈鹿皮原理设计的抗荷飞行服，飞行员穿上后在一定程度上起到了限制血压的作用，当飞行加速时，抗荷飞行服还能压缩空气，也能对血管产生一定的压力，就此而言比长颈鹿的厚皮更高明了一步。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148400" y="3920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长颈鹿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CBA0B8C-94E0-43E8-A569-379B6ADAB2F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12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0" y="4842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　    高山上的云杉长年累月都经受着狂风的袭击，树干的底部变得又粗又大，整个树干成了圆锥形。这种形状使云杉牢牢地挺立在山顶之上。人们模仿云杉建立的广播电视塔，即使遭到强台风的袭击，也不会有倒塌的危险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78080" y="17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71535"/>
                </a:solidFill>
                <a:latin typeface="Arial"/>
                <a:ea typeface="黑体"/>
              </a:rPr>
              <a:t>云杉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B1A17FD-19B3-44E2-BEE3-884E1BA43EF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nj-cq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"/>
          <p:cNvSpPr/>
          <p:nvPr/>
        </p:nvSpPr>
        <p:spPr>
          <a:xfrm>
            <a:off x="0" y="270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　   向植物取经　　车前草是一种很普通的小草，它的叶子是按螺旋形来排列的，这种排列方式，使每片叶子都能得到充足的阳光，有利于植物的生长。建筑师们依照车前草叶子的形状，设计建造了螺旋状排列的楼房，使每个房间都能享受到明亮、温暖的阳光，避免了普通楼房在这方面的不足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7531920" y="316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车前草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C4B4778-A545-4C9C-886A-09287BFA171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图片1"/>
          <p:cNvPicPr/>
          <p:nvPr/>
        </p:nvPicPr>
        <p:blipFill>
          <a:blip r:embed="rId1"/>
          <a:stretch/>
        </p:blipFill>
        <p:spPr>
          <a:xfrm>
            <a:off x="685800" y="304920"/>
            <a:ext cx="339876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1101"/>
          <p:cNvPicPr/>
          <p:nvPr/>
        </p:nvPicPr>
        <p:blipFill>
          <a:blip r:embed="rId2"/>
          <a:stretch/>
        </p:blipFill>
        <p:spPr>
          <a:xfrm>
            <a:off x="4876920" y="304920"/>
            <a:ext cx="3452760" cy="4545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609480" y="512136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蝙蝠和雷达之间到底有什么联系呢？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CC6E62B-6895-447C-A074-EA45E5B41C4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1209"/>
          <p:cNvPicPr/>
          <p:nvPr/>
        </p:nvPicPr>
        <p:blipFill>
          <a:blip r:embed="rId1"/>
          <a:stretch/>
        </p:blipFill>
        <p:spPr>
          <a:xfrm>
            <a:off x="0" y="0"/>
            <a:ext cx="9144000" cy="2657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0" y="2921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幼圆"/>
              </a:rPr>
              <a:t>　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响尾蛇与现代军事装备　　响尾蛇的视力几乎为零，但其鼻子上的颊窝器官具有热定位功能，即使爬虫、小兽等在夜间入睡后，凭借它们身体所发出的热能，响尾蛇都能感知并敏捷地前往捕食。科学家根据响尾蛇这一奇特功能，研制出现代夜视仪、空对空响尾蛇导弹，以及仿生红外线探测器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7093080" y="189000"/>
            <a:ext cx="242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84183"/>
                </a:solidFill>
                <a:latin typeface="Arial"/>
                <a:ea typeface="黑体"/>
              </a:rPr>
              <a:t>响尾蛇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497D44A-A73A-467D-9BBA-10CFC7487F1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177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　　建筑上的“薄壳结构”　　一个人握住一个鸡蛋使劲地捏，无论怎样用力也不能把鸡蛋捏碎。薄薄的鸡蛋壳之所以能承受这么大的压力，是因为它能够把受到的压力均匀地分散到蛋壳的各个部分。建筑师根据这种“薄壳结构”特点，设计出了许多既轻便又省料的建筑物。人民大会堂、北京火车站以及其他很多著名建筑，屋顶都采用了这种“薄壳结构”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7656480" y="33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鸡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7153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7153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71535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71535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71535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71535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71535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71535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71535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71535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71535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71535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7153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71535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71535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C11A242-845D-4B2C-84FE-4DD0D3E039A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685800" y="22096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28600" y="114300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边读边想：课文主要写了什么内容？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67A7586-56AC-4E61-873A-CE404F6FCEA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图片11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616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24784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619280" y="1700280"/>
            <a:ext cx="777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biān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　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f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ú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　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b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ǔ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　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é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蝙　　蝠　　捕　　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wén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　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b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ì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　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ruì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　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dāng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蚊　　避　    锐　    铛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yíng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　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ji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ē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　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ài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　　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yíng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蝇　　揭　    碍　　 荧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332000" y="105264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Arial"/>
                <a:ea typeface="宋体"/>
              </a:rPr>
              <a:t>生字学习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2616EF1-0012-44FE-9D53-9D2D18EE978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457200" y="1447920"/>
            <a:ext cx="86868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蝙蝠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清朗   捕捉    飞蛾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超声波   避开   敏锐    铃铛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苍蝇     揭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反射    障碍物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荧光屏   横七竖八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22411CD-D14E-406E-908D-793DBE2D938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5640" y="463680"/>
            <a:ext cx="53787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课文主要讲了一件什么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课文主要讲科学家通过反复试验，揭开了蝙蝠能在夜间飞行的原因，并从中受到启发，给飞机装上了雷达，解决了飞机在夜间飞行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46836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96CF4E2-0980-455C-9AAD-68E15652D74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0" y="7365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第</a:t>
            </a:r>
            <a:r>
              <a:rPr b="0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然段。思考：这一自然段主要讲的是什么？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cc0099"/>
                </a:solidFill>
                <a:latin typeface="黑体"/>
                <a:ea typeface="黑体"/>
              </a:rPr>
              <a:t>描述一架飞机在夜航。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机为什么能在夜里安全飞行？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是因为人们从蝙蝠身上得到了启示。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5:40:20Z</dcterms:modified>
  <cp:revision>1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