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B61-8175-4577-83AC-2C0DFA40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ABB-2EC1-4268-93BD-4856D42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6FA-E47C-4E8F-A96B-E44DF09D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338-F8AF-4447-B1A9-167DF5C5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BE9-36A8-4CB2-A21A-CC6CE797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8CC-BBAE-4E87-A91F-729D6B1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E19-D1F6-41D0-8B2F-B034402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F40-1D5D-484E-9520-A39D25BD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1D9-473B-4A17-80E4-ED409F6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0BB-C675-4875-886F-74095E0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71A-A0C0-48B8-826E-876366A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82B-80BB-4452-B9B6-2258F90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A16-66AF-43CA-BEE8-0439FF311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q007"/>
          <p:cNvPicPr/>
          <p:nvPr/>
        </p:nvPicPr>
        <p:blipFill>
          <a:blip r:embed="rId1"/>
          <a:stretch/>
        </p:blipFill>
        <p:spPr>
          <a:xfrm>
            <a:off x="304920" y="484200"/>
            <a:ext cx="8686800" cy="5788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智子疑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7993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宋有富人，天雨墙坏。其子曰：“不筑，必将有盗。”其邻人之父亦云。暮而果大亡其财，其家甚智其子，而疑邻人之父。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3200400" y="609480"/>
            <a:ext cx="182880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理智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3809880" y="25909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VS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3276720" y="3886200"/>
            <a:ext cx="1828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情感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447920" y="1676520"/>
            <a:ext cx="1600200" cy="312408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5334120" y="1676520"/>
            <a:ext cx="1828800" cy="31240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848720" y="457200"/>
            <a:ext cx="54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7470720" y="5335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须用理智去支配情感，免得情感越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x32"/>
          <p:cNvPicPr/>
          <p:nvPr/>
        </p:nvPicPr>
        <p:blipFill>
          <a:blip r:embed="rId1"/>
          <a:stretch/>
        </p:blipFill>
        <p:spPr>
          <a:xfrm>
            <a:off x="380880" y="536400"/>
            <a:ext cx="8534520" cy="5681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533520" y="457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作业之一、这么短的一篇文章，试一下你要用多少时间去完成背诵！这是最基本的作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作业之二、今后的学习生活中，你能用理智去支配自己的情感吗？你将如何对待正确的意见？你又如何正确对待别人的意见或建议？这是要求你天天都得完成的作业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作业之三、假如你就是被那个宋人怀疑的邻人，你该如何呢？试着写一篇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字左右的短文，描述一下你的内心世界吧。明天能交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4800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作业之四、有兴趣去阅读一下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韩非子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或其他春秋战国时期的作品吗？读后说说你的收获如何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9731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情亲疏和对事物的认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湖南考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时事挖掘：前不久曾有这样一起案例，一位音乐教授在一次歌曲大赛中任评委。在初赛中，他给一位选手打了最高分，而在复赛中，却给了最低分，最终此选手与冠军头衔擦肩而过。究其原因，原来这位教授在初赛后发现这名选手是自己“死对头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位音乐教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学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相关链接：在现实生活中我们时常可以看到一些“情人眼里出西施，陌路之中成东施”的例子。另外，一些家长对自家小孩同他家小孩双重对待的现象也屡见不鲜。还有“靠亲戚开后门”，“靠熟人走捷径”的套路也不是屈指可数的。人与人如此，国家之间也如此。像美国对外就施行双重标准，对亲密的国家与对疏远、敌对国家采取截然不同的态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专家评论：以上所述皆为凭感情亲疏来引导个人认知的事例。归根到底，这是一种“单眼看世界”的表现。也就是从自身利益出发，从自身的角度来认识和解决问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人的认识因人而异，客观上受当时社会条件制约，主观上与一个人的立场、人生观、知识水平有着直接的关系。由感情亲疏来决定事物的认知其实质也是一种片面的唯心主义，没有客观地全面地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468360" y="620640"/>
            <a:ext cx="799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认知事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所以，只有端正自身的立场，树立正确的人生观、价值观、世界观，全面地认知才能摆脱“感情”的囚笼，实现理性的飞跃，才能真正“用双眼看世界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即时评说：用双眼看世界不仅是一种科学的认知方法，也是一种正确的处世原则。古有“包青天”刚正不阿一视同仁，今有众多的医务人员视人民的利益如自身利益，舍生忘死、夙兴夜寐地战斗在“抗非”一线。我们伟大的祖国在沉睡后振兴，用平等互利的原则对外开放，用非歧视原则与各国友好贸易，以无敌国外交享誉世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压轴发表：让我们用双眼看世界，冲破“感情”的桎梏，你会发现人生原来可以如此开阔美好，世界原来可以如此精彩美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让我们用双眼看世界，打破“感情亲疏”的标准线，未来的星光大道，定将畅通无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x4"/>
          <p:cNvPicPr/>
          <p:nvPr/>
        </p:nvPicPr>
        <p:blipFill>
          <a:blip r:embed="rId1"/>
          <a:stretch/>
        </p:blipFill>
        <p:spPr>
          <a:xfrm>
            <a:off x="533520" y="152280"/>
            <a:ext cx="8348400" cy="6248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762120" y="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                               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无题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，阳光只有一种颜色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题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，阳光只有一种颜色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不论你喜欢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赤橙黄绿青蓝紫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当然情感无罪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但它好像变色墨镜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把整个世界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染得非喜即悲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把所有面孔扭曲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给你看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于是无知的你伸出指头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“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这个丑，那个美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别总给理智放假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感情像雾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当心它遮住了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真理的彼岸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感情像月光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要知道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它剽窃不了太阳的光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　　不是说感情总在欺骗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只是它总有失真的一面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时常擦拭你的双眼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别让理智离开身边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拉开窗帘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你是否看得清暗礁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如果是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那么撑起帆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9900"/>
                </a:solidFill>
                <a:latin typeface="Times New Roman"/>
              </a:rPr>
              <a:t>起风了，你看那是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26920" y="522936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亲爱的同学们，你能从中找出一些关键的词语或句子来表述刚才的感悟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14400" y="838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934320" y="914400"/>
            <a:ext cx="54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908840" y="914400"/>
            <a:ext cx="549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24080" cy="36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419640" y="260280"/>
            <a:ext cx="52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非：约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战国末期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法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代表人家。出身韩国贵族，与李斯同是荀况的学生。他认为历史是向前发展的，应按照现实进行政治改革，不能遵循古代传统。主张建立君主专制中央集权的封建国家，国家必须制订严密的法令，君臣必须依据法令进行治理。韩非这些思想和主张为秦始皇所采纳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秦国任客卿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秦统一六国，建立专制主义中央集权的国家起了重大作用。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不久便被他的同学李斯等人谗言所陷，下狱后被迫自杀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著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非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书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笔锋犀利，说理透辟，常用寓言故事阐明事理，富有说服力。其中许多寓言故事流传于世，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智子疑邻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就是其中的一篇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3"/>
          <p:cNvSpPr txBox="1"/>
          <p:nvPr/>
        </p:nvSpPr>
        <p:spPr>
          <a:xfrm>
            <a:off x="3276720" y="3049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介绍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04920" y="11844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韩非（约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80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3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，战国末期韩国人，著名思想家。他出身贵族，屡次上书韩王进谏，改革政治，实行富国强兵的政策，都未被采纳。后来，他得到秦始皇的赏识，在秦国任客卿。不久便被他的同学李斯等人谗言所陷，下狱后被迫自杀，死时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7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岁。他著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韩非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书，共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卷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篇。笔锋犀利，说理透辟，常用寓言故事阐明事理，富有说服力。其中许多寓言故事流传于世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智子疑邻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就是其中的一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457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、解释一下红色字的意思如何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5800" y="990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智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子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疑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36232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1337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为聪明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，怀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562720" y="990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天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雨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墙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9343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下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62120" y="1905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子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133720" y="2133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他的，指代那个宋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410080" y="1981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其邻人之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亦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24852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老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，也，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838080" y="2971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暮而果大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亡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其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3124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丢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请你复述一下全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宋人家被盗的事出有因吗？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（用原文语句回答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32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宋有富人，天雨墙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在宋人家被盗前，可有人向他提出有关建议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38280" y="2133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其子；       其邻人之父亦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4000" y="386064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自主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回答问题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被盗后，宋人对两人有何不同的态度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0040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智其子而疑其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33520" y="4267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95280" y="28526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自主回答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、你认为“不筑，必将有盗”这个建议正确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indexdown"/>
          <p:cNvPicPr/>
          <p:nvPr/>
        </p:nvPicPr>
        <p:blipFill>
          <a:blip r:embed="rId1"/>
          <a:stretch/>
        </p:blipFill>
        <p:spPr>
          <a:xfrm>
            <a:off x="343080" y="45720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3352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合作回答问题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宋人为何对两个提出相同建议的人产生不同的态度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9072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宋人与儿子的关系自然比与他邻居的关系要亲近。既然要相信儿子不是盗贼，那么邻居必定是盗贼了，因为邻居提出了一个与其儿子一样的建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0948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探究回答问题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一篇寓言往往用假托的故事寄寓意味深长的道理，从而给人以丰富的启示。那么本篇寓言要告诉我们什么道理呢（或者说，读罢本文，你有何感受）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932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可以感情的亲疏来对人或事作主观上的判断，而且这样的判断往往也是错误的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19320" y="5181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与人为善。不要凭感情无端猜疑他人，因为感情影响公正是因为有私心，如果能做到公正无私，便 不会被感情所左右而影响对事物的客观认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27008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1268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听意见只应听正确的，而不要看这意见是什么人提出，对人不能持偏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3276720"/>
            <a:ext cx="784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85800" y="4572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寓意归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031640" y="2637000"/>
            <a:ext cx="8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、感情上的亲疏远近会影响对事物认识的正误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深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805840" y="378936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判断事情应该客观、公正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不可以加入主观因素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838080" y="5335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感悟点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1268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没有真凭实据就怀疑邻家老人？凡是都要讲求证据，如果人人都像富人般，带着感情亲疏地去判断事情，那么就会有很多冤假错案了，世界也就没有什么公平与不公平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4360" y="2924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感情具有主观性，对不同的人和事物的心里感受也会有所不同。对自己的亲人或朋友总会显得关切和喜爱，对美好的事物总会有愉悦的感受；对坏人恶人总会憎恨和厌恶，对丑陋的东西总感到不愉快。感情具有两面性，感情亲疏对认识具有积极的一面，如“情人眼里出西施”，感情引发审美意识等。感情亲疏对认识又具有消极的一面，如现实中的任人惟亲，以亲疏关系判断是非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2223360"/>
            <a:ext cx="8353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高考作文题目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全国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宋国有个富人，一天大雨把他家的墙淋坏了。他儿子说：“不修好，一定会有人来偷窃。”邻居家的一位老人也这样说。晚上富人家里果然丢失了很多东西。富人觉得他儿子很聪明，而怀疑是邻居家老人偷的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以上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非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个寓言。直到今天，我们仍然可以在现实生活中听到类似的故事，但是，也常见到许多不同的甚至相反的情况。我们在认识事物和处理问题的时候，感情上的亲疏远近和对事物认知的正误深浅有没有关系呢？是什么样的关系呢？请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感情亲疏和对事物的认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这个话题写一篇文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5:33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9:25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