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CF8B-1077-41F2-B32F-F2FF87B3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5579-D0AB-4714-8313-0A6DAAC0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1A89-940C-462D-9C6D-E4C6AE412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24E5-3389-405F-BCE4-42F0154C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CA2E-1DDB-41AA-9E13-0266BED8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CF01-DDBF-48EF-9FED-CC3BCD8E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DE7E-0017-4860-BEA5-0D7F84B6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02FB-CC1F-4DF5-8082-6D2CC566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4509-CA6D-469D-9FAC-FD7EF03C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CE41-5719-41DC-80F5-977D2327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7288-7E7E-4F6A-9142-10953579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8847-AE5F-4344-8C09-2FEC8EA0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BCB9-18F7-4152-B19F-5F905E34C1E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3CCE-B020-46A6-9D67-BDF5C485592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95640" y="2133720"/>
            <a:ext cx="47257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4932360" y="655560"/>
            <a:ext cx="3454560" cy="5589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817560" y="549360"/>
            <a:ext cx="330984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580000" y="228600"/>
            <a:ext cx="2306880" cy="6605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1751040" y="228600"/>
            <a:ext cx="185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547640" y="692280"/>
            <a:ext cx="6707520" cy="58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2971800" cy="2997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4010040" y="1700280"/>
            <a:ext cx="433224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333600" y="2232000"/>
            <a:ext cx="24768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6T04:57:00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14:41:18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